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carnavalskraker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C3D-333E-4907-8878-58AB33BE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F55-5B31-4F7C-B11B-CE062C3C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4B0-459F-4FFC-8B95-DCF0769C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A80-E20D-4BDF-B1C3-E61DAD89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548-CD01-462C-9CB8-E1018134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7FE-C881-4E0E-8F07-1D495192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9DE-3038-40D4-BB61-74832FC8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807-B6A3-4104-9894-067DD7FD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ED7-149C-4B06-87FF-37F268BA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E43-F690-4DBB-B4C8-243586EB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A91-94B0-4AF6-ACF4-74187675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2EA-6320-4798-8FB8-00059A3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A92F-CE8E-4D95-A45D-E6D0535E0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rnavalskraker.wav" TargetMode="External"/><Relationship Id="rId2" Type="http://schemas.openxmlformats.org/officeDocument/2006/relationships/image" Target="../media/image10.jpeg"/><Relationship Id="rId3" Type="http://schemas.openxmlformats.org/officeDocument/2006/relationships/audio" Target="../media/carnavalskrak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W grapjes (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981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C reg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1989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Wa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997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West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4005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Waarom zijn wij zo lelijk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7964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5364000" y="1916280"/>
            <a:ext cx="1944720" cy="396072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5867280" y="2997360"/>
            <a:ext cx="11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013360"/>
            <a:ext cx="395892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j hebben een clubje opge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8800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3880" y="2286000"/>
            <a:ext cx="457200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JS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324480" y="2286000"/>
            <a:ext cx="1371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200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47920" y="3809880"/>
            <a:ext cx="6296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ndoows vo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estflutt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5867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Times New Roman"/>
              </a:rPr>
              <a:t>méé je </a:t>
            </a:r>
            <a:r>
              <a:rPr b="0" lang="nl-NL" sz="1600" spc="-1" strike="noStrike">
                <a:solidFill>
                  <a:srgbClr val="333399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333399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333399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5240" y="533412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peciaalnen utho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5320" y="2652840"/>
            <a:ext cx="3504960" cy="17974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 siharette droaj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k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entwien de nekke oemedroaj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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ier zwet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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 kolere krie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66"/>
                </a:solidFill>
                <a:latin typeface="Wingdings"/>
                <a:ea typeface="Wingdings"/>
              </a:rPr>
              <a:t></a:t>
            </a:r>
            <a:r>
              <a:rPr b="0" lang="es-ES_tradnl" sz="16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66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remdho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bbe0e3"/>
                </a:solidFill>
                <a:latin typeface="Wingdings"/>
                <a:ea typeface="Wingdings"/>
              </a:rPr>
              <a:t></a:t>
            </a:r>
            <a:r>
              <a:rPr b="0" lang="es-ES_tradnl" sz="16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 tukstje doej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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 betje zevern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3360" y="6553080"/>
          <a:ext cx="234720" cy="31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3360" y="6553080"/>
                    <a:ext cx="2347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867280" y="5638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-14760" y="4145040"/>
            <a:ext cx="3508920" cy="2386080"/>
            <a:chOff x="-14760" y="4145040"/>
            <a:chExt cx="3508920" cy="2386080"/>
          </a:xfrm>
        </p:grpSpPr>
        <p:sp>
          <p:nvSpPr>
            <p:cNvPr id="80" name=""/>
            <p:cNvSpPr/>
            <p:nvPr/>
          </p:nvSpPr>
          <p:spPr>
            <a:xfrm>
              <a:off x="369720" y="4175280"/>
              <a:ext cx="3124440" cy="234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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Wuk gon me doej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bbe0e3"/>
                  </a:solidFill>
                  <a:latin typeface="Wingdings"/>
                  <a:ea typeface="Wingdings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éé dokumenten moosh’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orno bekiek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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rtewère zoek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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 spelletje spel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Wingdings"/>
                  <a:ea typeface="Wingdings"/>
                </a:rPr>
                <a:t>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 spel ier utdoej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-14760" y="4145040"/>
              <a:ext cx="402480" cy="2386080"/>
              <a:chOff x="-14760" y="4145040"/>
              <a:chExt cx="402480" cy="2386080"/>
            </a:xfrm>
          </p:grpSpPr>
          <p:sp>
            <p:nvSpPr>
              <p:cNvPr id="82" name=""/>
              <p:cNvSpPr/>
              <p:nvPr/>
            </p:nvSpPr>
            <p:spPr>
              <a:xfrm rot="5400000">
                <a:off x="-1017000" y="5147280"/>
                <a:ext cx="2386080" cy="381240"/>
              </a:xfrm>
              <a:prstGeom prst="rect">
                <a:avLst/>
              </a:prstGeom>
              <a:gradFill rotWithShape="0">
                <a:gsLst>
                  <a:gs pos="0">
                    <a:srgbClr val="171746"/>
                  </a:gs>
                  <a:gs pos="100000">
                    <a:srgbClr val="3333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6200000">
                <a:off x="-565560" y="5571360"/>
                <a:ext cx="150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ffffff"/>
                    </a:solidFill>
                    <a:latin typeface="Arial Black"/>
                  </a:rPr>
                  <a:t>Vejsters</a:t>
                </a:r>
                <a:r>
                  <a:rPr b="0" lang="fr-BE" sz="2000" spc="-1" strike="noStrike">
                    <a:solidFill>
                      <a:srgbClr val="ffffff"/>
                    </a:solidFill>
                    <a:latin typeface="Times New Roman"/>
                  </a:rPr>
                  <a:t>200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847880" y="1782720"/>
            <a:ext cx="5162400" cy="2791800"/>
            <a:chOff x="1847880" y="1782720"/>
            <a:chExt cx="5162400" cy="2791800"/>
          </a:xfrm>
        </p:grpSpPr>
        <p:grpSp>
          <p:nvGrpSpPr>
            <p:cNvPr id="86" name=""/>
            <p:cNvGrpSpPr/>
            <p:nvPr/>
          </p:nvGrpSpPr>
          <p:grpSpPr>
            <a:xfrm>
              <a:off x="1847880" y="1782720"/>
              <a:ext cx="5162400" cy="2791800"/>
              <a:chOff x="1847880" y="1782720"/>
              <a:chExt cx="5162400" cy="2791800"/>
            </a:xfrm>
          </p:grpSpPr>
          <p:sp>
            <p:nvSpPr>
              <p:cNvPr id="87" name=""/>
              <p:cNvSpPr/>
              <p:nvPr/>
            </p:nvSpPr>
            <p:spPr>
              <a:xfrm>
                <a:off x="1847880" y="1828800"/>
                <a:ext cx="5162400" cy="2745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40186" dir="4303641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FATALEN ERR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t spel es no de kloatn zul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Nie ep START duijn; wok nie ep ‘t sherm kloppn!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1871640" y="1782720"/>
                <a:ext cx="5110200" cy="459720"/>
                <a:chOff x="1871640" y="1782720"/>
                <a:chExt cx="5110200" cy="459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1871640" y="1817640"/>
                  <a:ext cx="5110200" cy="380880"/>
                  <a:chOff x="1871640" y="1817640"/>
                  <a:chExt cx="5110200" cy="3808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1871640" y="1817640"/>
                    <a:ext cx="5110200" cy="380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71746"/>
                      </a:gs>
                      <a:gs pos="100000">
                        <a:srgbClr val="333399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905120" y="1851120"/>
                    <a:ext cx="304560" cy="304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"/>
                <p:cNvSpPr/>
                <p:nvPr/>
              </p:nvSpPr>
              <p:spPr>
                <a:xfrm>
                  <a:off x="1928520" y="17827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2400" spc="-1" strike="noStrike">
                      <a:solidFill>
                        <a:srgbClr val="000000"/>
                      </a:solidFill>
                      <a:latin typeface="Times New Roman"/>
                    </a:rPr>
                    <a:t>!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>
              <a:off x="3809160" y="4038480"/>
              <a:ext cx="109836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uurli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4876920" y="4343400"/>
          <a:ext cx="24120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434340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257800" y="54100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900080" y="1492200"/>
            <a:ext cx="5491440" cy="2777400"/>
            <a:chOff x="1900080" y="1492200"/>
            <a:chExt cx="5491440" cy="2777400"/>
          </a:xfrm>
        </p:grpSpPr>
        <p:grpSp>
          <p:nvGrpSpPr>
            <p:cNvPr id="99" name=""/>
            <p:cNvGrpSpPr/>
            <p:nvPr/>
          </p:nvGrpSpPr>
          <p:grpSpPr>
            <a:xfrm>
              <a:off x="1900080" y="1492200"/>
              <a:ext cx="5491440" cy="2777400"/>
              <a:chOff x="1900080" y="1492200"/>
              <a:chExt cx="5491440" cy="2777400"/>
            </a:xfrm>
          </p:grpSpPr>
          <p:sp>
            <p:nvSpPr>
              <p:cNvPr id="100" name=""/>
              <p:cNvSpPr/>
              <p:nvPr/>
            </p:nvSpPr>
            <p:spPr>
              <a:xfrm>
                <a:off x="1905120" y="1523880"/>
                <a:ext cx="5486400" cy="2745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Nie doen, tju toch!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T spel behent we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van voaren an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900080" y="1492200"/>
                <a:ext cx="5452560" cy="459720"/>
                <a:chOff x="1900080" y="1492200"/>
                <a:chExt cx="5452560" cy="4597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1900080" y="1527120"/>
                  <a:ext cx="5452560" cy="380880"/>
                  <a:chOff x="1900080" y="1527120"/>
                  <a:chExt cx="5452560" cy="38088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1900080" y="1527120"/>
                    <a:ext cx="5452560" cy="380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71746"/>
                      </a:gs>
                      <a:gs pos="100000">
                        <a:srgbClr val="333399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935720" y="1560600"/>
                    <a:ext cx="324720" cy="304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1959840" y="149220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2400" spc="-1" strike="noStrike">
                      <a:solidFill>
                        <a:srgbClr val="000000"/>
                      </a:solidFill>
                      <a:latin typeface="Times New Roman"/>
                    </a:rPr>
                    <a:t>!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" name=""/>
            <p:cNvSpPr/>
            <p:nvPr/>
          </p:nvSpPr>
          <p:spPr>
            <a:xfrm>
              <a:off x="1981440" y="3705120"/>
              <a:ext cx="141084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 snapn’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3520" y="3705120"/>
              <a:ext cx="374076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oakendoe ‘k snapn’t nie w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3200400" y="4010040"/>
          <a:ext cx="24120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401004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248520" y="5029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45520" y="1828800"/>
            <a:ext cx="5329080" cy="286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53966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rif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3300"/>
                </a:solidFill>
                <a:latin typeface="Arial"/>
              </a:rPr>
              <a:t>Winwoort.hex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rsie Gunst 3.elf718.j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ihenoar: Ek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le rehtn voorbe’oedn…enzovoart, je wit wel éé..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riennumméro:4711-08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54864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9200" y="274320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ndohe ho je ljieren defteh skri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70760" y="3200400"/>
            <a:ext cx="1936440" cy="1557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schrijv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e’t zin, 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 </a:t>
            </a:r>
            <a:r>
              <a:rPr b="0" lang="es-ES_tradnl" sz="2400" spc="-1" strike="noStrike">
                <a:solidFill>
                  <a:srgbClr val="bbe0e3"/>
                </a:solidFill>
                <a:latin typeface="Times New Roman"/>
              </a:rPr>
              <a:t>skrivn!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mme toch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54864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66ff"/>
                </a:solidFill>
                <a:latin typeface="Times New Roman"/>
              </a:rPr>
              <a:t>Hi kieken 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228600"/>
          <a:ext cx="24120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860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114800" y="312408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39640" y="5410080"/>
            <a:ext cx="5584680" cy="45972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é volotomoatishe spellingsverbeteri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35880" y="490680"/>
            <a:ext cx="2274840" cy="1922760"/>
            <a:chOff x="335880" y="490680"/>
            <a:chExt cx="2274840" cy="1922760"/>
          </a:xfrm>
        </p:grpSpPr>
        <p:sp>
          <p:nvSpPr>
            <p:cNvPr id="123" name=""/>
            <p:cNvSpPr/>
            <p:nvPr/>
          </p:nvSpPr>
          <p:spPr>
            <a:xfrm>
              <a:off x="335880" y="490680"/>
              <a:ext cx="2274840" cy="1922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topp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oarsdo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Wehsmitt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uste ekèh kiek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pskriev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880" y="1263600"/>
              <a:ext cx="2057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2800" y="127152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280" y="2004840"/>
              <a:ext cx="2057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201312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75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5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5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250"/>
                            </p:stCondLst>
                            <p:childTnLst>
                              <p:par>
                                <p:cTn id="11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250"/>
                            </p:stCondLst>
                            <p:childTnLst>
                              <p:par>
                                <p:cTn id="1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275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4250"/>
                            </p:stCondLst>
                            <p:childTnLst>
                              <p:par>
                                <p:cTn id="1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981080" y="2590920"/>
            <a:ext cx="5105520" cy="1800360"/>
            <a:chOff x="1981080" y="2590920"/>
            <a:chExt cx="5105520" cy="1800360"/>
          </a:xfrm>
        </p:grpSpPr>
        <p:sp>
          <p:nvSpPr>
            <p:cNvPr id="129" name=""/>
            <p:cNvSpPr/>
            <p:nvPr/>
          </p:nvSpPr>
          <p:spPr>
            <a:xfrm>
              <a:off x="1981080" y="2590920"/>
              <a:ext cx="5105520" cy="1800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Gon me e spelletje speeln?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3600" y="3705120"/>
              <a:ext cx="102816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oejn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92240" y="2612880"/>
              <a:ext cx="5052960" cy="38124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2" name=""/>
          <p:cNvGraphicFramePr/>
          <p:nvPr/>
        </p:nvGraphicFramePr>
        <p:xfrm>
          <a:off x="4876920" y="4086360"/>
          <a:ext cx="2412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086360"/>
                    <a:ext cx="2412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400800" y="5867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70680" y="533520"/>
            <a:ext cx="1843560" cy="45972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eert e k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352680" y="2286000"/>
          <a:ext cx="2743200" cy="258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286000"/>
                    <a:ext cx="27432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800600" y="3581280"/>
          <a:ext cx="241200" cy="4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358128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87560" y="518148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Eppassn voe de landminnen ee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5867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124720" y="5105520"/>
            <a:ext cx="55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Doemmekloat, ziejt nu?!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k Zehnt noh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52680" y="2286000"/>
          <a:ext cx="274320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286000"/>
                    <a:ext cx="27432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648320" y="3581280"/>
          <a:ext cx="241200" cy="4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58128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629400" y="5791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612720" y="2520"/>
            <a:ext cx="1036944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Verdana"/>
              </a:rPr>
              <a:t>WC RIGLEMENTEN VOE WESTVLAMINGEN 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Osje no 't vertrek goat, moeje op 't volgende letten: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Ist voere kart of voere neure,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Doet oltied de grendel op de deure,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Broek omleeghe, of je rok omooghe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Azo bluft de bril oltied droge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Ist voer e pisje of voe te kakken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Tis in de pot dat 't moet zakken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En ejje nie vele gin tied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Ziet daje 't papier der nie neffens smiet,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En pakjet ' t latste blatje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Peinst ook op een ander zen gatje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Hier moeje nie lezen of de tied rekken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Mor osghe vors goat an de sjas trekken,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En otter e bitje an de pot bluft plakken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Mag je grust de bustel pakken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Zieje kleiren in orde en  perfekt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Osje ut thuzetje vertrekt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Vodaje vors goat, gepist of gescheten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Je nanden waschen nie vergeten,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Oje gieder dus peist op ol die wenschen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Zieje gieder ook propere menschen!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255800">
            <a:off x="6931440" y="4076280"/>
            <a:ext cx="2276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ir Millhouse  Italic"/>
              </a:rPr>
              <a:t>FB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</a:rPr>
              <a:t>fuckbush@pandora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7080" y="5877000"/>
            <a:ext cx="201456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209680" y="1752480"/>
            <a:ext cx="4572000" cy="2471400"/>
            <a:chOff x="2209680" y="1752480"/>
            <a:chExt cx="4572000" cy="2471400"/>
          </a:xfrm>
        </p:grpSpPr>
        <p:sp>
          <p:nvSpPr>
            <p:cNvPr id="152" name=""/>
            <p:cNvSpPr/>
            <p:nvPr/>
          </p:nvSpPr>
          <p:spPr>
            <a:xfrm>
              <a:off x="2209680" y="1752480"/>
              <a:ext cx="4572000" cy="2471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Wuk weldje nu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e platje van een beroemde Porno-Sterre bekikk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1600" y="3505320"/>
              <a:ext cx="224100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eurlik, doe mo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32000" y="1787400"/>
              <a:ext cx="4498920" cy="38124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813200" y="187020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410080" y="3857760"/>
          <a:ext cx="241560" cy="40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857760"/>
                    <a:ext cx="2415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133720" y="1665360"/>
            <a:ext cx="5486400" cy="3122640"/>
            <a:chOff x="2133720" y="1665360"/>
            <a:chExt cx="5486400" cy="3122640"/>
          </a:xfrm>
        </p:grpSpPr>
        <p:sp>
          <p:nvSpPr>
            <p:cNvPr id="160" name=""/>
            <p:cNvSpPr/>
            <p:nvPr/>
          </p:nvSpPr>
          <p:spPr>
            <a:xfrm>
              <a:off x="2133720" y="1676520"/>
              <a:ext cx="5486400" cy="3111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Gotskolère! - Fatalen Err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Ek vrahe min toh af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Zi je zo roend of es ‘t geboaring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Je hod hjieltehansn epnieuw moetn behunn’n zu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7800" y="4238640"/>
              <a:ext cx="116388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oo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154240" y="1665360"/>
              <a:ext cx="5433120" cy="459720"/>
              <a:chOff x="2154240" y="1665360"/>
              <a:chExt cx="5433120" cy="45972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2154240" y="1700280"/>
                <a:ext cx="5433120" cy="380880"/>
                <a:chOff x="2154240" y="1700280"/>
                <a:chExt cx="5433120" cy="3808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154240" y="1700280"/>
                  <a:ext cx="543312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71746"/>
                    </a:gs>
                    <a:gs pos="100000">
                      <a:srgbClr val="3333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89520" y="1733760"/>
                  <a:ext cx="323640" cy="30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2212920" y="16653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2400" spc="-1" strike="noStrike"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7" name=""/>
          <p:cNvGraphicFramePr/>
          <p:nvPr/>
        </p:nvGraphicFramePr>
        <p:xfrm>
          <a:off x="5334120" y="4619520"/>
          <a:ext cx="24120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461952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019920" y="56386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23623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Times New Roman"/>
              </a:rPr>
              <a:t>Je zoe beter stoppn zeker?!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29160" y="3124080"/>
            <a:ext cx="739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Je ku neuj je spel vejleh utzett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57520" y="2666880"/>
            <a:ext cx="540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Times New Roman"/>
              </a:rPr>
              <a:t>Ja, howe – UTZETT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0" lang="es-ES_tradnl" sz="4400" spc="-1" strike="noStrike">
                <a:solidFill>
                  <a:srgbClr val="ff3300"/>
                </a:solidFill>
                <a:latin typeface="Times New Roman"/>
              </a:rPr>
              <a:t>t è hedoa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39625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Times New Roman"/>
              </a:rPr>
              <a:t>EP „Shift“ + „Pos 1“ duwn en ofwacht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4941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imes New Roman"/>
              </a:rPr>
              <a:t>Je ku wahtn toe da je noh en olve kilo weeht, t es gedoan zul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p een dag vroeg een babyaapje aan zijn moe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ama,waarom zijn wij toch zo lelijk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moeder glimlachte en z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je zou blij moeten zijn met je uiterlijk,moet je die persoon eens zien die nu deze mail aan het lezen 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2160360" cy="1552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5491080"/>
            <a:ext cx="3247920" cy="1366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78800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6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96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96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516720" y="5877000"/>
            <a:ext cx="223056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08960" y="54100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Kli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71880" y="53514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Pl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3505320"/>
            <a:ext cx="3352680" cy="1447560"/>
          </a:xfrm>
          <a:prstGeom prst="wedgeEllipseCallout">
            <a:avLst>
              <a:gd name="adj1" fmla="val 30398"/>
              <a:gd name="adj2" fmla="val 170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maai,that is a lot of water you have here,mis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5880" y="4191120"/>
            <a:ext cx="2514600" cy="1066680"/>
          </a:xfrm>
          <a:prstGeom prst="wedgeRoundRectCallout">
            <a:avLst>
              <a:gd name="adj1" fmla="val -53787"/>
              <a:gd name="adj2" fmla="val 1672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Yes,sir i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Where are you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4114800"/>
            <a:ext cx="3352680" cy="838080"/>
          </a:xfrm>
          <a:prstGeom prst="wedgeEllipseCallout">
            <a:avLst>
              <a:gd name="adj1" fmla="val 30398"/>
              <a:gd name="adj2" fmla="val 257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Zulle! I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from Belgium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5880" y="4191120"/>
            <a:ext cx="2514600" cy="1066680"/>
          </a:xfrm>
          <a:prstGeom prst="wedgeRoundRectCallout">
            <a:avLst>
              <a:gd name="adj1" fmla="val -53787"/>
              <a:gd name="adj2" fmla="val 1672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 bet you don’t have this in Belgium,s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3200400"/>
            <a:ext cx="3657600" cy="1752480"/>
          </a:xfrm>
          <a:prstGeom prst="wedgeEllipseCallout">
            <a:avLst>
              <a:gd name="adj1" fmla="val 23699"/>
              <a:gd name="adj2" fmla="val 1491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wel,you are right,WE have very good  plumbers,you kn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8-11-16T06:47:09Z</dcterms:modified>
  <cp:revision>14</cp:revision>
  <dc:subject/>
  <dc:title>Dia 1</dc:title>
</cp:coreProperties>
</file>