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09240" y="694800"/>
            <a:ext cx="4435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Click to move the slide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4A82D-BE3C-4806-84F6-4126E52E7B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13872-663F-4D1C-A432-07070D0492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24F50-DE4E-4FCC-9867-EDC2D10437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1067E-D565-42A6-AEB2-616330161C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A4EA1-DE22-4891-A127-C5E79B5495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241F1-C8C7-4050-BDB4-24068035D6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D37D6-5F3D-4BD1-88F3-20CE32787B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D96B0-A943-4232-815C-C343F4FEDB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1D10E-95CB-4266-ACD6-91BDBA315D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AAE8C-2AE2-4CDC-9DFB-09A0153468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0AAE1-BA02-4D4A-B8BC-6E98F387E1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44EF5-77D0-4D45-A1D2-3B5A4F7684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7361E-803C-4674-8B43-374ED2D50A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F1FED-613A-4B1E-8FF7-88730471B3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6E067-CF1C-48BB-BA58-397413E106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89487-B265-41CB-8CE7-06BB3B6822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531E1-7DC8-47CE-A491-A8528C1263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ECB54-1DF3-4035-9806-F411EA5E2F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817D0-05E6-4BE7-8CDA-AE11D3771B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FF8D4-8D5A-461A-88F9-B19210778E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701142-503C-44BD-B64A-9081A7C7B7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Red teaming – used for the first time by US government for testing its systems early 90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Black &amp; white hat terminology comes from the Hollywood movies where good guys wear white hats and bad guys wear black h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8AEF6-BBE3-4412-B93D-31B992AF8C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586-920F-42D0-81F6-5D54A23E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82281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81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DDF-99A1-460E-9214-1DE97EE2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2220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9F7-C6D5-4672-B20E-A626D221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3656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3656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2220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22200"/>
            <a:ext cx="26492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542-D31B-4D6F-8018-7AD336B5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6560"/>
            <a:ext cx="82281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CA8-DAC3-442B-ABE2-3CCD8E9D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82281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718-2989-4BC2-9171-C917E4F2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40150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36560"/>
            <a:ext cx="40150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575-8755-4CB9-ABF9-BDF5B87A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EFC-FC18-4929-905E-1384A72D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22080"/>
            <a:ext cx="82281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5E0-B733-422D-AEAA-1060CB6D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36560"/>
            <a:ext cx="40150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A16-1845-4365-A8FC-D18DB93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40150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2220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3DE-3142-4771-A48E-F3110014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36560"/>
            <a:ext cx="40150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81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B76-256C-4DAF-9005-4D1C7A2C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6261120"/>
            <a:ext cx="9144000" cy="596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6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Click to edit the title text format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36560"/>
            <a:ext cx="82281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8000"/>
          </a:bodyPr>
          <a:p>
            <a:pPr marL="423000" indent="-3171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846360" indent="-3175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2" marL="1269360" indent="-2815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3" marL="1692720" indent="-2116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4" marL="2115720" indent="-2113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5" marL="2115720" indent="-2113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6" marL="2115720" indent="-2113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889EF-50F9-49C4-9868-9D8D5907D1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4.jpeg"/><Relationship Id="rId26" Type="http://schemas.openxmlformats.org/officeDocument/2006/relationships/image" Target="../media/image5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ve.mitre.org/" TargetMode="External"/><Relationship Id="rId2" Type="http://schemas.openxmlformats.org/officeDocument/2006/relationships/hyperlink" Target="http://www.securityfocus.com/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t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68360" y="176364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ndara"/>
              </a:rPr>
              <a:t>Ethical Hack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Candara"/>
              </a:rPr>
              <a:t>KaaShiv InfoTech</a:t>
            </a:r>
            <a:endParaRPr b="0" lang="en-US" sz="6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800" y="3657600"/>
            <a:ext cx="4343400" cy="260208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txBody>
          <a:bodyPr lIns="0" rIns="0" tIns="7920" bIns="0" anchor="t">
            <a:noAutofit/>
          </a:bodyPr>
          <a:p>
            <a:pPr indent="0" algn="just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4800600" y="3424320"/>
            <a:ext cx="4321080" cy="282420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3"/>
          <p:cNvSpPr/>
          <p:nvPr/>
        </p:nvSpPr>
        <p:spPr>
          <a:xfrm>
            <a:off x="2158920" y="6531120"/>
            <a:ext cx="55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43040" y="-255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Why Do We Need Ethical Hack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837720" y="1663560"/>
            <a:ext cx="6997680" cy="3365640"/>
            <a:chOff x="837720" y="1663560"/>
            <a:chExt cx="6997680" cy="3365640"/>
          </a:xfrm>
        </p:grpSpPr>
        <p:sp>
          <p:nvSpPr>
            <p:cNvPr id="104" name="Rectangle 3"/>
            <p:cNvSpPr/>
            <p:nvPr/>
          </p:nvSpPr>
          <p:spPr>
            <a:xfrm flipH="1">
              <a:off x="3392280" y="4483080"/>
              <a:ext cx="2058840" cy="5461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9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Viruses, Trojan Horses,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nd Worm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 flipH="1">
              <a:off x="3551760" y="1663560"/>
              <a:ext cx="1935000" cy="4384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Engineering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tangle 5"/>
            <p:cNvSpPr/>
            <p:nvPr/>
          </p:nvSpPr>
          <p:spPr>
            <a:xfrm flipH="1">
              <a:off x="5899680" y="2357640"/>
              <a:ext cx="1935000" cy="4388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utomate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ttack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 flipH="1">
              <a:off x="837360" y="3985200"/>
              <a:ext cx="1808280" cy="584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0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ccidental Breaches in Secur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 flipH="1">
              <a:off x="6033240" y="4283640"/>
              <a:ext cx="1802160" cy="4870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9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Denial of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ervice (DoS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 flipH="1">
              <a:off x="838080" y="2472480"/>
              <a:ext cx="1787040" cy="4860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71360"/>
                  <a:tab algn="l" pos="344520"/>
                  <a:tab algn="l" pos="517680"/>
                  <a:tab algn="l" pos="690480"/>
                  <a:tab algn="l" pos="863640"/>
                  <a:tab algn="l" pos="1036800"/>
                  <a:tab algn="l" pos="1209600"/>
                  <a:tab algn="l" pos="1382760"/>
                  <a:tab algn="l" pos="1555920"/>
                  <a:tab algn="l" pos="1728720"/>
                  <a:tab algn="l" pos="1901880"/>
                  <a:tab algn="l" pos="2075040"/>
                  <a:tab algn="l" pos="2247840"/>
                  <a:tab algn="l" pos="2421000"/>
                  <a:tab algn="l" pos="2593800"/>
                  <a:tab algn="l" pos="2766960"/>
                  <a:tab algn="l" pos="2940120"/>
                  <a:tab algn="l" pos="3112920"/>
                  <a:tab algn="l" pos="3286080"/>
                  <a:tab algn="l" pos="34592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Organizationa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71360"/>
                  <a:tab algn="l" pos="344520"/>
                  <a:tab algn="l" pos="517680"/>
                  <a:tab algn="l" pos="690480"/>
                  <a:tab algn="l" pos="863640"/>
                  <a:tab algn="l" pos="1036800"/>
                  <a:tab algn="l" pos="1209600"/>
                  <a:tab algn="l" pos="1382760"/>
                  <a:tab algn="l" pos="1555920"/>
                  <a:tab algn="l" pos="1728720"/>
                  <a:tab algn="l" pos="1901880"/>
                  <a:tab algn="l" pos="2075040"/>
                  <a:tab algn="l" pos="2247840"/>
                  <a:tab algn="l" pos="2421000"/>
                  <a:tab algn="l" pos="2593800"/>
                  <a:tab algn="l" pos="2766960"/>
                  <a:tab algn="l" pos="2940120"/>
                  <a:tab algn="l" pos="3112920"/>
                  <a:tab algn="l" pos="3286080"/>
                  <a:tab algn="l" pos="34592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ttack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Oval 9"/>
            <p:cNvSpPr/>
            <p:nvPr/>
          </p:nvSpPr>
          <p:spPr>
            <a:xfrm>
              <a:off x="1966320" y="2605320"/>
              <a:ext cx="5241600" cy="1737000"/>
            </a:xfrm>
            <a:prstGeom prst="ellipse">
              <a:avLst/>
            </a:prstGeom>
            <a:gradFill rotWithShape="0">
              <a:gsLst>
                <a:gs pos="0">
                  <a:srgbClr val="fff3f3"/>
                </a:gs>
                <a:gs pos="100000">
                  <a:srgbClr val="ffcccc"/>
                </a:gs>
              </a:gsLst>
              <a:lin ang="5400000"/>
            </a:gradFill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2589480" y="3268800"/>
              <a:ext cx="3932640" cy="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4887000" y="3268800"/>
              <a:ext cx="0" cy="3891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6201720" y="3268800"/>
              <a:ext cx="0" cy="38916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5586120" y="2877120"/>
              <a:ext cx="0" cy="3906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4374000" y="2180160"/>
              <a:ext cx="0" cy="58464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15"/>
            <p:cNvSpPr/>
            <p:nvPr/>
          </p:nvSpPr>
          <p:spPr>
            <a:xfrm>
              <a:off x="2905560" y="2877120"/>
              <a:ext cx="0" cy="39060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7" name="Group 16"/>
            <p:cNvGrpSpPr/>
            <p:nvPr/>
          </p:nvGrpSpPr>
          <p:grpSpPr>
            <a:xfrm>
              <a:off x="2653560" y="2380680"/>
              <a:ext cx="727920" cy="639720"/>
              <a:chOff x="2653560" y="2380680"/>
              <a:chExt cx="727920" cy="639720"/>
            </a:xfrm>
          </p:grpSpPr>
          <p:grpSp>
            <p:nvGrpSpPr>
              <p:cNvPr id="118" name="Group 17"/>
              <p:cNvGrpSpPr/>
              <p:nvPr/>
            </p:nvGrpSpPr>
            <p:grpSpPr>
              <a:xfrm>
                <a:off x="2653560" y="2719080"/>
                <a:ext cx="716760" cy="301320"/>
                <a:chOff x="2653560" y="2719080"/>
                <a:chExt cx="716760" cy="301320"/>
              </a:xfrm>
            </p:grpSpPr>
            <p:sp>
              <p:nvSpPr>
                <p:cNvPr id="119" name="Freeform 18"/>
                <p:cNvSpPr/>
                <p:nvPr/>
              </p:nvSpPr>
              <p:spPr>
                <a:xfrm>
                  <a:off x="3122640" y="2796480"/>
                  <a:ext cx="245880" cy="22248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9"/>
                <p:cNvSpPr/>
                <p:nvPr/>
              </p:nvSpPr>
              <p:spPr>
                <a:xfrm>
                  <a:off x="2653560" y="2719080"/>
                  <a:ext cx="716760" cy="192240"/>
                </a:xfrm>
                <a:custGeom>
                  <a:avLst/>
                  <a:gdLst>
                    <a:gd name="textAreaLeft" fmla="*/ 0 w 716760"/>
                    <a:gd name="textAreaRight" fmla="*/ 717120 w 7167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20"/>
                <p:cNvSpPr/>
                <p:nvPr/>
              </p:nvSpPr>
              <p:spPr>
                <a:xfrm>
                  <a:off x="2653560" y="2814120"/>
                  <a:ext cx="468000" cy="20628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21"/>
                <p:cNvSpPr/>
                <p:nvPr/>
              </p:nvSpPr>
              <p:spPr>
                <a:xfrm>
                  <a:off x="2897640" y="2886840"/>
                  <a:ext cx="183240" cy="99000"/>
                </a:xfrm>
                <a:custGeom>
                  <a:avLst/>
                  <a:gdLst>
                    <a:gd name="textAreaLeft" fmla="*/ 0 w 183240"/>
                    <a:gd name="textAreaRight" fmla="*/ 183600 w 183240"/>
                    <a:gd name="textAreaTop" fmla="*/ 0 h 99000"/>
                    <a:gd name="textAreaBottom" fmla="*/ 99360 h 99000"/>
                  </a:gdLst>
                  <a:ahLst/>
                  <a:rect l="textAreaLeft" t="textAreaTop" r="textAreaRight" b="textAreaBottom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fdfdf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22"/>
                <p:cNvSpPr/>
                <p:nvPr/>
              </p:nvSpPr>
              <p:spPr>
                <a:xfrm>
                  <a:off x="2901960" y="2925000"/>
                  <a:ext cx="176040" cy="3420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Freeform 23"/>
                <p:cNvSpPr/>
                <p:nvPr/>
              </p:nvSpPr>
              <p:spPr>
                <a:xfrm>
                  <a:off x="2897640" y="2886840"/>
                  <a:ext cx="183240" cy="59760"/>
                </a:xfrm>
                <a:custGeom>
                  <a:avLst/>
                  <a:gdLst>
                    <a:gd name="textAreaLeft" fmla="*/ 0 w 183240"/>
                    <a:gd name="textAreaRight" fmla="*/ 183600 w 1832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2914200" y="2907000"/>
                  <a:ext cx="142920" cy="26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3036240" y="2964600"/>
                  <a:ext cx="25200" cy="2520"/>
                </a:xfrm>
                <a:prstGeom prst="line">
                  <a:avLst/>
                </a:prstGeom>
                <a:ln w="19080">
                  <a:solidFill>
                    <a:srgbClr val="cc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Freeform 26"/>
                <p:cNvSpPr/>
                <p:nvPr/>
              </p:nvSpPr>
              <p:spPr>
                <a:xfrm>
                  <a:off x="2958840" y="2914920"/>
                  <a:ext cx="41400" cy="162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2665080" y="2835720"/>
                  <a:ext cx="18756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2665080" y="2852640"/>
                  <a:ext cx="187560" cy="392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2665080" y="2869200"/>
                  <a:ext cx="18756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2665080" y="2885400"/>
                  <a:ext cx="187560" cy="392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" name="Freeform 31"/>
                <p:cNvSpPr/>
                <p:nvPr/>
              </p:nvSpPr>
              <p:spPr>
                <a:xfrm>
                  <a:off x="2900880" y="2931480"/>
                  <a:ext cx="184680" cy="59760"/>
                </a:xfrm>
                <a:custGeom>
                  <a:avLst/>
                  <a:gdLst>
                    <a:gd name="textAreaLeft" fmla="*/ 0 w 184680"/>
                    <a:gd name="textAreaRight" fmla="*/ 185040 w 1846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3" name="Group 32"/>
              <p:cNvGrpSpPr/>
              <p:nvPr/>
            </p:nvGrpSpPr>
            <p:grpSpPr>
              <a:xfrm>
                <a:off x="2711520" y="2380680"/>
                <a:ext cx="669960" cy="492120"/>
                <a:chOff x="2711520" y="2380680"/>
                <a:chExt cx="669960" cy="492120"/>
              </a:xfrm>
            </p:grpSpPr>
            <p:sp>
              <p:nvSpPr>
                <p:cNvPr id="134" name="Freeform 33"/>
                <p:cNvSpPr/>
                <p:nvPr/>
              </p:nvSpPr>
              <p:spPr>
                <a:xfrm>
                  <a:off x="2761920" y="2701440"/>
                  <a:ext cx="521280" cy="171360"/>
                </a:xfrm>
                <a:custGeom>
                  <a:avLst/>
                  <a:gdLst>
                    <a:gd name="textAreaLeft" fmla="*/ 0 w 521280"/>
                    <a:gd name="textAreaRight" fmla="*/ 521640 w 52128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" name="Freeform 34"/>
                <p:cNvSpPr/>
                <p:nvPr/>
              </p:nvSpPr>
              <p:spPr>
                <a:xfrm>
                  <a:off x="2768040" y="2705400"/>
                  <a:ext cx="504720" cy="150840"/>
                </a:xfrm>
                <a:custGeom>
                  <a:avLst/>
                  <a:gdLst>
                    <a:gd name="textAreaLeft" fmla="*/ 0 w 504720"/>
                    <a:gd name="textAreaRight" fmla="*/ 505080 w 50472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6" name="Oval 35"/>
                <p:cNvSpPr/>
                <p:nvPr/>
              </p:nvSpPr>
              <p:spPr>
                <a:xfrm>
                  <a:off x="2894400" y="2742480"/>
                  <a:ext cx="262080" cy="81000"/>
                </a:xfrm>
                <a:prstGeom prst="ellipse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" name="Freeform 36"/>
                <p:cNvSpPr/>
                <p:nvPr/>
              </p:nvSpPr>
              <p:spPr>
                <a:xfrm>
                  <a:off x="2750040" y="2746080"/>
                  <a:ext cx="423000" cy="91080"/>
                </a:xfrm>
                <a:custGeom>
                  <a:avLst/>
                  <a:gdLst>
                    <a:gd name="textAreaLeft" fmla="*/ 0 w 423000"/>
                    <a:gd name="textAreaRight" fmla="*/ 423360 w 42300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Freeform 37"/>
                <p:cNvSpPr/>
                <p:nvPr/>
              </p:nvSpPr>
              <p:spPr>
                <a:xfrm>
                  <a:off x="2853000" y="2380680"/>
                  <a:ext cx="528480" cy="380520"/>
                </a:xfrm>
                <a:custGeom>
                  <a:avLst/>
                  <a:gdLst>
                    <a:gd name="textAreaLeft" fmla="*/ 0 w 528480"/>
                    <a:gd name="textAreaRight" fmla="*/ 528840 w 528480"/>
                    <a:gd name="textAreaTop" fmla="*/ 0 h 380520"/>
                    <a:gd name="textAreaBottom" fmla="*/ 380880 h 380520"/>
                  </a:gdLst>
                  <a:ahLst/>
                  <a:rect l="textAreaLeft" t="textAreaTop" r="textAreaRight" b="textAreaBottom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Freeform 38"/>
                <p:cNvSpPr/>
                <p:nvPr/>
              </p:nvSpPr>
              <p:spPr>
                <a:xfrm>
                  <a:off x="3183840" y="2465280"/>
                  <a:ext cx="104400" cy="37044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370440"/>
                    <a:gd name="textAreaBottom" fmla="*/ 370800 h 370440"/>
                  </a:gdLst>
                  <a:ahLst/>
                  <a:rect l="textAreaLeft" t="textAreaTop" r="textAreaRight" b="textAreaBottom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0" name="Freeform 39"/>
                <p:cNvSpPr/>
                <p:nvPr/>
              </p:nvSpPr>
              <p:spPr>
                <a:xfrm>
                  <a:off x="2711520" y="2385360"/>
                  <a:ext cx="576720" cy="124560"/>
                </a:xfrm>
                <a:custGeom>
                  <a:avLst/>
                  <a:gdLst>
                    <a:gd name="textAreaLeft" fmla="*/ 0 w 576720"/>
                    <a:gd name="textAreaRight" fmla="*/ 576720 w 576720"/>
                    <a:gd name="textAreaTop" fmla="*/ 0 h 124560"/>
                    <a:gd name="textAreaBottom" fmla="*/ 124920 h 124560"/>
                  </a:gdLst>
                  <a:ahLst/>
                  <a:rect l="textAreaLeft" t="textAreaTop" r="textAreaRight" b="textAreaBottom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" name="Freeform 40"/>
                <p:cNvSpPr/>
                <p:nvPr/>
              </p:nvSpPr>
              <p:spPr>
                <a:xfrm>
                  <a:off x="2711520" y="2422080"/>
                  <a:ext cx="470520" cy="413640"/>
                </a:xfrm>
                <a:custGeom>
                  <a:avLst/>
                  <a:gdLst>
                    <a:gd name="textAreaLeft" fmla="*/ 0 w 470520"/>
                    <a:gd name="textAreaRight" fmla="*/ 470880 w 470520"/>
                    <a:gd name="textAreaTop" fmla="*/ 0 h 413640"/>
                    <a:gd name="textAreaBottom" fmla="*/ 414000 h 413640"/>
                  </a:gdLst>
                  <a:ahLst/>
                  <a:rect l="textAreaLeft" t="textAreaTop" r="textAreaRight" b="textAreaBottom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Freeform 41"/>
                <p:cNvSpPr/>
                <p:nvPr/>
              </p:nvSpPr>
              <p:spPr>
                <a:xfrm>
                  <a:off x="2747160" y="2459160"/>
                  <a:ext cx="397440" cy="338760"/>
                </a:xfrm>
                <a:custGeom>
                  <a:avLst/>
                  <a:gdLst>
                    <a:gd name="textAreaLeft" fmla="*/ 0 w 397440"/>
                    <a:gd name="textAreaRight" fmla="*/ 397800 w 397440"/>
                    <a:gd name="textAreaTop" fmla="*/ 0 h 338760"/>
                    <a:gd name="textAreaBottom" fmla="*/ 339120 h 338760"/>
                  </a:gdLst>
                  <a:ahLst/>
                  <a:rect l="textAreaLeft" t="textAreaTop" r="textAreaRight" b="textAreaBottom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Freeform 42"/>
                <p:cNvSpPr/>
                <p:nvPr/>
              </p:nvSpPr>
              <p:spPr>
                <a:xfrm>
                  <a:off x="2772360" y="2482200"/>
                  <a:ext cx="348480" cy="29160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291600"/>
                    <a:gd name="textAreaBottom" fmla="*/ 291960 h 291600"/>
                  </a:gdLst>
                  <a:ahLst/>
                  <a:rect l="textAreaLeft" t="textAreaTop" r="textAreaRight" b="textAreaBottom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2803680" y="2505960"/>
                  <a:ext cx="0" cy="42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5" name="Group 44"/>
            <p:cNvGrpSpPr/>
            <p:nvPr/>
          </p:nvGrpSpPr>
          <p:grpSpPr>
            <a:xfrm>
              <a:off x="4031280" y="2284920"/>
              <a:ext cx="727920" cy="640080"/>
              <a:chOff x="4031280" y="2284920"/>
              <a:chExt cx="727920" cy="640080"/>
            </a:xfrm>
          </p:grpSpPr>
          <p:grpSp>
            <p:nvGrpSpPr>
              <p:cNvPr id="146" name="Group 45"/>
              <p:cNvGrpSpPr/>
              <p:nvPr/>
            </p:nvGrpSpPr>
            <p:grpSpPr>
              <a:xfrm>
                <a:off x="4031280" y="2622960"/>
                <a:ext cx="716760" cy="302040"/>
                <a:chOff x="4031280" y="2622960"/>
                <a:chExt cx="716760" cy="302040"/>
              </a:xfrm>
            </p:grpSpPr>
            <p:sp>
              <p:nvSpPr>
                <p:cNvPr id="147" name="Freeform 46"/>
                <p:cNvSpPr/>
                <p:nvPr/>
              </p:nvSpPr>
              <p:spPr>
                <a:xfrm>
                  <a:off x="4498920" y="2701800"/>
                  <a:ext cx="245880" cy="22320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223200"/>
                    <a:gd name="textAreaBottom" fmla="*/ 223560 h 223200"/>
                  </a:gdLst>
                  <a:ahLst/>
                  <a:rect l="textAreaLeft" t="textAreaTop" r="textAreaRight" b="textAreaBottom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" name="Freeform 47"/>
                <p:cNvSpPr/>
                <p:nvPr/>
              </p:nvSpPr>
              <p:spPr>
                <a:xfrm>
                  <a:off x="4031280" y="2622960"/>
                  <a:ext cx="716760" cy="192240"/>
                </a:xfrm>
                <a:custGeom>
                  <a:avLst/>
                  <a:gdLst>
                    <a:gd name="textAreaLeft" fmla="*/ 0 w 716760"/>
                    <a:gd name="textAreaRight" fmla="*/ 717120 w 71676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" name="Freeform 48"/>
                <p:cNvSpPr/>
                <p:nvPr/>
              </p:nvSpPr>
              <p:spPr>
                <a:xfrm>
                  <a:off x="4031280" y="2718360"/>
                  <a:ext cx="467640" cy="206640"/>
                </a:xfrm>
                <a:custGeom>
                  <a:avLst/>
                  <a:gdLst>
                    <a:gd name="textAreaLeft" fmla="*/ 0 w 467640"/>
                    <a:gd name="textAreaRight" fmla="*/ 468000 w 46764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0" name="Freeform 49"/>
                <p:cNvSpPr/>
                <p:nvPr/>
              </p:nvSpPr>
              <p:spPr>
                <a:xfrm>
                  <a:off x="4275360" y="2792520"/>
                  <a:ext cx="182880" cy="993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fdfdf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" name="Freeform 50"/>
                <p:cNvSpPr/>
                <p:nvPr/>
              </p:nvSpPr>
              <p:spPr>
                <a:xfrm>
                  <a:off x="4279680" y="2829600"/>
                  <a:ext cx="175680" cy="34200"/>
                </a:xfrm>
                <a:custGeom>
                  <a:avLst/>
                  <a:gdLst>
                    <a:gd name="textAreaLeft" fmla="*/ 0 w 175680"/>
                    <a:gd name="textAreaRight" fmla="*/ 176040 w 17568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" name="Freeform 51"/>
                <p:cNvSpPr/>
                <p:nvPr/>
              </p:nvSpPr>
              <p:spPr>
                <a:xfrm>
                  <a:off x="4275360" y="2791080"/>
                  <a:ext cx="182880" cy="59760"/>
                </a:xfrm>
                <a:custGeom>
                  <a:avLst/>
                  <a:gdLst>
                    <a:gd name="textAreaLeft" fmla="*/ 0 w 182880"/>
                    <a:gd name="textAreaRight" fmla="*/ 182880 w 18288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4291560" y="2811600"/>
                  <a:ext cx="143280" cy="26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4413960" y="2869200"/>
                  <a:ext cx="25200" cy="2520"/>
                </a:xfrm>
                <a:prstGeom prst="line">
                  <a:avLst/>
                </a:prstGeom>
                <a:ln w="19080">
                  <a:solidFill>
                    <a:srgbClr val="cc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" name="Freeform 54"/>
                <p:cNvSpPr/>
                <p:nvPr/>
              </p:nvSpPr>
              <p:spPr>
                <a:xfrm>
                  <a:off x="4336560" y="2819160"/>
                  <a:ext cx="41400" cy="162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4042800" y="2739960"/>
                  <a:ext cx="18720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7" name="Line 56"/>
                <p:cNvSpPr/>
                <p:nvPr/>
              </p:nvSpPr>
              <p:spPr>
                <a:xfrm>
                  <a:off x="4042800" y="2756880"/>
                  <a:ext cx="187200" cy="392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" name="Line 57"/>
                <p:cNvSpPr/>
                <p:nvPr/>
              </p:nvSpPr>
              <p:spPr>
                <a:xfrm>
                  <a:off x="4042800" y="2773440"/>
                  <a:ext cx="18720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" name="Line 58"/>
                <p:cNvSpPr/>
                <p:nvPr/>
              </p:nvSpPr>
              <p:spPr>
                <a:xfrm>
                  <a:off x="4042800" y="2789640"/>
                  <a:ext cx="187200" cy="396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" name="Freeform 59"/>
                <p:cNvSpPr/>
                <p:nvPr/>
              </p:nvSpPr>
              <p:spPr>
                <a:xfrm>
                  <a:off x="4278600" y="2835720"/>
                  <a:ext cx="184320" cy="5976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1" name="Group 60"/>
              <p:cNvGrpSpPr/>
              <p:nvPr/>
            </p:nvGrpSpPr>
            <p:grpSpPr>
              <a:xfrm>
                <a:off x="4089240" y="2284920"/>
                <a:ext cx="669960" cy="493920"/>
                <a:chOff x="4089240" y="2284920"/>
                <a:chExt cx="669960" cy="493920"/>
              </a:xfrm>
            </p:grpSpPr>
            <p:sp>
              <p:nvSpPr>
                <p:cNvPr id="162" name="Freeform 61"/>
                <p:cNvSpPr/>
                <p:nvPr/>
              </p:nvSpPr>
              <p:spPr>
                <a:xfrm>
                  <a:off x="4139640" y="2606400"/>
                  <a:ext cx="522720" cy="172440"/>
                </a:xfrm>
                <a:custGeom>
                  <a:avLst/>
                  <a:gdLst>
                    <a:gd name="textAreaLeft" fmla="*/ 0 w 522720"/>
                    <a:gd name="textAreaRight" fmla="*/ 523080 w 522720"/>
                    <a:gd name="textAreaTop" fmla="*/ 0 h 172440"/>
                    <a:gd name="textAreaBottom" fmla="*/ 172440 h 172440"/>
                  </a:gdLst>
                  <a:ahLst/>
                  <a:rect l="textAreaLeft" t="textAreaTop" r="textAreaRight" b="textAreaBottom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62"/>
                <p:cNvSpPr/>
                <p:nvPr/>
              </p:nvSpPr>
              <p:spPr>
                <a:xfrm>
                  <a:off x="4145760" y="2610360"/>
                  <a:ext cx="505800" cy="151560"/>
                </a:xfrm>
                <a:custGeom>
                  <a:avLst/>
                  <a:gdLst>
                    <a:gd name="textAreaLeft" fmla="*/ 0 w 505800"/>
                    <a:gd name="textAreaRight" fmla="*/ 506160 w 505800"/>
                    <a:gd name="textAreaTop" fmla="*/ 0 h 151560"/>
                    <a:gd name="textAreaBottom" fmla="*/ 151920 h 151560"/>
                  </a:gdLst>
                  <a:ahLst/>
                  <a:rect l="textAreaLeft" t="textAreaTop" r="textAreaRight" b="textAreaBottom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4" name="Oval 63"/>
                <p:cNvSpPr/>
                <p:nvPr/>
              </p:nvSpPr>
              <p:spPr>
                <a:xfrm>
                  <a:off x="4272480" y="2648520"/>
                  <a:ext cx="262440" cy="81360"/>
                </a:xfrm>
                <a:prstGeom prst="ellipse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" name="Freeform 64"/>
                <p:cNvSpPr/>
                <p:nvPr/>
              </p:nvSpPr>
              <p:spPr>
                <a:xfrm>
                  <a:off x="4127760" y="2651040"/>
                  <a:ext cx="424080" cy="91440"/>
                </a:xfrm>
                <a:custGeom>
                  <a:avLst/>
                  <a:gdLst>
                    <a:gd name="textAreaLeft" fmla="*/ 0 w 424080"/>
                    <a:gd name="textAreaRight" fmla="*/ 424440 w 424080"/>
                    <a:gd name="textAreaTop" fmla="*/ 0 h 91440"/>
                    <a:gd name="textAreaBottom" fmla="*/ 91800 h 91440"/>
                  </a:gdLst>
                  <a:ahLst/>
                  <a:rect l="textAreaLeft" t="textAreaTop" r="textAreaRight" b="textAreaBottom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" name="Freeform 65"/>
                <p:cNvSpPr/>
                <p:nvPr/>
              </p:nvSpPr>
              <p:spPr>
                <a:xfrm>
                  <a:off x="4229280" y="2284920"/>
                  <a:ext cx="529920" cy="382680"/>
                </a:xfrm>
                <a:custGeom>
                  <a:avLst/>
                  <a:gdLst>
                    <a:gd name="textAreaLeft" fmla="*/ 0 w 529920"/>
                    <a:gd name="textAreaRight" fmla="*/ 530280 w 529920"/>
                    <a:gd name="textAreaTop" fmla="*/ 0 h 382680"/>
                    <a:gd name="textAreaBottom" fmla="*/ 383040 h 382680"/>
                  </a:gdLst>
                  <a:ahLst/>
                  <a:rect l="textAreaLeft" t="textAreaTop" r="textAreaRight" b="textAreaBottom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" name="Freeform 66"/>
                <p:cNvSpPr/>
                <p:nvPr/>
              </p:nvSpPr>
              <p:spPr>
                <a:xfrm>
                  <a:off x="4560840" y="2368800"/>
                  <a:ext cx="104400" cy="37260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372600"/>
                    <a:gd name="textAreaBottom" fmla="*/ 372960 h 372600"/>
                  </a:gdLst>
                  <a:ahLst/>
                  <a:rect l="textAreaLeft" t="textAreaTop" r="textAreaRight" b="textAreaBottom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8" name="Freeform 67"/>
                <p:cNvSpPr/>
                <p:nvPr/>
              </p:nvSpPr>
              <p:spPr>
                <a:xfrm>
                  <a:off x="4089240" y="2288520"/>
                  <a:ext cx="577440" cy="124920"/>
                </a:xfrm>
                <a:custGeom>
                  <a:avLst/>
                  <a:gdLst>
                    <a:gd name="textAreaLeft" fmla="*/ 0 w 577440"/>
                    <a:gd name="textAreaRight" fmla="*/ 577800 w 5774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" name="Freeform 68"/>
                <p:cNvSpPr/>
                <p:nvPr/>
              </p:nvSpPr>
              <p:spPr>
                <a:xfrm>
                  <a:off x="4089240" y="2325600"/>
                  <a:ext cx="471600" cy="415800"/>
                </a:xfrm>
                <a:custGeom>
                  <a:avLst/>
                  <a:gdLst>
                    <a:gd name="textAreaLeft" fmla="*/ 0 w 471600"/>
                    <a:gd name="textAreaRight" fmla="*/ 471960 w 47160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" name="Freeform 69"/>
                <p:cNvSpPr/>
                <p:nvPr/>
              </p:nvSpPr>
              <p:spPr>
                <a:xfrm>
                  <a:off x="4124520" y="2362680"/>
                  <a:ext cx="398520" cy="340560"/>
                </a:xfrm>
                <a:custGeom>
                  <a:avLst/>
                  <a:gdLst>
                    <a:gd name="textAreaLeft" fmla="*/ 0 w 398520"/>
                    <a:gd name="textAreaRight" fmla="*/ 398880 w 398520"/>
                    <a:gd name="textAreaTop" fmla="*/ 0 h 340560"/>
                    <a:gd name="textAreaBottom" fmla="*/ 340920 h 340560"/>
                  </a:gdLst>
                  <a:ahLst/>
                  <a:rect l="textAreaLeft" t="textAreaTop" r="textAreaRight" b="textAreaBottom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1" name="Freeform 70"/>
                <p:cNvSpPr/>
                <p:nvPr/>
              </p:nvSpPr>
              <p:spPr>
                <a:xfrm>
                  <a:off x="4150080" y="2385360"/>
                  <a:ext cx="349200" cy="29340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293400"/>
                    <a:gd name="textAreaBottom" fmla="*/ 293760 h 293400"/>
                  </a:gdLst>
                  <a:ahLst/>
                  <a:rect l="textAreaLeft" t="textAreaTop" r="textAreaRight" b="textAreaBottom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" name="Line 71"/>
                <p:cNvSpPr/>
                <p:nvPr/>
              </p:nvSpPr>
              <p:spPr>
                <a:xfrm>
                  <a:off x="4181400" y="2409840"/>
                  <a:ext cx="0" cy="432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3" name="Group 72"/>
            <p:cNvGrpSpPr/>
            <p:nvPr/>
          </p:nvGrpSpPr>
          <p:grpSpPr>
            <a:xfrm>
              <a:off x="5337000" y="2333520"/>
              <a:ext cx="728280" cy="640440"/>
              <a:chOff x="5337000" y="2333520"/>
              <a:chExt cx="728280" cy="640440"/>
            </a:xfrm>
          </p:grpSpPr>
          <p:grpSp>
            <p:nvGrpSpPr>
              <p:cNvPr id="174" name="Group 73"/>
              <p:cNvGrpSpPr/>
              <p:nvPr/>
            </p:nvGrpSpPr>
            <p:grpSpPr>
              <a:xfrm>
                <a:off x="5337000" y="2671560"/>
                <a:ext cx="717120" cy="302400"/>
                <a:chOff x="5337000" y="2671560"/>
                <a:chExt cx="717120" cy="302400"/>
              </a:xfrm>
            </p:grpSpPr>
            <p:sp>
              <p:nvSpPr>
                <p:cNvPr id="175" name="Freeform 74"/>
                <p:cNvSpPr/>
                <p:nvPr/>
              </p:nvSpPr>
              <p:spPr>
                <a:xfrm>
                  <a:off x="5806440" y="2750760"/>
                  <a:ext cx="245520" cy="22284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Freeform 75"/>
                <p:cNvSpPr/>
                <p:nvPr/>
              </p:nvSpPr>
              <p:spPr>
                <a:xfrm>
                  <a:off x="5337000" y="2671560"/>
                  <a:ext cx="717120" cy="192600"/>
                </a:xfrm>
                <a:custGeom>
                  <a:avLst/>
                  <a:gdLst>
                    <a:gd name="textAreaLeft" fmla="*/ 0 w 717120"/>
                    <a:gd name="textAreaRight" fmla="*/ 717480 w 71712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Freeform 76"/>
                <p:cNvSpPr/>
                <p:nvPr/>
              </p:nvSpPr>
              <p:spPr>
                <a:xfrm>
                  <a:off x="5337000" y="2767320"/>
                  <a:ext cx="468000" cy="206640"/>
                </a:xfrm>
                <a:custGeom>
                  <a:avLst/>
                  <a:gdLst>
                    <a:gd name="textAreaLeft" fmla="*/ 0 w 468000"/>
                    <a:gd name="textAreaRight" fmla="*/ 468360 w 468000"/>
                    <a:gd name="textAreaTop" fmla="*/ 0 h 206640"/>
                    <a:gd name="textAreaBottom" fmla="*/ 207000 h 206640"/>
                  </a:gdLst>
                  <a:ahLst/>
                  <a:rect l="textAreaLeft" t="textAreaTop" r="textAreaRight" b="textAreaBottom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Freeform 77"/>
                <p:cNvSpPr/>
                <p:nvPr/>
              </p:nvSpPr>
              <p:spPr>
                <a:xfrm>
                  <a:off x="5582880" y="2841120"/>
                  <a:ext cx="182880" cy="99360"/>
                </a:xfrm>
                <a:custGeom>
                  <a:avLst/>
                  <a:gdLst>
                    <a:gd name="textAreaLeft" fmla="*/ 0 w 182880"/>
                    <a:gd name="textAreaRight" fmla="*/ 183240 w 18288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fdfdf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585760" y="2879640"/>
                  <a:ext cx="175680" cy="34200"/>
                </a:xfrm>
                <a:custGeom>
                  <a:avLst/>
                  <a:gdLst>
                    <a:gd name="textAreaLeft" fmla="*/ 0 w 175680"/>
                    <a:gd name="textAreaRight" fmla="*/ 176040 w 17568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Freeform 79"/>
                <p:cNvSpPr/>
                <p:nvPr/>
              </p:nvSpPr>
              <p:spPr>
                <a:xfrm>
                  <a:off x="5581440" y="2839680"/>
                  <a:ext cx="182880" cy="60120"/>
                </a:xfrm>
                <a:custGeom>
                  <a:avLst/>
                  <a:gdLst>
                    <a:gd name="textAreaLeft" fmla="*/ 0 w 182880"/>
                    <a:gd name="textAreaRight" fmla="*/ 182880 w 18288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Line 80"/>
                <p:cNvSpPr/>
                <p:nvPr/>
              </p:nvSpPr>
              <p:spPr>
                <a:xfrm>
                  <a:off x="5597640" y="2861640"/>
                  <a:ext cx="143280" cy="26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Line 81"/>
                <p:cNvSpPr/>
                <p:nvPr/>
              </p:nvSpPr>
              <p:spPr>
                <a:xfrm>
                  <a:off x="5720040" y="2919240"/>
                  <a:ext cx="25200" cy="2160"/>
                </a:xfrm>
                <a:prstGeom prst="line">
                  <a:avLst/>
                </a:prstGeom>
                <a:ln w="19080">
                  <a:solidFill>
                    <a:srgbClr val="cc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Freeform 82"/>
                <p:cNvSpPr/>
                <p:nvPr/>
              </p:nvSpPr>
              <p:spPr>
                <a:xfrm>
                  <a:off x="5644080" y="2869200"/>
                  <a:ext cx="41400" cy="162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Line 83"/>
                <p:cNvSpPr/>
                <p:nvPr/>
              </p:nvSpPr>
              <p:spPr>
                <a:xfrm>
                  <a:off x="5348880" y="2790000"/>
                  <a:ext cx="18756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5" name="Line 84"/>
                <p:cNvSpPr/>
                <p:nvPr/>
              </p:nvSpPr>
              <p:spPr>
                <a:xfrm>
                  <a:off x="5348880" y="2805480"/>
                  <a:ext cx="187560" cy="396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6" name="Line 85"/>
                <p:cNvSpPr/>
                <p:nvPr/>
              </p:nvSpPr>
              <p:spPr>
                <a:xfrm>
                  <a:off x="5348880" y="2823480"/>
                  <a:ext cx="187560" cy="40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7" name="Line 86"/>
                <p:cNvSpPr/>
                <p:nvPr/>
              </p:nvSpPr>
              <p:spPr>
                <a:xfrm>
                  <a:off x="5348880" y="2838600"/>
                  <a:ext cx="187560" cy="396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8" name="Freeform 87"/>
                <p:cNvSpPr/>
                <p:nvPr/>
              </p:nvSpPr>
              <p:spPr>
                <a:xfrm>
                  <a:off x="5584680" y="2884680"/>
                  <a:ext cx="184320" cy="59760"/>
                </a:xfrm>
                <a:custGeom>
                  <a:avLst/>
                  <a:gdLst>
                    <a:gd name="textAreaLeft" fmla="*/ 0 w 184320"/>
                    <a:gd name="textAreaRight" fmla="*/ 184680 w 1843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9" name="Group 88"/>
              <p:cNvGrpSpPr/>
              <p:nvPr/>
            </p:nvGrpSpPr>
            <p:grpSpPr>
              <a:xfrm>
                <a:off x="5394960" y="2333520"/>
                <a:ext cx="670320" cy="493200"/>
                <a:chOff x="5394960" y="2333520"/>
                <a:chExt cx="670320" cy="493200"/>
              </a:xfrm>
            </p:grpSpPr>
            <p:sp>
              <p:nvSpPr>
                <p:cNvPr id="190" name="Freeform 89"/>
                <p:cNvSpPr/>
                <p:nvPr/>
              </p:nvSpPr>
              <p:spPr>
                <a:xfrm>
                  <a:off x="5445360" y="2654640"/>
                  <a:ext cx="521640" cy="172080"/>
                </a:xfrm>
                <a:custGeom>
                  <a:avLst/>
                  <a:gdLst>
                    <a:gd name="textAreaLeft" fmla="*/ 0 w 521640"/>
                    <a:gd name="textAreaRight" fmla="*/ 522000 w 521640"/>
                    <a:gd name="textAreaTop" fmla="*/ 0 h 172080"/>
                    <a:gd name="textAreaBottom" fmla="*/ 172440 h 172080"/>
                  </a:gdLst>
                  <a:ahLst/>
                  <a:rect l="textAreaLeft" t="textAreaTop" r="textAreaRight" b="textAreaBottom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" name="Freeform 90"/>
                <p:cNvSpPr/>
                <p:nvPr/>
              </p:nvSpPr>
              <p:spPr>
                <a:xfrm>
                  <a:off x="5451480" y="2658600"/>
                  <a:ext cx="505080" cy="151560"/>
                </a:xfrm>
                <a:custGeom>
                  <a:avLst/>
                  <a:gdLst>
                    <a:gd name="textAreaLeft" fmla="*/ 0 w 505080"/>
                    <a:gd name="textAreaRight" fmla="*/ 505440 w 505080"/>
                    <a:gd name="textAreaTop" fmla="*/ 0 h 151560"/>
                    <a:gd name="textAreaBottom" fmla="*/ 151920 h 151560"/>
                  </a:gdLst>
                  <a:ahLst/>
                  <a:rect l="textAreaLeft" t="textAreaTop" r="textAreaRight" b="textAreaBottom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2" name="Oval 91"/>
                <p:cNvSpPr/>
                <p:nvPr/>
              </p:nvSpPr>
              <p:spPr>
                <a:xfrm>
                  <a:off x="5578200" y="2696760"/>
                  <a:ext cx="262080" cy="81720"/>
                </a:xfrm>
                <a:prstGeom prst="ellipse">
                  <a:avLst/>
                </a:prstGeom>
                <a:solidFill>
                  <a:srgbClr val="b2b2b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3" name="Freeform 92"/>
                <p:cNvSpPr/>
                <p:nvPr/>
              </p:nvSpPr>
              <p:spPr>
                <a:xfrm>
                  <a:off x="5433480" y="2699280"/>
                  <a:ext cx="423000" cy="91800"/>
                </a:xfrm>
                <a:custGeom>
                  <a:avLst/>
                  <a:gdLst>
                    <a:gd name="textAreaLeft" fmla="*/ 0 w 423000"/>
                    <a:gd name="textAreaRight" fmla="*/ 423360 w 42300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4" name="Freeform 93"/>
                <p:cNvSpPr/>
                <p:nvPr/>
              </p:nvSpPr>
              <p:spPr>
                <a:xfrm>
                  <a:off x="5536440" y="2333520"/>
                  <a:ext cx="528840" cy="38268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382680"/>
                    <a:gd name="textAreaBottom" fmla="*/ 383040 h 382680"/>
                  </a:gdLst>
                  <a:ahLst/>
                  <a:rect l="textAreaLeft" t="textAreaTop" r="textAreaRight" b="textAreaBottom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5" name="Freeform 94"/>
                <p:cNvSpPr/>
                <p:nvPr/>
              </p:nvSpPr>
              <p:spPr>
                <a:xfrm>
                  <a:off x="5867280" y="2417400"/>
                  <a:ext cx="104400" cy="372240"/>
                </a:xfrm>
                <a:custGeom>
                  <a:avLst/>
                  <a:gdLst>
                    <a:gd name="textAreaLeft" fmla="*/ 0 w 104400"/>
                    <a:gd name="textAreaRight" fmla="*/ 104760 w 104400"/>
                    <a:gd name="textAreaTop" fmla="*/ 0 h 372240"/>
                    <a:gd name="textAreaBottom" fmla="*/ 372600 h 372240"/>
                  </a:gdLst>
                  <a:ahLst/>
                  <a:rect l="textAreaLeft" t="textAreaTop" r="textAreaRight" b="textAreaBottom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6" name="Freeform 95"/>
                <p:cNvSpPr/>
                <p:nvPr/>
              </p:nvSpPr>
              <p:spPr>
                <a:xfrm>
                  <a:off x="5394960" y="2337120"/>
                  <a:ext cx="576720" cy="124920"/>
                </a:xfrm>
                <a:custGeom>
                  <a:avLst/>
                  <a:gdLst>
                    <a:gd name="textAreaLeft" fmla="*/ 0 w 576720"/>
                    <a:gd name="textAreaRight" fmla="*/ 576720 w 57672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7" name="Freeform 96"/>
                <p:cNvSpPr/>
                <p:nvPr/>
              </p:nvSpPr>
              <p:spPr>
                <a:xfrm>
                  <a:off x="5394960" y="2375280"/>
                  <a:ext cx="470880" cy="415800"/>
                </a:xfrm>
                <a:custGeom>
                  <a:avLst/>
                  <a:gdLst>
                    <a:gd name="textAreaLeft" fmla="*/ 0 w 470880"/>
                    <a:gd name="textAreaRight" fmla="*/ 471240 w 47088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8" name="Freeform 97"/>
                <p:cNvSpPr/>
                <p:nvPr/>
              </p:nvSpPr>
              <p:spPr>
                <a:xfrm>
                  <a:off x="5430600" y="2412360"/>
                  <a:ext cx="397800" cy="340560"/>
                </a:xfrm>
                <a:custGeom>
                  <a:avLst/>
                  <a:gdLst>
                    <a:gd name="textAreaLeft" fmla="*/ 0 w 397800"/>
                    <a:gd name="textAreaRight" fmla="*/ 398160 w 397800"/>
                    <a:gd name="textAreaTop" fmla="*/ 0 h 340560"/>
                    <a:gd name="textAreaBottom" fmla="*/ 340920 h 340560"/>
                  </a:gdLst>
                  <a:ahLst/>
                  <a:rect l="textAreaLeft" t="textAreaTop" r="textAreaRight" b="textAreaBottom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9" name="Freeform 98"/>
                <p:cNvSpPr/>
                <p:nvPr/>
              </p:nvSpPr>
              <p:spPr>
                <a:xfrm>
                  <a:off x="5455800" y="2435040"/>
                  <a:ext cx="348480" cy="29340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293400"/>
                    <a:gd name="textAreaBottom" fmla="*/ 293760 h 293400"/>
                  </a:gdLst>
                  <a:ahLst/>
                  <a:rect l="textAreaLeft" t="textAreaTop" r="textAreaRight" b="textAreaBottom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5487480" y="2459520"/>
                  <a:ext cx="0" cy="432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01" name="Group 100"/>
            <p:cNvGrpSpPr/>
            <p:nvPr/>
          </p:nvGrpSpPr>
          <p:grpSpPr>
            <a:xfrm>
              <a:off x="4640760" y="3608640"/>
              <a:ext cx="694080" cy="880200"/>
              <a:chOff x="4640760" y="3608640"/>
              <a:chExt cx="694080" cy="880200"/>
            </a:xfrm>
          </p:grpSpPr>
          <p:sp>
            <p:nvSpPr>
              <p:cNvPr id="202" name="Freeform 101"/>
              <p:cNvSpPr/>
              <p:nvPr/>
            </p:nvSpPr>
            <p:spPr>
              <a:xfrm flipH="1">
                <a:off x="4640760" y="3608640"/>
                <a:ext cx="692640" cy="187200"/>
              </a:xfrm>
              <a:custGeom>
                <a:avLst/>
                <a:gdLst>
                  <a:gd name="textAreaLeft" fmla="*/ 360 w 692640"/>
                  <a:gd name="textAreaRight" fmla="*/ 693360 w 692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Freeform 102"/>
              <p:cNvSpPr/>
              <p:nvPr/>
            </p:nvSpPr>
            <p:spPr>
              <a:xfrm flipH="1">
                <a:off x="4651200" y="4264560"/>
                <a:ext cx="671760" cy="224280"/>
              </a:xfrm>
              <a:custGeom>
                <a:avLst/>
                <a:gdLst>
                  <a:gd name="textAreaLeft" fmla="*/ 360 w 671760"/>
                  <a:gd name="textAreaRight" fmla="*/ 672480 w 671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" name="Freeform 103"/>
              <p:cNvSpPr/>
              <p:nvPr/>
            </p:nvSpPr>
            <p:spPr>
              <a:xfrm flipH="1">
                <a:off x="4640760" y="3660840"/>
                <a:ext cx="390960" cy="806400"/>
              </a:xfrm>
              <a:custGeom>
                <a:avLst/>
                <a:gdLst>
                  <a:gd name="textAreaLeft" fmla="*/ 360 w 390960"/>
                  <a:gd name="textAreaRight" fmla="*/ 391680 w 3909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" name="Freeform 104"/>
              <p:cNvSpPr/>
              <p:nvPr/>
            </p:nvSpPr>
            <p:spPr>
              <a:xfrm flipH="1">
                <a:off x="5027400" y="3737160"/>
                <a:ext cx="307440" cy="725760"/>
              </a:xfrm>
              <a:custGeom>
                <a:avLst/>
                <a:gdLst>
                  <a:gd name="textAreaLeft" fmla="*/ 360 w 307440"/>
                  <a:gd name="textAreaRight" fmla="*/ 308160 w 30744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 flipH="1">
                <a:off x="5079240" y="4348800"/>
                <a:ext cx="214920" cy="428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7" name="Oval 106"/>
              <p:cNvSpPr/>
              <p:nvPr/>
            </p:nvSpPr>
            <p:spPr>
              <a:xfrm flipH="1">
                <a:off x="5265720" y="3773160"/>
                <a:ext cx="32760" cy="13680"/>
              </a:xfrm>
              <a:prstGeom prst="ellipse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Line 107"/>
              <p:cNvSpPr/>
              <p:nvPr/>
            </p:nvSpPr>
            <p:spPr>
              <a:xfrm flipH="1">
                <a:off x="5079240" y="431532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" name="Line 108"/>
              <p:cNvSpPr/>
              <p:nvPr/>
            </p:nvSpPr>
            <p:spPr>
              <a:xfrm flipH="1">
                <a:off x="5079240" y="428220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" name="Line 109"/>
              <p:cNvSpPr/>
              <p:nvPr/>
            </p:nvSpPr>
            <p:spPr>
              <a:xfrm flipH="1">
                <a:off x="5079240" y="425016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" name="Line 110"/>
              <p:cNvSpPr/>
              <p:nvPr/>
            </p:nvSpPr>
            <p:spPr>
              <a:xfrm flipH="1">
                <a:off x="5079240" y="421596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" name="Freeform 111"/>
              <p:cNvSpPr/>
              <p:nvPr/>
            </p:nvSpPr>
            <p:spPr>
              <a:xfrm flipH="1">
                <a:off x="5077440" y="3899160"/>
                <a:ext cx="210600" cy="307440"/>
              </a:xfrm>
              <a:custGeom>
                <a:avLst/>
                <a:gdLst>
                  <a:gd name="textAreaLeft" fmla="*/ -360 w 210600"/>
                  <a:gd name="textAreaRight" fmla="*/ 210600 w 21060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Freeform 112"/>
              <p:cNvSpPr/>
              <p:nvPr/>
            </p:nvSpPr>
            <p:spPr>
              <a:xfrm flipH="1">
                <a:off x="5070600" y="3838320"/>
                <a:ext cx="241920" cy="536760"/>
              </a:xfrm>
              <a:custGeom>
                <a:avLst/>
                <a:gdLst>
                  <a:gd name="textAreaLeft" fmla="*/ 360 w 241920"/>
                  <a:gd name="textAreaRight" fmla="*/ 242640 w 241920"/>
                  <a:gd name="textAreaTop" fmla="*/ 0 h 536760"/>
                  <a:gd name="textAreaBottom" fmla="*/ 537120 h 536760"/>
                </a:gdLst>
                <a:ahLst/>
                <a:rect l="textAreaLeft" t="textAreaTop" r="textAreaRight" b="textAreaBottom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Freeform 113"/>
              <p:cNvSpPr/>
              <p:nvPr/>
            </p:nvSpPr>
            <p:spPr>
              <a:xfrm flipH="1">
                <a:off x="5080320" y="3857400"/>
                <a:ext cx="214920" cy="304920"/>
              </a:xfrm>
              <a:custGeom>
                <a:avLst/>
                <a:gdLst>
                  <a:gd name="textAreaLeft" fmla="*/ -360 w 214920"/>
                  <a:gd name="textAreaRight" fmla="*/ 214920 w 214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Line 114"/>
              <p:cNvSpPr/>
              <p:nvPr/>
            </p:nvSpPr>
            <p:spPr>
              <a:xfrm flipH="1">
                <a:off x="5087160" y="3928680"/>
                <a:ext cx="20880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Line 115"/>
              <p:cNvSpPr/>
              <p:nvPr/>
            </p:nvSpPr>
            <p:spPr>
              <a:xfrm flipH="1">
                <a:off x="5084280" y="3993840"/>
                <a:ext cx="21168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Line 116"/>
              <p:cNvSpPr/>
              <p:nvPr/>
            </p:nvSpPr>
            <p:spPr>
              <a:xfrm flipH="1">
                <a:off x="5094360" y="4075560"/>
                <a:ext cx="20124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117"/>
              <p:cNvSpPr/>
              <p:nvPr/>
            </p:nvSpPr>
            <p:spPr>
              <a:xfrm flipH="1">
                <a:off x="5150520" y="3897000"/>
                <a:ext cx="80280" cy="32760"/>
              </a:xfrm>
              <a:custGeom>
                <a:avLst/>
                <a:gdLst>
                  <a:gd name="textAreaLeft" fmla="*/ -360 w 80280"/>
                  <a:gd name="textAreaRight" fmla="*/ 80280 w 802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Line 118"/>
              <p:cNvSpPr/>
              <p:nvPr/>
            </p:nvSpPr>
            <p:spPr>
              <a:xfrm flipH="1">
                <a:off x="5110560" y="3902040"/>
                <a:ext cx="155160" cy="2412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19"/>
              <p:cNvSpPr/>
              <p:nvPr/>
            </p:nvSpPr>
            <p:spPr>
              <a:xfrm flipH="1">
                <a:off x="5096160" y="4020480"/>
                <a:ext cx="183600" cy="63720"/>
              </a:xfrm>
              <a:custGeom>
                <a:avLst/>
                <a:gdLst>
                  <a:gd name="textAreaLeft" fmla="*/ 360 w 183600"/>
                  <a:gd name="textAreaRight" fmla="*/ 184320 w 18360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Freeform 120"/>
              <p:cNvSpPr/>
              <p:nvPr/>
            </p:nvSpPr>
            <p:spPr>
              <a:xfrm flipH="1">
                <a:off x="5096160" y="4102200"/>
                <a:ext cx="183600" cy="71280"/>
              </a:xfrm>
              <a:custGeom>
                <a:avLst/>
                <a:gdLst>
                  <a:gd name="textAreaLeft" fmla="*/ 360 w 183600"/>
                  <a:gd name="textAreaRight" fmla="*/ 184320 w 183600"/>
                  <a:gd name="textAreaTop" fmla="*/ 0 h 71280"/>
                  <a:gd name="textAreaBottom" fmla="*/ 71280 h 7128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Freeform 121"/>
              <p:cNvSpPr/>
              <p:nvPr/>
            </p:nvSpPr>
            <p:spPr>
              <a:xfrm flipH="1">
                <a:off x="5096160" y="3947760"/>
                <a:ext cx="187920" cy="64800"/>
              </a:xfrm>
              <a:custGeom>
                <a:avLst/>
                <a:gdLst>
                  <a:gd name="textAreaLeft" fmla="*/ 360 w 187920"/>
                  <a:gd name="textAreaRight" fmla="*/ 188640 w 1879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Line 122"/>
              <p:cNvSpPr/>
              <p:nvPr/>
            </p:nvSpPr>
            <p:spPr>
              <a:xfrm flipV="1">
                <a:off x="5112720" y="3987720"/>
                <a:ext cx="33840" cy="720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Line 123"/>
              <p:cNvSpPr/>
              <p:nvPr/>
            </p:nvSpPr>
            <p:spPr>
              <a:xfrm flipV="1">
                <a:off x="5112720" y="4059000"/>
                <a:ext cx="33840" cy="720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Line 124"/>
              <p:cNvSpPr/>
              <p:nvPr/>
            </p:nvSpPr>
            <p:spPr>
              <a:xfrm flipV="1">
                <a:off x="5112720" y="4145040"/>
                <a:ext cx="3384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6" name="Line 125"/>
            <p:cNvSpPr/>
            <p:nvPr/>
          </p:nvSpPr>
          <p:spPr>
            <a:xfrm>
              <a:off x="3425760" y="3268800"/>
              <a:ext cx="0" cy="487080"/>
            </a:xfrm>
            <a:prstGeom prst="line">
              <a:avLst/>
            </a:prstGeom>
            <a:ln w="284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26"/>
            <p:cNvGrpSpPr/>
            <p:nvPr/>
          </p:nvGrpSpPr>
          <p:grpSpPr>
            <a:xfrm>
              <a:off x="6013800" y="3460320"/>
              <a:ext cx="695520" cy="881640"/>
              <a:chOff x="6013800" y="3460320"/>
              <a:chExt cx="695520" cy="881640"/>
            </a:xfrm>
          </p:grpSpPr>
          <p:sp>
            <p:nvSpPr>
              <p:cNvPr id="228" name="Freeform 127"/>
              <p:cNvSpPr/>
              <p:nvPr/>
            </p:nvSpPr>
            <p:spPr>
              <a:xfrm flipH="1">
                <a:off x="6014880" y="3460320"/>
                <a:ext cx="690840" cy="187560"/>
              </a:xfrm>
              <a:custGeom>
                <a:avLst/>
                <a:gdLst>
                  <a:gd name="textAreaLeft" fmla="*/ -360 w 690840"/>
                  <a:gd name="textAreaRight" fmla="*/ 690840 w 69084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28"/>
              <p:cNvSpPr/>
              <p:nvPr/>
            </p:nvSpPr>
            <p:spPr>
              <a:xfrm flipH="1">
                <a:off x="6025680" y="4118040"/>
                <a:ext cx="670320" cy="223920"/>
              </a:xfrm>
              <a:custGeom>
                <a:avLst/>
                <a:gdLst>
                  <a:gd name="textAreaLeft" fmla="*/ 360 w 670320"/>
                  <a:gd name="textAreaRight" fmla="*/ 671040 w 6703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129"/>
              <p:cNvSpPr/>
              <p:nvPr/>
            </p:nvSpPr>
            <p:spPr>
              <a:xfrm flipH="1">
                <a:off x="6013440" y="3512520"/>
                <a:ext cx="389160" cy="806760"/>
              </a:xfrm>
              <a:custGeom>
                <a:avLst/>
                <a:gdLst>
                  <a:gd name="textAreaLeft" fmla="*/ -360 w 389160"/>
                  <a:gd name="textAreaRight" fmla="*/ 389160 w 389160"/>
                  <a:gd name="textAreaTop" fmla="*/ 0 h 806760"/>
                  <a:gd name="textAreaBottom" fmla="*/ 807120 h 806760"/>
                </a:gdLst>
                <a:ahLst/>
                <a:rect l="textAreaLeft" t="textAreaTop" r="textAreaRight" b="textAreaBottom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Freeform 130"/>
              <p:cNvSpPr/>
              <p:nvPr/>
            </p:nvSpPr>
            <p:spPr>
              <a:xfrm flipH="1">
                <a:off x="6401160" y="3590280"/>
                <a:ext cx="307800" cy="725040"/>
              </a:xfrm>
              <a:custGeom>
                <a:avLst/>
                <a:gdLst>
                  <a:gd name="textAreaLeft" fmla="*/ -360 w 307800"/>
                  <a:gd name="textAreaRight" fmla="*/ 307800 w 307800"/>
                  <a:gd name="textAreaTop" fmla="*/ 0 h 725040"/>
                  <a:gd name="textAreaBottom" fmla="*/ 725400 h 725040"/>
                </a:gdLst>
                <a:ahLst/>
                <a:rect l="textAreaLeft" t="textAreaTop" r="textAreaRight" b="textAreaBottom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Line 131"/>
              <p:cNvSpPr/>
              <p:nvPr/>
            </p:nvSpPr>
            <p:spPr>
              <a:xfrm flipH="1">
                <a:off x="6452640" y="4201920"/>
                <a:ext cx="21528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Oval 132"/>
              <p:cNvSpPr/>
              <p:nvPr/>
            </p:nvSpPr>
            <p:spPr>
              <a:xfrm flipH="1">
                <a:off x="6641280" y="3624480"/>
                <a:ext cx="32400" cy="14040"/>
              </a:xfrm>
              <a:prstGeom prst="ellipse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Line 133"/>
              <p:cNvSpPr/>
              <p:nvPr/>
            </p:nvSpPr>
            <p:spPr>
              <a:xfrm flipH="1">
                <a:off x="6452640" y="4168800"/>
                <a:ext cx="21528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Line 134"/>
              <p:cNvSpPr/>
              <p:nvPr/>
            </p:nvSpPr>
            <p:spPr>
              <a:xfrm flipH="1">
                <a:off x="6452640" y="4135680"/>
                <a:ext cx="215280" cy="428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Line 135"/>
              <p:cNvSpPr/>
              <p:nvPr/>
            </p:nvSpPr>
            <p:spPr>
              <a:xfrm flipH="1">
                <a:off x="6452640" y="4102560"/>
                <a:ext cx="21528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Line 136"/>
              <p:cNvSpPr/>
              <p:nvPr/>
            </p:nvSpPr>
            <p:spPr>
              <a:xfrm flipH="1">
                <a:off x="6452640" y="4069440"/>
                <a:ext cx="21528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137"/>
              <p:cNvSpPr/>
              <p:nvPr/>
            </p:nvSpPr>
            <p:spPr>
              <a:xfrm flipH="1">
                <a:off x="6452640" y="3751920"/>
                <a:ext cx="209520" cy="308160"/>
              </a:xfrm>
              <a:custGeom>
                <a:avLst/>
                <a:gdLst>
                  <a:gd name="textAreaLeft" fmla="*/ 360 w 209520"/>
                  <a:gd name="textAreaRight" fmla="*/ 210240 w 20952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Freeform 138"/>
              <p:cNvSpPr/>
              <p:nvPr/>
            </p:nvSpPr>
            <p:spPr>
              <a:xfrm flipH="1">
                <a:off x="6444000" y="3691080"/>
                <a:ext cx="240480" cy="537480"/>
              </a:xfrm>
              <a:custGeom>
                <a:avLst/>
                <a:gdLst>
                  <a:gd name="textAreaLeft" fmla="*/ 360 w 240480"/>
                  <a:gd name="textAreaRight" fmla="*/ 241200 w 240480"/>
                  <a:gd name="textAreaTop" fmla="*/ 0 h 537480"/>
                  <a:gd name="textAreaBottom" fmla="*/ 537840 h 537480"/>
                </a:gdLst>
                <a:ahLst/>
                <a:rect l="textAreaLeft" t="textAreaTop" r="textAreaRight" b="textAreaBottom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Freeform 139"/>
              <p:cNvSpPr/>
              <p:nvPr/>
            </p:nvSpPr>
            <p:spPr>
              <a:xfrm flipH="1">
                <a:off x="6455520" y="3711240"/>
                <a:ext cx="213840" cy="305640"/>
              </a:xfrm>
              <a:custGeom>
                <a:avLst/>
                <a:gdLst>
                  <a:gd name="textAreaLeft" fmla="*/ 360 w 213840"/>
                  <a:gd name="textAreaRight" fmla="*/ 214560 w 213840"/>
                  <a:gd name="textAreaTop" fmla="*/ 0 h 305640"/>
                  <a:gd name="textAreaBottom" fmla="*/ 306000 h 305640"/>
                </a:gdLst>
                <a:ahLst/>
                <a:rect l="textAreaLeft" t="textAreaTop" r="textAreaRight" b="textAreaBottom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Line 140"/>
              <p:cNvSpPr/>
              <p:nvPr/>
            </p:nvSpPr>
            <p:spPr>
              <a:xfrm flipH="1">
                <a:off x="6460200" y="3781440"/>
                <a:ext cx="20952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Line 141"/>
              <p:cNvSpPr/>
              <p:nvPr/>
            </p:nvSpPr>
            <p:spPr>
              <a:xfrm flipH="1">
                <a:off x="6458760" y="3846600"/>
                <a:ext cx="21096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Line 142"/>
              <p:cNvSpPr/>
              <p:nvPr/>
            </p:nvSpPr>
            <p:spPr>
              <a:xfrm flipH="1">
                <a:off x="6468840" y="3927960"/>
                <a:ext cx="20088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Freeform 143"/>
              <p:cNvSpPr/>
              <p:nvPr/>
            </p:nvSpPr>
            <p:spPr>
              <a:xfrm flipH="1">
                <a:off x="6525360" y="3749400"/>
                <a:ext cx="79920" cy="33120"/>
              </a:xfrm>
              <a:custGeom>
                <a:avLst/>
                <a:gdLst>
                  <a:gd name="textAreaLeft" fmla="*/ 360 w 79920"/>
                  <a:gd name="textAreaRight" fmla="*/ 80640 w 79920"/>
                  <a:gd name="textAreaTop" fmla="*/ 0 h 33120"/>
                  <a:gd name="textAreaBottom" fmla="*/ 33120 h 33120"/>
                </a:gdLst>
                <a:ahLst/>
                <a:rect l="textAreaLeft" t="textAreaTop" r="textAreaRight" b="textAreaBottom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Line 144"/>
              <p:cNvSpPr/>
              <p:nvPr/>
            </p:nvSpPr>
            <p:spPr>
              <a:xfrm flipH="1">
                <a:off x="6485040" y="3754800"/>
                <a:ext cx="154440" cy="2412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145"/>
              <p:cNvSpPr/>
              <p:nvPr/>
            </p:nvSpPr>
            <p:spPr>
              <a:xfrm flipH="1">
                <a:off x="6470640" y="3873240"/>
                <a:ext cx="184320" cy="63720"/>
              </a:xfrm>
              <a:custGeom>
                <a:avLst/>
                <a:gdLst>
                  <a:gd name="textAreaLeft" fmla="*/ 360 w 184320"/>
                  <a:gd name="textAreaRight" fmla="*/ 185040 w 1843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Freeform 146"/>
              <p:cNvSpPr/>
              <p:nvPr/>
            </p:nvSpPr>
            <p:spPr>
              <a:xfrm flipH="1">
                <a:off x="6470640" y="3954600"/>
                <a:ext cx="184320" cy="71280"/>
              </a:xfrm>
              <a:custGeom>
                <a:avLst/>
                <a:gdLst>
                  <a:gd name="textAreaLeft" fmla="*/ 360 w 184320"/>
                  <a:gd name="textAreaRight" fmla="*/ 185040 w 184320"/>
                  <a:gd name="textAreaTop" fmla="*/ 0 h 71280"/>
                  <a:gd name="textAreaBottom" fmla="*/ 71280 h 7128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Freeform 147"/>
              <p:cNvSpPr/>
              <p:nvPr/>
            </p:nvSpPr>
            <p:spPr>
              <a:xfrm flipH="1">
                <a:off x="6470640" y="3800520"/>
                <a:ext cx="187200" cy="6480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148"/>
              <p:cNvSpPr/>
              <p:nvPr/>
            </p:nvSpPr>
            <p:spPr>
              <a:xfrm flipV="1">
                <a:off x="6486840" y="383940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149"/>
              <p:cNvSpPr/>
              <p:nvPr/>
            </p:nvSpPr>
            <p:spPr>
              <a:xfrm flipV="1">
                <a:off x="6486840" y="391104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150"/>
              <p:cNvSpPr/>
              <p:nvPr/>
            </p:nvSpPr>
            <p:spPr>
              <a:xfrm flipV="1">
                <a:off x="6486840" y="399780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2" name="Group 151"/>
            <p:cNvGrpSpPr/>
            <p:nvPr/>
          </p:nvGrpSpPr>
          <p:grpSpPr>
            <a:xfrm>
              <a:off x="3239640" y="3512520"/>
              <a:ext cx="694080" cy="881280"/>
              <a:chOff x="3239640" y="3512520"/>
              <a:chExt cx="694080" cy="881280"/>
            </a:xfrm>
          </p:grpSpPr>
          <p:sp>
            <p:nvSpPr>
              <p:cNvPr id="253" name="Freeform 152"/>
              <p:cNvSpPr/>
              <p:nvPr/>
            </p:nvSpPr>
            <p:spPr>
              <a:xfrm flipH="1">
                <a:off x="3239640" y="3512520"/>
                <a:ext cx="692640" cy="187200"/>
              </a:xfrm>
              <a:custGeom>
                <a:avLst/>
                <a:gdLst>
                  <a:gd name="textAreaLeft" fmla="*/ 360 w 692640"/>
                  <a:gd name="textAreaRight" fmla="*/ 693360 w 692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Freeform 153"/>
              <p:cNvSpPr/>
              <p:nvPr/>
            </p:nvSpPr>
            <p:spPr>
              <a:xfrm flipH="1">
                <a:off x="3250080" y="4169520"/>
                <a:ext cx="671760" cy="224280"/>
              </a:xfrm>
              <a:custGeom>
                <a:avLst/>
                <a:gdLst>
                  <a:gd name="textAreaLeft" fmla="*/ 360 w 671760"/>
                  <a:gd name="textAreaRight" fmla="*/ 672480 w 671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Freeform 154"/>
              <p:cNvSpPr/>
              <p:nvPr/>
            </p:nvSpPr>
            <p:spPr>
              <a:xfrm flipH="1">
                <a:off x="3239640" y="3564720"/>
                <a:ext cx="390960" cy="807480"/>
              </a:xfrm>
              <a:custGeom>
                <a:avLst/>
                <a:gdLst>
                  <a:gd name="textAreaLeft" fmla="*/ 360 w 390960"/>
                  <a:gd name="textAreaRight" fmla="*/ 391680 w 390960"/>
                  <a:gd name="textAreaTop" fmla="*/ 0 h 807480"/>
                  <a:gd name="textAreaBottom" fmla="*/ 807840 h 807480"/>
                </a:gdLst>
                <a:ahLst/>
                <a:rect l="textAreaLeft" t="textAreaTop" r="textAreaRight" b="textAreaBottom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Freeform 155"/>
              <p:cNvSpPr/>
              <p:nvPr/>
            </p:nvSpPr>
            <p:spPr>
              <a:xfrm flipH="1">
                <a:off x="3626280" y="3642480"/>
                <a:ext cx="307440" cy="725760"/>
              </a:xfrm>
              <a:custGeom>
                <a:avLst/>
                <a:gdLst>
                  <a:gd name="textAreaLeft" fmla="*/ 360 w 307440"/>
                  <a:gd name="textAreaRight" fmla="*/ 308160 w 307440"/>
                  <a:gd name="textAreaTop" fmla="*/ 0 h 725760"/>
                  <a:gd name="textAreaBottom" fmla="*/ 726120 h 725760"/>
                </a:gdLst>
                <a:ahLst/>
                <a:rect l="textAreaLeft" t="textAreaTop" r="textAreaRight" b="textAreaBottom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deded"/>
                  </a:gs>
                  <a:gs pos="100000">
                    <a:srgbClr val="b2b2b2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Line 156"/>
              <p:cNvSpPr/>
              <p:nvPr/>
            </p:nvSpPr>
            <p:spPr>
              <a:xfrm flipH="1">
                <a:off x="3677760" y="425520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Oval 157"/>
              <p:cNvSpPr/>
              <p:nvPr/>
            </p:nvSpPr>
            <p:spPr>
              <a:xfrm flipH="1">
                <a:off x="3865680" y="3677040"/>
                <a:ext cx="32760" cy="14040"/>
              </a:xfrm>
              <a:prstGeom prst="ellipse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Line 158"/>
              <p:cNvSpPr/>
              <p:nvPr/>
            </p:nvSpPr>
            <p:spPr>
              <a:xfrm flipH="1">
                <a:off x="3677760" y="422172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Line 159"/>
              <p:cNvSpPr/>
              <p:nvPr/>
            </p:nvSpPr>
            <p:spPr>
              <a:xfrm flipH="1">
                <a:off x="3677760" y="418860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Line 160"/>
              <p:cNvSpPr/>
              <p:nvPr/>
            </p:nvSpPr>
            <p:spPr>
              <a:xfrm flipH="1">
                <a:off x="3677760" y="415548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Line 161"/>
              <p:cNvSpPr/>
              <p:nvPr/>
            </p:nvSpPr>
            <p:spPr>
              <a:xfrm flipH="1">
                <a:off x="3677760" y="4122360"/>
                <a:ext cx="214920" cy="43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Freeform 162"/>
              <p:cNvSpPr/>
              <p:nvPr/>
            </p:nvSpPr>
            <p:spPr>
              <a:xfrm flipH="1">
                <a:off x="3676320" y="3804480"/>
                <a:ext cx="210600" cy="308520"/>
              </a:xfrm>
              <a:custGeom>
                <a:avLst/>
                <a:gdLst>
                  <a:gd name="textAreaLeft" fmla="*/ -360 w 210600"/>
                  <a:gd name="textAreaRight" fmla="*/ 210600 w 210600"/>
                  <a:gd name="textAreaTop" fmla="*/ 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Freeform 163"/>
              <p:cNvSpPr/>
              <p:nvPr/>
            </p:nvSpPr>
            <p:spPr>
              <a:xfrm flipH="1">
                <a:off x="3668760" y="3743280"/>
                <a:ext cx="241560" cy="537120"/>
              </a:xfrm>
              <a:custGeom>
                <a:avLst/>
                <a:gdLst>
                  <a:gd name="textAreaLeft" fmla="*/ -360 w 241560"/>
                  <a:gd name="textAreaRight" fmla="*/ 241560 w 24156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Freeform 164"/>
              <p:cNvSpPr/>
              <p:nvPr/>
            </p:nvSpPr>
            <p:spPr>
              <a:xfrm flipH="1">
                <a:off x="3679200" y="3763800"/>
                <a:ext cx="214920" cy="306000"/>
              </a:xfrm>
              <a:custGeom>
                <a:avLst/>
                <a:gdLst>
                  <a:gd name="textAreaLeft" fmla="*/ -360 w 214920"/>
                  <a:gd name="textAreaRight" fmla="*/ 214920 w 214920"/>
                  <a:gd name="textAreaTop" fmla="*/ 0 h 306000"/>
                  <a:gd name="textAreaBottom" fmla="*/ 306000 h 306000"/>
                </a:gdLst>
                <a:ahLst/>
                <a:rect l="textAreaLeft" t="textAreaTop" r="textAreaRight" b="textAreaBottom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Line 165"/>
              <p:cNvSpPr/>
              <p:nvPr/>
            </p:nvSpPr>
            <p:spPr>
              <a:xfrm flipH="1">
                <a:off x="3686040" y="3834000"/>
                <a:ext cx="208800" cy="356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Line 166"/>
              <p:cNvSpPr/>
              <p:nvPr/>
            </p:nvSpPr>
            <p:spPr>
              <a:xfrm flipH="1">
                <a:off x="3683160" y="3898800"/>
                <a:ext cx="211680" cy="356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Line 167"/>
              <p:cNvSpPr/>
              <p:nvPr/>
            </p:nvSpPr>
            <p:spPr>
              <a:xfrm flipH="1">
                <a:off x="3693240" y="3980880"/>
                <a:ext cx="201240" cy="3528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Freeform 168"/>
              <p:cNvSpPr/>
              <p:nvPr/>
            </p:nvSpPr>
            <p:spPr>
              <a:xfrm flipH="1">
                <a:off x="3749400" y="3801960"/>
                <a:ext cx="80280" cy="33120"/>
              </a:xfrm>
              <a:custGeom>
                <a:avLst/>
                <a:gdLst>
                  <a:gd name="textAreaLeft" fmla="*/ -360 w 80280"/>
                  <a:gd name="textAreaRight" fmla="*/ 80280 w 80280"/>
                  <a:gd name="textAreaTop" fmla="*/ 0 h 33120"/>
                  <a:gd name="textAreaBottom" fmla="*/ 33120 h 33120"/>
                </a:gdLst>
                <a:ahLst/>
                <a:rect l="textAreaLeft" t="textAreaTop" r="textAreaRight" b="textAreaBottom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Line 169"/>
              <p:cNvSpPr/>
              <p:nvPr/>
            </p:nvSpPr>
            <p:spPr>
              <a:xfrm flipH="1">
                <a:off x="3709440" y="3807360"/>
                <a:ext cx="155160" cy="2412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Freeform 170"/>
              <p:cNvSpPr/>
              <p:nvPr/>
            </p:nvSpPr>
            <p:spPr>
              <a:xfrm flipH="1">
                <a:off x="3694320" y="3925800"/>
                <a:ext cx="183240" cy="63360"/>
              </a:xfrm>
              <a:custGeom>
                <a:avLst/>
                <a:gdLst>
                  <a:gd name="textAreaLeft" fmla="*/ -360 w 183240"/>
                  <a:gd name="textAreaRight" fmla="*/ 183240 w 1832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Freeform 171"/>
              <p:cNvSpPr/>
              <p:nvPr/>
            </p:nvSpPr>
            <p:spPr>
              <a:xfrm flipH="1">
                <a:off x="3694320" y="4007520"/>
                <a:ext cx="183240" cy="71280"/>
              </a:xfrm>
              <a:custGeom>
                <a:avLst/>
                <a:gdLst>
                  <a:gd name="textAreaLeft" fmla="*/ -360 w 183240"/>
                  <a:gd name="textAreaRight" fmla="*/ 183240 w 183240"/>
                  <a:gd name="textAreaTop" fmla="*/ 0 h 71280"/>
                  <a:gd name="textAreaBottom" fmla="*/ 71280 h 7128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Freeform 172"/>
              <p:cNvSpPr/>
              <p:nvPr/>
            </p:nvSpPr>
            <p:spPr>
              <a:xfrm flipH="1">
                <a:off x="3695040" y="3853080"/>
                <a:ext cx="187920" cy="64800"/>
              </a:xfrm>
              <a:custGeom>
                <a:avLst/>
                <a:gdLst>
                  <a:gd name="textAreaLeft" fmla="*/ 360 w 187920"/>
                  <a:gd name="textAreaRight" fmla="*/ 188640 w 1879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Line 173"/>
              <p:cNvSpPr/>
              <p:nvPr/>
            </p:nvSpPr>
            <p:spPr>
              <a:xfrm flipV="1">
                <a:off x="3711240" y="389232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174"/>
              <p:cNvSpPr/>
              <p:nvPr/>
            </p:nvSpPr>
            <p:spPr>
              <a:xfrm flipV="1">
                <a:off x="3711240" y="396360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Line 175"/>
              <p:cNvSpPr/>
              <p:nvPr/>
            </p:nvSpPr>
            <p:spPr>
              <a:xfrm flipV="1">
                <a:off x="3711240" y="4050360"/>
                <a:ext cx="34200" cy="756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Text Box 176"/>
            <p:cNvSpPr/>
            <p:nvPr/>
          </p:nvSpPr>
          <p:spPr>
            <a:xfrm>
              <a:off x="2205000" y="3415680"/>
              <a:ext cx="950760" cy="3405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新細明體"/>
                </a:rPr>
                <a:t>Restricted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新細明體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8" name="Group 177"/>
            <p:cNvGrpSpPr/>
            <p:nvPr/>
          </p:nvGrpSpPr>
          <p:grpSpPr>
            <a:xfrm>
              <a:off x="2777400" y="3611160"/>
              <a:ext cx="772560" cy="738360"/>
              <a:chOff x="2777400" y="3611160"/>
              <a:chExt cx="772560" cy="738360"/>
            </a:xfrm>
          </p:grpSpPr>
          <p:sp>
            <p:nvSpPr>
              <p:cNvPr id="279" name="AutoShape 178"/>
              <p:cNvSpPr/>
              <p:nvPr/>
            </p:nvSpPr>
            <p:spPr>
              <a:xfrm>
                <a:off x="2777400" y="3757680"/>
                <a:ext cx="684000" cy="584280"/>
              </a:xfrm>
              <a:prstGeom prst="can">
                <a:avLst>
                  <a:gd name="adj" fmla="val 25569"/>
                </a:avLst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0" name="Group 179"/>
              <p:cNvGrpSpPr/>
              <p:nvPr/>
            </p:nvGrpSpPr>
            <p:grpSpPr>
              <a:xfrm>
                <a:off x="2900880" y="3611160"/>
                <a:ext cx="649080" cy="738360"/>
                <a:chOff x="2900880" y="3611160"/>
                <a:chExt cx="649080" cy="738360"/>
              </a:xfrm>
            </p:grpSpPr>
            <p:sp>
              <p:nvSpPr>
                <p:cNvPr id="281" name="Freeform 180"/>
                <p:cNvSpPr/>
                <p:nvPr/>
              </p:nvSpPr>
              <p:spPr>
                <a:xfrm>
                  <a:off x="3078000" y="3792240"/>
                  <a:ext cx="323280" cy="46152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461520"/>
                    <a:gd name="textAreaBottom" fmla="*/ 461880 h 461520"/>
                  </a:gdLst>
                  <a:ahLst/>
                  <a:rect l="textAreaLeft" t="textAreaTop" r="textAreaRight" b="textAreaBottom"/>
                  <a:pathLst>
                    <a:path w="528" h="960">
                      <a:moveTo>
                        <a:pt x="0" y="0"/>
                      </a:moveTo>
                      <a:lnTo>
                        <a:pt x="0" y="960"/>
                      </a:lnTo>
                      <a:lnTo>
                        <a:pt x="528" y="9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Line 181"/>
                <p:cNvSpPr/>
                <p:nvPr/>
              </p:nvSpPr>
              <p:spPr>
                <a:xfrm>
                  <a:off x="3078000" y="4001400"/>
                  <a:ext cx="294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3" name="Group 182"/>
                <p:cNvGrpSpPr/>
                <p:nvPr/>
              </p:nvGrpSpPr>
              <p:grpSpPr>
                <a:xfrm>
                  <a:off x="3310560" y="4139280"/>
                  <a:ext cx="239400" cy="210240"/>
                  <a:chOff x="3310560" y="4139280"/>
                  <a:chExt cx="239400" cy="210240"/>
                </a:xfrm>
              </p:grpSpPr>
              <p:grpSp>
                <p:nvGrpSpPr>
                  <p:cNvPr id="284" name="Group 183"/>
                  <p:cNvGrpSpPr/>
                  <p:nvPr/>
                </p:nvGrpSpPr>
                <p:grpSpPr>
                  <a:xfrm>
                    <a:off x="3310560" y="4139280"/>
                    <a:ext cx="239400" cy="210240"/>
                    <a:chOff x="3310560" y="4139280"/>
                    <a:chExt cx="239400" cy="210240"/>
                  </a:xfrm>
                </p:grpSpPr>
                <p:sp>
                  <p:nvSpPr>
                    <p:cNvPr id="285" name="Freeform 184"/>
                    <p:cNvSpPr/>
                    <p:nvPr/>
                  </p:nvSpPr>
                  <p:spPr>
                    <a:xfrm>
                      <a:off x="3314880" y="4143240"/>
                      <a:ext cx="235080" cy="206280"/>
                    </a:xfrm>
                    <a:custGeom>
                      <a:avLst/>
                      <a:gdLst>
                        <a:gd name="textAreaLeft" fmla="*/ 0 w 235080"/>
                        <a:gd name="textAreaRight" fmla="*/ 235440 w 235080"/>
                        <a:gd name="textAreaTop" fmla="*/ 0 h 206280"/>
                        <a:gd name="textAreaBottom" fmla="*/ 206640 h 206280"/>
                      </a:gdLst>
                      <a:ahLst/>
                      <a:rect l="textAreaLeft" t="textAreaTop" r="textAreaRight" b="textAreaBottom"/>
                      <a:pathLst>
                        <a:path w="384" h="432">
                          <a:moveTo>
                            <a:pt x="240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384" y="432"/>
                          </a:lnTo>
                          <a:lnTo>
                            <a:pt x="384" y="96"/>
                          </a:lnTo>
                          <a:lnTo>
                            <a:pt x="288" y="0"/>
                          </a:lnTo>
                          <a:lnTo>
                            <a:pt x="2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86" name="Freeform 185"/>
                    <p:cNvSpPr/>
                    <p:nvPr/>
                  </p:nvSpPr>
                  <p:spPr>
                    <a:xfrm>
                      <a:off x="3310560" y="4139280"/>
                      <a:ext cx="234720" cy="206640"/>
                    </a:xfrm>
                    <a:custGeom>
                      <a:avLst/>
                      <a:gdLst>
                        <a:gd name="textAreaLeft" fmla="*/ 0 w 234720"/>
                        <a:gd name="textAreaRight" fmla="*/ 235080 w 234720"/>
                        <a:gd name="textAreaTop" fmla="*/ 0 h 206640"/>
                        <a:gd name="textAreaBottom" fmla="*/ 207000 h 206640"/>
                      </a:gdLst>
                      <a:ahLst/>
                      <a:rect l="textAreaLeft" t="textAreaTop" r="textAreaRight" b="textAreaBottom"/>
                      <a:pathLst>
                        <a:path w="384" h="432">
                          <a:moveTo>
                            <a:pt x="240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384" y="432"/>
                          </a:lnTo>
                          <a:lnTo>
                            <a:pt x="384" y="96"/>
                          </a:lnTo>
                          <a:lnTo>
                            <a:pt x="288" y="0"/>
                          </a:lnTo>
                          <a:lnTo>
                            <a:pt x="24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287" name="Freeform 186"/>
                  <p:cNvSpPr/>
                  <p:nvPr/>
                </p:nvSpPr>
                <p:spPr>
                  <a:xfrm>
                    <a:off x="3310560" y="4185000"/>
                    <a:ext cx="234720" cy="160560"/>
                  </a:xfrm>
                  <a:custGeom>
                    <a:avLst/>
                    <a:gdLst>
                      <a:gd name="textAreaLeft" fmla="*/ 0 w 234720"/>
                      <a:gd name="textAreaRight" fmla="*/ 235080 w 23472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384" h="336">
                        <a:moveTo>
                          <a:pt x="0" y="336"/>
                        </a:moveTo>
                        <a:lnTo>
                          <a:pt x="384" y="336"/>
                        </a:lnTo>
                        <a:lnTo>
                          <a:pt x="384" y="0"/>
                        </a:lnTo>
                      </a:path>
                    </a:pathLst>
                  </a:custGeom>
                  <a:noFill/>
                  <a:ln w="12600">
                    <a:solidFill>
                      <a:srgbClr val="cecec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288" name="Group 187"/>
                  <p:cNvGrpSpPr/>
                  <p:nvPr/>
                </p:nvGrpSpPr>
                <p:grpSpPr>
                  <a:xfrm>
                    <a:off x="3487320" y="4139280"/>
                    <a:ext cx="57960" cy="44640"/>
                    <a:chOff x="3487320" y="4139280"/>
                    <a:chExt cx="57960" cy="44640"/>
                  </a:xfrm>
                </p:grpSpPr>
                <p:sp>
                  <p:nvSpPr>
                    <p:cNvPr id="289" name="Freeform 188"/>
                    <p:cNvSpPr/>
                    <p:nvPr/>
                  </p:nvSpPr>
                  <p:spPr>
                    <a:xfrm>
                      <a:off x="3487320" y="4139280"/>
                      <a:ext cx="57960" cy="44640"/>
                    </a:xfrm>
                    <a:custGeom>
                      <a:avLst/>
                      <a:gdLst>
                        <a:gd name="textAreaLeft" fmla="*/ 0 w 57960"/>
                        <a:gd name="textAreaRight" fmla="*/ 58320 w 5796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96" h="96">
                          <a:moveTo>
                            <a:pt x="0" y="0"/>
                          </a:moveTo>
                          <a:lnTo>
                            <a:pt x="0" y="96"/>
                          </a:lnTo>
                          <a:lnTo>
                            <a:pt x="96" y="9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90" name="Freeform 189"/>
                    <p:cNvSpPr/>
                    <p:nvPr/>
                  </p:nvSpPr>
                  <p:spPr>
                    <a:xfrm>
                      <a:off x="3487320" y="4139280"/>
                      <a:ext cx="57960" cy="44640"/>
                    </a:xfrm>
                    <a:custGeom>
                      <a:avLst/>
                      <a:gdLst>
                        <a:gd name="textAreaLeft" fmla="*/ 0 w 57960"/>
                        <a:gd name="textAreaRight" fmla="*/ 58320 w 57960"/>
                        <a:gd name="textAreaTop" fmla="*/ 0 h 44640"/>
                        <a:gd name="textAreaBottom" fmla="*/ 45000 h 44640"/>
                      </a:gdLst>
                      <a:ahLst/>
                      <a:rect l="textAreaLeft" t="textAreaTop" r="textAreaRight" b="textAreaBottom"/>
                      <a:pathLst>
                        <a:path w="96" h="96">
                          <a:moveTo>
                            <a:pt x="0" y="0"/>
                          </a:moveTo>
                          <a:lnTo>
                            <a:pt x="0" y="96"/>
                          </a:lnTo>
                          <a:lnTo>
                            <a:pt x="96" y="9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291" name="Freeform 190"/>
                  <p:cNvSpPr/>
                  <p:nvPr/>
                </p:nvSpPr>
                <p:spPr>
                  <a:xfrm>
                    <a:off x="3310560" y="4139280"/>
                    <a:ext cx="175320" cy="206640"/>
                  </a:xfrm>
                  <a:custGeom>
                    <a:avLst/>
                    <a:gdLst>
                      <a:gd name="textAreaLeft" fmla="*/ 0 w 175320"/>
                      <a:gd name="textAreaRight" fmla="*/ 175680 w 175320"/>
                      <a:gd name="textAreaTop" fmla="*/ 0 h 206640"/>
                      <a:gd name="textAreaBottom" fmla="*/ 207000 h 206640"/>
                    </a:gdLst>
                    <a:ahLst/>
                    <a:rect l="textAreaLeft" t="textAreaTop" r="textAreaRight" b="textAreaBottom"/>
                    <a:pathLst>
                      <a:path w="288" h="432">
                        <a:moveTo>
                          <a:pt x="0" y="432"/>
                        </a:moveTo>
                        <a:lnTo>
                          <a:pt x="0" y="0"/>
                        </a:lnTo>
                        <a:lnTo>
                          <a:pt x="288" y="0"/>
                        </a:lnTo>
                        <a:lnTo>
                          <a:pt x="288" y="96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92" name="Group 191"/>
                <p:cNvGrpSpPr/>
                <p:nvPr/>
              </p:nvGrpSpPr>
              <p:grpSpPr>
                <a:xfrm>
                  <a:off x="3310560" y="3885480"/>
                  <a:ext cx="239400" cy="209880"/>
                  <a:chOff x="3310560" y="3885480"/>
                  <a:chExt cx="239400" cy="209880"/>
                </a:xfrm>
              </p:grpSpPr>
              <p:grpSp>
                <p:nvGrpSpPr>
                  <p:cNvPr id="293" name="Group 192"/>
                  <p:cNvGrpSpPr/>
                  <p:nvPr/>
                </p:nvGrpSpPr>
                <p:grpSpPr>
                  <a:xfrm>
                    <a:off x="3310560" y="3885480"/>
                    <a:ext cx="239400" cy="209880"/>
                    <a:chOff x="3310560" y="3885480"/>
                    <a:chExt cx="239400" cy="209880"/>
                  </a:xfrm>
                </p:grpSpPr>
                <p:sp>
                  <p:nvSpPr>
                    <p:cNvPr id="294" name="Freeform 193"/>
                    <p:cNvSpPr/>
                    <p:nvPr/>
                  </p:nvSpPr>
                  <p:spPr>
                    <a:xfrm>
                      <a:off x="3314880" y="3889080"/>
                      <a:ext cx="235080" cy="206280"/>
                    </a:xfrm>
                    <a:custGeom>
                      <a:avLst/>
                      <a:gdLst>
                        <a:gd name="textAreaLeft" fmla="*/ 0 w 235080"/>
                        <a:gd name="textAreaRight" fmla="*/ 235440 w 235080"/>
                        <a:gd name="textAreaTop" fmla="*/ 0 h 206280"/>
                        <a:gd name="textAreaBottom" fmla="*/ 206640 h 206280"/>
                      </a:gdLst>
                      <a:ahLst/>
                      <a:rect l="textAreaLeft" t="textAreaTop" r="textAreaRight" b="textAreaBottom"/>
                      <a:pathLst>
                        <a:path w="384" h="432">
                          <a:moveTo>
                            <a:pt x="240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384" y="432"/>
                          </a:lnTo>
                          <a:lnTo>
                            <a:pt x="384" y="96"/>
                          </a:lnTo>
                          <a:lnTo>
                            <a:pt x="288" y="0"/>
                          </a:lnTo>
                          <a:lnTo>
                            <a:pt x="2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95" name="Freeform 194"/>
                    <p:cNvSpPr/>
                    <p:nvPr/>
                  </p:nvSpPr>
                  <p:spPr>
                    <a:xfrm>
                      <a:off x="3310560" y="3885480"/>
                      <a:ext cx="234720" cy="206280"/>
                    </a:xfrm>
                    <a:custGeom>
                      <a:avLst/>
                      <a:gdLst>
                        <a:gd name="textAreaLeft" fmla="*/ 0 w 234720"/>
                        <a:gd name="textAreaRight" fmla="*/ 235080 w 234720"/>
                        <a:gd name="textAreaTop" fmla="*/ 0 h 206280"/>
                        <a:gd name="textAreaBottom" fmla="*/ 206640 h 206280"/>
                      </a:gdLst>
                      <a:ahLst/>
                      <a:rect l="textAreaLeft" t="textAreaTop" r="textAreaRight" b="textAreaBottom"/>
                      <a:pathLst>
                        <a:path w="384" h="432">
                          <a:moveTo>
                            <a:pt x="240" y="0"/>
                          </a:moveTo>
                          <a:lnTo>
                            <a:pt x="0" y="0"/>
                          </a:lnTo>
                          <a:lnTo>
                            <a:pt x="0" y="432"/>
                          </a:lnTo>
                          <a:lnTo>
                            <a:pt x="384" y="432"/>
                          </a:lnTo>
                          <a:lnTo>
                            <a:pt x="384" y="96"/>
                          </a:lnTo>
                          <a:lnTo>
                            <a:pt x="288" y="0"/>
                          </a:lnTo>
                          <a:lnTo>
                            <a:pt x="24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296" name="Freeform 195"/>
                  <p:cNvSpPr/>
                  <p:nvPr/>
                </p:nvSpPr>
                <p:spPr>
                  <a:xfrm>
                    <a:off x="3310560" y="3931200"/>
                    <a:ext cx="234720" cy="160200"/>
                  </a:xfrm>
                  <a:custGeom>
                    <a:avLst/>
                    <a:gdLst>
                      <a:gd name="textAreaLeft" fmla="*/ 0 w 234720"/>
                      <a:gd name="textAreaRight" fmla="*/ 235080 w 234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384" h="336">
                        <a:moveTo>
                          <a:pt x="0" y="336"/>
                        </a:moveTo>
                        <a:lnTo>
                          <a:pt x="384" y="336"/>
                        </a:lnTo>
                        <a:lnTo>
                          <a:pt x="384" y="0"/>
                        </a:lnTo>
                      </a:path>
                    </a:pathLst>
                  </a:custGeom>
                  <a:noFill/>
                  <a:ln w="12600">
                    <a:solidFill>
                      <a:srgbClr val="cecec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297" name="Group 196"/>
                  <p:cNvGrpSpPr/>
                  <p:nvPr/>
                </p:nvGrpSpPr>
                <p:grpSpPr>
                  <a:xfrm>
                    <a:off x="3487320" y="3885480"/>
                    <a:ext cx="57960" cy="44280"/>
                    <a:chOff x="3487320" y="3885480"/>
                    <a:chExt cx="57960" cy="44280"/>
                  </a:xfrm>
                </p:grpSpPr>
                <p:sp>
                  <p:nvSpPr>
                    <p:cNvPr id="298" name="Freeform 197"/>
                    <p:cNvSpPr/>
                    <p:nvPr/>
                  </p:nvSpPr>
                  <p:spPr>
                    <a:xfrm>
                      <a:off x="3487320" y="3885480"/>
                      <a:ext cx="57960" cy="44280"/>
                    </a:xfrm>
                    <a:custGeom>
                      <a:avLst/>
                      <a:gdLst>
                        <a:gd name="textAreaLeft" fmla="*/ 0 w 57960"/>
                        <a:gd name="textAreaRight" fmla="*/ 58320 w 5796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96" h="96">
                          <a:moveTo>
                            <a:pt x="0" y="0"/>
                          </a:moveTo>
                          <a:lnTo>
                            <a:pt x="0" y="96"/>
                          </a:lnTo>
                          <a:lnTo>
                            <a:pt x="96" y="9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99" name="Freeform 198"/>
                    <p:cNvSpPr/>
                    <p:nvPr/>
                  </p:nvSpPr>
                  <p:spPr>
                    <a:xfrm>
                      <a:off x="3487320" y="3885480"/>
                      <a:ext cx="57960" cy="44280"/>
                    </a:xfrm>
                    <a:custGeom>
                      <a:avLst/>
                      <a:gdLst>
                        <a:gd name="textAreaLeft" fmla="*/ 0 w 57960"/>
                        <a:gd name="textAreaRight" fmla="*/ 58320 w 57960"/>
                        <a:gd name="textAreaTop" fmla="*/ 0 h 44280"/>
                        <a:gd name="textAreaBottom" fmla="*/ 44640 h 44280"/>
                      </a:gdLst>
                      <a:ahLst/>
                      <a:rect l="textAreaLeft" t="textAreaTop" r="textAreaRight" b="textAreaBottom"/>
                      <a:pathLst>
                        <a:path w="96" h="96">
                          <a:moveTo>
                            <a:pt x="0" y="0"/>
                          </a:moveTo>
                          <a:lnTo>
                            <a:pt x="0" y="96"/>
                          </a:lnTo>
                          <a:lnTo>
                            <a:pt x="96" y="9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" bIns="-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00" name="Freeform 199"/>
                  <p:cNvSpPr/>
                  <p:nvPr/>
                </p:nvSpPr>
                <p:spPr>
                  <a:xfrm>
                    <a:off x="3310560" y="3885480"/>
                    <a:ext cx="175320" cy="206280"/>
                  </a:xfrm>
                  <a:custGeom>
                    <a:avLst/>
                    <a:gdLst>
                      <a:gd name="textAreaLeft" fmla="*/ 0 w 175320"/>
                      <a:gd name="textAreaRight" fmla="*/ 175680 w 17532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88" h="432">
                        <a:moveTo>
                          <a:pt x="0" y="432"/>
                        </a:moveTo>
                        <a:lnTo>
                          <a:pt x="0" y="0"/>
                        </a:lnTo>
                        <a:lnTo>
                          <a:pt x="288" y="0"/>
                        </a:lnTo>
                        <a:lnTo>
                          <a:pt x="288" y="96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01" name="Group 200"/>
                <p:cNvGrpSpPr/>
                <p:nvPr/>
              </p:nvGrpSpPr>
              <p:grpSpPr>
                <a:xfrm>
                  <a:off x="2900880" y="3611160"/>
                  <a:ext cx="394560" cy="223920"/>
                  <a:chOff x="2900880" y="3611160"/>
                  <a:chExt cx="394560" cy="223920"/>
                </a:xfrm>
              </p:grpSpPr>
              <p:grpSp>
                <p:nvGrpSpPr>
                  <p:cNvPr id="302" name="Group 201"/>
                  <p:cNvGrpSpPr/>
                  <p:nvPr/>
                </p:nvGrpSpPr>
                <p:grpSpPr>
                  <a:xfrm>
                    <a:off x="2936520" y="3611160"/>
                    <a:ext cx="358560" cy="223920"/>
                    <a:chOff x="2936520" y="3611160"/>
                    <a:chExt cx="358560" cy="223920"/>
                  </a:xfrm>
                </p:grpSpPr>
                <p:sp>
                  <p:nvSpPr>
                    <p:cNvPr id="303" name="Freeform 202"/>
                    <p:cNvSpPr/>
                    <p:nvPr/>
                  </p:nvSpPr>
                  <p:spPr>
                    <a:xfrm>
                      <a:off x="2940840" y="3614760"/>
                      <a:ext cx="354240" cy="220320"/>
                    </a:xfrm>
                    <a:custGeom>
                      <a:avLst/>
                      <a:gdLst>
                        <a:gd name="textAreaLeft" fmla="*/ 0 w 354240"/>
                        <a:gd name="textAreaRight" fmla="*/ 354600 w 354240"/>
                        <a:gd name="textAreaTop" fmla="*/ 0 h 220320"/>
                        <a:gd name="textAreaBottom" fmla="*/ 220680 h 220320"/>
                      </a:gdLst>
                      <a:ahLst/>
                      <a:rect l="textAreaLeft" t="textAreaTop" r="textAreaRight" b="textAreaBottom"/>
                      <a:pathLst>
                        <a:path w="576" h="461">
                          <a:moveTo>
                            <a:pt x="0" y="58"/>
                          </a:moveTo>
                          <a:lnTo>
                            <a:pt x="58" y="0"/>
                          </a:lnTo>
                          <a:lnTo>
                            <a:pt x="288" y="0"/>
                          </a:lnTo>
                          <a:lnTo>
                            <a:pt x="346" y="58"/>
                          </a:lnTo>
                          <a:lnTo>
                            <a:pt x="576" y="58"/>
                          </a:lnTo>
                          <a:lnTo>
                            <a:pt x="576" y="461"/>
                          </a:lnTo>
                          <a:lnTo>
                            <a:pt x="0" y="461"/>
                          </a:lnTo>
                          <a:lnTo>
                            <a:pt x="0" y="5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04" name="Freeform 203"/>
                    <p:cNvSpPr/>
                    <p:nvPr/>
                  </p:nvSpPr>
                  <p:spPr>
                    <a:xfrm>
                      <a:off x="2936520" y="3611160"/>
                      <a:ext cx="353880" cy="220320"/>
                    </a:xfrm>
                    <a:custGeom>
                      <a:avLst/>
                      <a:gdLst>
                        <a:gd name="textAreaLeft" fmla="*/ 0 w 353880"/>
                        <a:gd name="textAreaRight" fmla="*/ 354240 w 353880"/>
                        <a:gd name="textAreaTop" fmla="*/ 0 h 220320"/>
                        <a:gd name="textAreaBottom" fmla="*/ 220680 h 220320"/>
                      </a:gdLst>
                      <a:ahLst/>
                      <a:rect l="textAreaLeft" t="textAreaTop" r="textAreaRight" b="textAreaBottom"/>
                      <a:pathLst>
                        <a:path w="576" h="461">
                          <a:moveTo>
                            <a:pt x="0" y="58"/>
                          </a:moveTo>
                          <a:lnTo>
                            <a:pt x="58" y="0"/>
                          </a:lnTo>
                          <a:lnTo>
                            <a:pt x="288" y="0"/>
                          </a:lnTo>
                          <a:lnTo>
                            <a:pt x="346" y="58"/>
                          </a:lnTo>
                          <a:lnTo>
                            <a:pt x="576" y="58"/>
                          </a:lnTo>
                          <a:lnTo>
                            <a:pt x="576" y="461"/>
                          </a:lnTo>
                          <a:lnTo>
                            <a:pt x="0" y="461"/>
                          </a:lnTo>
                          <a:lnTo>
                            <a:pt x="0" y="5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00"/>
                        </a:gs>
                        <a:gs pos="100000">
                          <a:srgbClr val="ffff99"/>
                        </a:gs>
                      </a:gsLst>
                      <a:lin ang="135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05" name="Freeform 204"/>
                  <p:cNvSpPr/>
                  <p:nvPr/>
                </p:nvSpPr>
                <p:spPr>
                  <a:xfrm>
                    <a:off x="2936520" y="3611160"/>
                    <a:ext cx="354240" cy="220320"/>
                  </a:xfrm>
                  <a:custGeom>
                    <a:avLst/>
                    <a:gdLst>
                      <a:gd name="textAreaLeft" fmla="*/ 0 w 354240"/>
                      <a:gd name="textAreaRight" fmla="*/ 354600 w 3542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576" h="461">
                        <a:moveTo>
                          <a:pt x="0" y="461"/>
                        </a:moveTo>
                        <a:lnTo>
                          <a:pt x="0" y="58"/>
                        </a:lnTo>
                        <a:lnTo>
                          <a:pt x="58" y="0"/>
                        </a:lnTo>
                        <a:lnTo>
                          <a:pt x="288" y="0"/>
                        </a:lnTo>
                        <a:lnTo>
                          <a:pt x="346" y="58"/>
                        </a:lnTo>
                        <a:lnTo>
                          <a:pt x="576" y="58"/>
                        </a:lnTo>
                      </a:path>
                    </a:pathLst>
                  </a:custGeom>
                  <a:noFill/>
                  <a:ln w="1260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6" name="Freeform 205"/>
                  <p:cNvSpPr/>
                  <p:nvPr/>
                </p:nvSpPr>
                <p:spPr>
                  <a:xfrm>
                    <a:off x="2946960" y="3618360"/>
                    <a:ext cx="324360" cy="212760"/>
                  </a:xfrm>
                  <a:custGeom>
                    <a:avLst/>
                    <a:gdLst>
                      <a:gd name="textAreaLeft" fmla="*/ 0 w 324360"/>
                      <a:gd name="textAreaRight" fmla="*/ 324720 w 32436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w="528" h="446">
                        <a:moveTo>
                          <a:pt x="0" y="446"/>
                        </a:moveTo>
                        <a:lnTo>
                          <a:pt x="0" y="56"/>
                        </a:lnTo>
                        <a:lnTo>
                          <a:pt x="53" y="0"/>
                        </a:lnTo>
                        <a:lnTo>
                          <a:pt x="264" y="0"/>
                        </a:lnTo>
                        <a:lnTo>
                          <a:pt x="317" y="56"/>
                        </a:lnTo>
                        <a:lnTo>
                          <a:pt x="528" y="56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07" name="Group 206"/>
                  <p:cNvGrpSpPr/>
                  <p:nvPr/>
                </p:nvGrpSpPr>
                <p:grpSpPr>
                  <a:xfrm>
                    <a:off x="3290760" y="3640320"/>
                    <a:ext cx="4680" cy="189720"/>
                    <a:chOff x="3290760" y="3640320"/>
                    <a:chExt cx="4680" cy="189720"/>
                  </a:xfrm>
                </p:grpSpPr>
                <p:sp>
                  <p:nvSpPr>
                    <p:cNvPr id="308" name="Line 207"/>
                    <p:cNvSpPr/>
                    <p:nvPr/>
                  </p:nvSpPr>
                  <p:spPr>
                    <a:xfrm>
                      <a:off x="3295440" y="3640320"/>
                      <a:ext cx="0" cy="189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09" name="Line 208"/>
                    <p:cNvSpPr/>
                    <p:nvPr/>
                  </p:nvSpPr>
                  <p:spPr>
                    <a:xfrm>
                      <a:off x="3290760" y="3640320"/>
                      <a:ext cx="0" cy="189720"/>
                    </a:xfrm>
                    <a:prstGeom prst="line">
                      <a:avLst/>
                    </a:prstGeom>
                    <a:ln w="12600">
                      <a:solidFill>
                        <a:srgbClr val="767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10" name="Group 209"/>
                  <p:cNvGrpSpPr/>
                  <p:nvPr/>
                </p:nvGrpSpPr>
                <p:grpSpPr>
                  <a:xfrm>
                    <a:off x="2900880" y="3666960"/>
                    <a:ext cx="392760" cy="167760"/>
                    <a:chOff x="2900880" y="3666960"/>
                    <a:chExt cx="392760" cy="167760"/>
                  </a:xfrm>
                </p:grpSpPr>
                <p:grpSp>
                  <p:nvGrpSpPr>
                    <p:cNvPr id="311" name="Group 210"/>
                    <p:cNvGrpSpPr/>
                    <p:nvPr/>
                  </p:nvGrpSpPr>
                  <p:grpSpPr>
                    <a:xfrm>
                      <a:off x="2900880" y="3666960"/>
                      <a:ext cx="392760" cy="167760"/>
                      <a:chOff x="2900880" y="3666960"/>
                      <a:chExt cx="392760" cy="167760"/>
                    </a:xfrm>
                  </p:grpSpPr>
                  <p:sp>
                    <p:nvSpPr>
                      <p:cNvPr id="312" name="Freeform 211"/>
                      <p:cNvSpPr/>
                      <p:nvPr/>
                    </p:nvSpPr>
                    <p:spPr>
                      <a:xfrm>
                        <a:off x="2905200" y="3670560"/>
                        <a:ext cx="388440" cy="16416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64160"/>
                          <a:gd name="textAreaBottom" fmla="*/ 164520 h 164160"/>
                        </a:gdLst>
                        <a:ahLst/>
                        <a:rect l="textAreaLeft" t="textAreaTop" r="textAreaRight" b="textAreaBottom"/>
                        <a:pathLst>
                          <a:path w="633" h="345">
                            <a:moveTo>
                              <a:pt x="58" y="345"/>
                            </a:moveTo>
                            <a:lnTo>
                              <a:pt x="0" y="0"/>
                            </a:lnTo>
                            <a:lnTo>
                              <a:pt x="518" y="0"/>
                            </a:lnTo>
                            <a:lnTo>
                              <a:pt x="633" y="345"/>
                            </a:lnTo>
                            <a:lnTo>
                              <a:pt x="58" y="345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cc00"/>
                          </a:gs>
                          <a:gs pos="100000">
                            <a:srgbClr val="ffff99"/>
                          </a:gs>
                        </a:gsLst>
                        <a:lin ang="135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13" name="Freeform 212"/>
                      <p:cNvSpPr/>
                      <p:nvPr/>
                    </p:nvSpPr>
                    <p:spPr>
                      <a:xfrm>
                        <a:off x="2900880" y="3666960"/>
                        <a:ext cx="388440" cy="164160"/>
                      </a:xfrm>
                      <a:custGeom>
                        <a:avLst/>
                        <a:gdLst>
                          <a:gd name="textAreaLeft" fmla="*/ 0 w 388440"/>
                          <a:gd name="textAreaRight" fmla="*/ 388800 w 388440"/>
                          <a:gd name="textAreaTop" fmla="*/ 0 h 164160"/>
                          <a:gd name="textAreaBottom" fmla="*/ 164520 h 164160"/>
                        </a:gdLst>
                        <a:ahLst/>
                        <a:rect l="textAreaLeft" t="textAreaTop" r="textAreaRight" b="textAreaBottom"/>
                        <a:pathLst>
                          <a:path w="633" h="345">
                            <a:moveTo>
                              <a:pt x="58" y="345"/>
                            </a:moveTo>
                            <a:lnTo>
                              <a:pt x="0" y="0"/>
                            </a:lnTo>
                            <a:lnTo>
                              <a:pt x="518" y="0"/>
                            </a:lnTo>
                            <a:lnTo>
                              <a:pt x="633" y="345"/>
                            </a:lnTo>
                            <a:lnTo>
                              <a:pt x="58" y="345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cc00"/>
                          </a:gs>
                          <a:gs pos="100000">
                            <a:srgbClr val="ffff99"/>
                          </a:gs>
                        </a:gsLst>
                        <a:lin ang="135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14" name="Freeform 213"/>
                    <p:cNvSpPr/>
                    <p:nvPr/>
                  </p:nvSpPr>
                  <p:spPr>
                    <a:xfrm>
                      <a:off x="2900880" y="3666960"/>
                      <a:ext cx="318600" cy="164160"/>
                    </a:xfrm>
                    <a:custGeom>
                      <a:avLst/>
                      <a:gdLst>
                        <a:gd name="textAreaLeft" fmla="*/ 0 w 318600"/>
                        <a:gd name="textAreaRight" fmla="*/ 318960 w 318600"/>
                        <a:gd name="textAreaTop" fmla="*/ 0 h 164160"/>
                        <a:gd name="textAreaBottom" fmla="*/ 164520 h 164160"/>
                      </a:gdLst>
                      <a:ahLst/>
                      <a:rect l="textAreaLeft" t="textAreaTop" r="textAreaRight" b="textAreaBottom"/>
                      <a:pathLst>
                        <a:path w="518" h="345">
                          <a:moveTo>
                            <a:pt x="58" y="345"/>
                          </a:moveTo>
                          <a:lnTo>
                            <a:pt x="0" y="0"/>
                          </a:lnTo>
                          <a:lnTo>
                            <a:pt x="51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808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315" name="Group 214"/>
                    <p:cNvGrpSpPr/>
                    <p:nvPr/>
                  </p:nvGrpSpPr>
                  <p:grpSpPr>
                    <a:xfrm>
                      <a:off x="3222720" y="3668040"/>
                      <a:ext cx="67680" cy="160560"/>
                      <a:chOff x="3222720" y="3668040"/>
                      <a:chExt cx="67680" cy="160560"/>
                    </a:xfrm>
                  </p:grpSpPr>
                  <p:sp>
                    <p:nvSpPr>
                      <p:cNvPr id="316" name="Line 215"/>
                      <p:cNvSpPr/>
                      <p:nvPr/>
                    </p:nvSpPr>
                    <p:spPr>
                      <a:xfrm>
                        <a:off x="3228120" y="3668040"/>
                        <a:ext cx="62280" cy="160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17" name="Line 216"/>
                      <p:cNvSpPr/>
                      <p:nvPr/>
                    </p:nvSpPr>
                    <p:spPr>
                      <a:xfrm>
                        <a:off x="3222720" y="3668040"/>
                        <a:ext cx="61920" cy="160560"/>
                      </a:xfrm>
                      <a:prstGeom prst="line">
                        <a:avLst/>
                      </a:prstGeom>
                      <a:ln w="12600">
                        <a:solidFill>
                          <a:srgbClr val="767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18" name="Freeform 217"/>
                    <p:cNvSpPr/>
                    <p:nvPr/>
                  </p:nvSpPr>
                  <p:spPr>
                    <a:xfrm>
                      <a:off x="2911320" y="3673080"/>
                      <a:ext cx="306360" cy="156600"/>
                    </a:xfrm>
                    <a:custGeom>
                      <a:avLst/>
                      <a:gdLst>
                        <a:gd name="textAreaLeft" fmla="*/ 0 w 306360"/>
                        <a:gd name="textAreaRight" fmla="*/ 306720 w 306360"/>
                        <a:gd name="textAreaTop" fmla="*/ 0 h 156600"/>
                        <a:gd name="textAreaBottom" fmla="*/ 156960 h 156600"/>
                      </a:gdLst>
                      <a:ahLst/>
                      <a:rect l="textAreaLeft" t="textAreaTop" r="textAreaRight" b="textAreaBottom"/>
                      <a:pathLst>
                        <a:path w="501" h="329">
                          <a:moveTo>
                            <a:pt x="56" y="329"/>
                          </a:moveTo>
                          <a:lnTo>
                            <a:pt x="0" y="0"/>
                          </a:lnTo>
                          <a:lnTo>
                            <a:pt x="501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19" name="Line 218"/>
                    <p:cNvSpPr/>
                    <p:nvPr/>
                  </p:nvSpPr>
                  <p:spPr>
                    <a:xfrm>
                      <a:off x="2937960" y="3832200"/>
                      <a:ext cx="348480" cy="0"/>
                    </a:xfrm>
                    <a:prstGeom prst="line">
                      <a:avLst/>
                    </a:prstGeom>
                    <a:ln w="12600">
                      <a:solidFill>
                        <a:srgbClr val="767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20" name="Text Box 219"/>
          <p:cNvSpPr/>
          <p:nvPr/>
        </p:nvSpPr>
        <p:spPr>
          <a:xfrm>
            <a:off x="2029680" y="120636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tection from possible External Attac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25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22" descr="http://t1.gstatic.com/images?q=tbn:ANd9GcSMReLS08nbNBq091ftyaeMC_KbIJNVs94rR7JwT5WWvYBxlDwf"/>
          <p:cNvPicPr/>
          <p:nvPr/>
        </p:nvPicPr>
        <p:blipFill>
          <a:blip r:embed="rId26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324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482760" y="228600"/>
            <a:ext cx="84582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Ethical Hacking - Command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482760" y="1368360"/>
            <a:ext cx="822960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Working Eth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rustworth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Misuse for personal 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Respecting 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Not Crashing the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tIns="990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 Narrow"/>
              </a:rPr>
              <a:t>What do hackers do after hacking? (1)</a:t>
            </a:r>
            <a:endParaRPr b="0" lang="en-US" sz="3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595440" y="1143000"/>
            <a:ext cx="792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2680" bIns="46800" anchor="t">
            <a:normAutofit/>
          </a:bodyPr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ch security ho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ther hackers can’t intr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logs and hid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 rootkit ( backdoor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acker who hacked the system can use the system l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ains trojan virus, and so 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 irc related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d, irc, bitchx, eggdrop, bn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414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336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tIns="990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 Narrow"/>
              </a:rPr>
              <a:t>What do hackers do after hacking? (2)</a:t>
            </a:r>
            <a:endParaRPr b="0" lang="en-US" sz="3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620640" y="12193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2680" bIns="46800" anchor="t">
            <a:normAutofit/>
          </a:bodyPr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stall scanner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scan, sscan, nm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stall exploit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stall denial of service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524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se all of installed programs sil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414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74480" y="-360"/>
            <a:ext cx="82278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Basic Knowledge Required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71240" y="914040"/>
            <a:ext cx="82278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The basic knowledge that an Ethical Hacker should have about different fields, is as follows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have basic knowledge of ethical and permissible issue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have primary level knowledge of session hijack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know about hacking wireless network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be good in sniff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know how to handle virus and worm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have the basic knowledge of cryptography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have the basic knowledge of accounts administratio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Should know how to perform system hack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348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Basic Knowledge Required </a:t>
            </a:r>
            <a:r>
              <a:rPr b="0" lang="en-US" sz="2000" spc="-1" strike="noStrike">
                <a:solidFill>
                  <a:srgbClr val="009900"/>
                </a:solidFill>
                <a:latin typeface="Candara"/>
              </a:rPr>
              <a:t>(con’t)</a:t>
            </a:r>
            <a:endParaRPr b="0" lang="en-US" sz="2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93560" y="1066680"/>
            <a:ext cx="82281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knowledge of physical infrastructure hacking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primary knowledge of social engineering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know to how to do sacking of web servers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basic knowledge of web application weakness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knowledge of web based password breaking procedure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basic knowledge of SQL injection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know how to hack Linux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knowledge of IP hacking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hould have the knowledge of application hacking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6360" y="-14400"/>
            <a:ext cx="822816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Denial of Service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480" y="781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f an attacker is unsuccessful in gaining access, they may use readily available exploit code to disable a target as a last resort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Techniques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SYN flood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CMP techniqu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dentical SYN request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verlapping fragment/offset bug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ut of bounds TCP options (OOB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DDo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360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How Can We Protect The System? 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560" y="914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atch security hole ofte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ncrypt important data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9720" indent="-272880">
              <a:lnSpc>
                <a:spcPct val="98000"/>
              </a:lnSpc>
              <a:buClr>
                <a:srgbClr val="2c2cb3"/>
              </a:buClr>
              <a:buSzPct val="45000"/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x) pgp, ssh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Do not run unused daem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Remove unused setuid/setgid program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Setup loghost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9720" indent="-272880">
              <a:lnSpc>
                <a:spcPct val="98000"/>
              </a:lnSpc>
              <a:buClr>
                <a:srgbClr val="2c2cb3"/>
              </a:buClr>
              <a:buSzPct val="45000"/>
              <a:buFont typeface="Candar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ackup the system ofte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Setup firewall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buClr>
                <a:srgbClr val="000000"/>
              </a:buClr>
              <a:buSzPct val="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Setup ID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39720" indent="-272880">
              <a:lnSpc>
                <a:spcPct val="98000"/>
              </a:lnSpc>
              <a:buClr>
                <a:srgbClr val="2c2cb3"/>
              </a:buClr>
              <a:buSzPct val="45000"/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x) snort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72880" indent="-2728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366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8440"/>
            <a:ext cx="822816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What should do after hacked?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838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hutdown the system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Or turn off the system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Separate the system from network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Restore the system with the backup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Or reinstall all program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Connect the system to the network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1143000" y="457200"/>
            <a:ext cx="7543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Ethical Hacking - Pro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04920" y="1066680"/>
            <a:ext cx="822960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Foot Pri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umeration &amp; Fingerpri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Identification of Vulnera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Attack – Exploit the Vulnera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Gaining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scalating Privile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overing Tr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2080">
              <a:lnSpc>
                <a:spcPct val="100000"/>
              </a:lnSpc>
              <a:spcAft>
                <a:spcPts val="1426"/>
              </a:spcAft>
              <a:buClr>
                <a:srgbClr val="dc9e1f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reating Back Do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90720"/>
            <a:ext cx="8228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How often have I said to you that when you have eliminated the impossible, whatever remains, however improbable, must be the truth? “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Or a modern vari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"If you eliminate the impossible, whatever remains,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however improbable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be the 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truth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."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397240" y="498960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0277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487520" y="498960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3"/>
          <p:cNvSpPr/>
          <p:nvPr/>
        </p:nvSpPr>
        <p:spPr>
          <a:xfrm>
            <a:off x="2158920" y="6531120"/>
            <a:ext cx="55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304920" y="7632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1.Prepa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457200" y="10368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dentification of Targets – company websites, mail servers, extranet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igning of Contr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greement on protection against any legal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ntracts to clearly specifies the limits and dangers of the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pecifics on Denial of Service Tests, Social Engineering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Time window for Att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Total time for the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ior Knowledge of the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324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Key people who are made aware of the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2.Footprin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304920" y="1403280"/>
            <a:ext cx="800100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Collecting as much information about the tar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DNS Ser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IP R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Administrative Conta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Problems revealed by administr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Information 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Search eng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Foru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Databases – whois, ripe, arin, apn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Tools – PING, whois, Traceroute, DIG, nslookup, sam sp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1879560" y="6618240"/>
            <a:ext cx="55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2403360" y="503064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0240" y="504360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06600" y="502920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4716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3.Enumeration &amp; Fingerprin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442800" y="129528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Specific targets determ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Identification of Services / open 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Operating System Enum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Banner grabb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Responses to various protocol (ICMP &amp;TCP) command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Port / Service Scans – TCP Connect, TCP SYN, TCP FIN, etc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andara"/>
              </a:rPr>
              <a:t>Nmap, FScan, Hping, Firewalk, netcat, tcpdump, ssh, telnet, SNMP Sc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457200" y="1522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4.Identification of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493560" y="1523880"/>
            <a:ext cx="75837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Vulnera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Insecure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Weak passw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Unpatched vulnerabilities in services, Operating systems,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Possible Vulnerabilities in Services, Operating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Insecure program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Weak Access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533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4.Identification of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533520" y="1368360"/>
            <a:ext cx="80010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Unpatched / Possible Vulnerabilities – Tools, Vulnerability information Web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Weak Passwords – Default Passwords, Brute force, Social Engineering, Listening to Traf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Insecure Programming – SQL Injection, Listening to Traff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Weak Access Control – Using the Application Logic, SQL Inj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4.Identification of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22860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andara"/>
              </a:rPr>
              <a:t>Vulnerability Scanners - Nessus, ISS, SARA, SA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andara"/>
              </a:rPr>
              <a:t>Listening to Traffic – Ethercap, tcpdum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andara"/>
              </a:rPr>
              <a:t>Password Crackers – John the ripper, LC4, Pwdum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andara"/>
              </a:rPr>
              <a:t>Intercepting Web Traffic – Achilles, Whisker, Leg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Common Vulnerabilities &amp; Exposures –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ndara"/>
                <a:hlinkClick r:id="rId1"/>
              </a:rPr>
              <a:t>http://cve.mitre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Bugtraq –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ndara"/>
                <a:hlinkClick r:id="rId2"/>
              </a:rPr>
              <a:t>www.securityfocus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Other Vendor 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ttp://t1.gstatic.com/images?q=tbn:ANd9GcSMReLS08nbNBq091ftyaeMC_KbIJNVs94rR7JwT5WWvYBxlDwf"/>
          <p:cNvPicPr/>
          <p:nvPr/>
        </p:nvPicPr>
        <p:blipFill>
          <a:blip r:embed="rId4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228600" y="457200"/>
            <a:ext cx="8686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5.Attack – Exploit the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495360" y="118908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Obtain as  much information (trophies) from the Target As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Gaining Normal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Escalation of privile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Obtaining access to other connected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3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Last Ditch Effort – Denial of Servi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228600" y="533520"/>
            <a:ext cx="8686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5.Attack – Exploit the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457200" y="1417680"/>
            <a:ext cx="815328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Network Infrastructure Att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Connecting to the network through 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Weaknesses in TCP / IP, NetB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Flooding the network to cause 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Operating System Att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Attacking Authentic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Exploiting Protocol Implem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Exploiting Insecure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andara"/>
              </a:rPr>
              <a:t>Breaking File-System 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5.Attack – Exploit the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533520" y="1600200"/>
            <a:ext cx="8381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Application Specific Atta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Exploiting implementations of HTTP, SMTP protoc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Gaining access to application Datab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SQL Inj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Sp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228600" y="533520"/>
            <a:ext cx="8686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5.Attack – Exploit the Vulnerabil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1265400"/>
            <a:ext cx="792468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ndara"/>
              </a:rPr>
              <a:t>Explo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Free exploits from Hacker 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Customised free explo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Internally Develo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ndara"/>
              </a:rPr>
              <a:t>Tools – Nessus, Metasploit Framework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Anonymous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20" y="16351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6000"/>
          </a:bodyPr>
          <a:p>
            <a:pPr marL="414360" indent="-3106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s for the literal operation of Anonymous, becoming part of it is as simple as going onto its Internet Relay Chat forums and typing away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 real-life people involved in Anonymous could be behind their laptops anywhere, from an Internet café in Malaysia to a Michigan suburb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nonymous appears to have no spokesperson or leader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ne could participate for a minute or a day in a chat room, and then never go back again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nonymous is the future form of Internet-based social activism. They laud the "hactivists" for their actions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14360" indent="-3106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62" name="Picture 2" descr="http://i.cdn.turner.com/cnn/dam/assets/120209070740-guy-fawkes-01-story-body.jpg"/>
          <p:cNvPicPr/>
          <p:nvPr/>
        </p:nvPicPr>
        <p:blipFill>
          <a:blip r:embed="rId1"/>
          <a:stretch/>
        </p:blipFill>
        <p:spPr>
          <a:xfrm>
            <a:off x="0" y="0"/>
            <a:ext cx="2857680" cy="1609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2370240" y="502452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-4680" y="5057640"/>
            <a:ext cx="1471680" cy="1478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1.gstatic.com/images?q=tbn:ANd9GcSMReLS08nbNBq091ftyaeMC_KbIJNVs94rR7JwT5WWvYBxlDwf"/>
          <p:cNvPicPr/>
          <p:nvPr/>
        </p:nvPicPr>
        <p:blipFill>
          <a:blip r:embed="rId3"/>
          <a:stretch/>
        </p:blipFill>
        <p:spPr>
          <a:xfrm>
            <a:off x="1471680" y="5043600"/>
            <a:ext cx="893520" cy="1506600"/>
          </a:xfrm>
          <a:prstGeom prst="rect">
            <a:avLst/>
          </a:prstGeom>
          <a:ln w="0">
            <a:noFill/>
          </a:ln>
        </p:spPr>
      </p:pic>
      <p:sp>
        <p:nvSpPr>
          <p:cNvPr id="66" name="Footer Placeholder 3"/>
          <p:cNvSpPr/>
          <p:nvPr/>
        </p:nvSpPr>
        <p:spPr>
          <a:xfrm>
            <a:off x="1982880" y="6559560"/>
            <a:ext cx="55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6. Gaining access: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37720" y="159984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nough data has been gathered at this point to make an informed attempt to access the target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assword eavesdropping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File share brute forcing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assword file grab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uffer overflow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1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7. Escalating Privileges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07680" y="141768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f only user-level access was obtained in the last step, the attacker will now seek to gain complete control of the system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assword cracking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Known exploit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7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ndara"/>
              </a:rPr>
              <a:t>8. Covering Tracks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09120" y="1226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Once total ownership of the target is secured, hiding this fact from system administrators becomes paramount, lest they quickly end the romp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Clear log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Hide tool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3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9. Creating Back Doors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09480" y="132876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7000"/>
          </a:bodyPr>
          <a:p>
            <a:pPr marL="418680" indent="-3139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Trap doors will be laid in various parts of the system to ensure that privileged access is easily regained at the whim of the intruder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418680" indent="-3139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ndara"/>
              </a:rPr>
              <a:t>Technique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Create rogue user account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Schedule batch job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Infect startup file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Plant remote control service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Install monitoring mechanism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837720" indent="-314280">
              <a:lnSpc>
                <a:spcPct val="8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Replace apps with trojans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9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1"/>
          <a:stretch/>
        </p:blipFill>
        <p:spPr>
          <a:xfrm>
            <a:off x="-92160" y="3865680"/>
            <a:ext cx="1865520" cy="3114720"/>
          </a:xfrm>
          <a:prstGeom prst="rect">
            <a:avLst/>
          </a:prstGeom>
          <a:ln w="0">
            <a:noFill/>
          </a:ln>
        </p:spPr>
      </p:pic>
      <p:pic>
        <p:nvPicPr>
          <p:cNvPr id="464" name="Rectangle 2" descr=""/>
          <p:cNvPicPr/>
          <p:nvPr/>
        </p:nvPicPr>
        <p:blipFill>
          <a:blip r:embed="rId2"/>
          <a:stretch/>
        </p:blipFill>
        <p:spPr>
          <a:xfrm>
            <a:off x="23760" y="517680"/>
            <a:ext cx="9461520" cy="3633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3"/>
          <a:stretch/>
        </p:blipFill>
        <p:spPr>
          <a:xfrm>
            <a:off x="25560" y="38160"/>
            <a:ext cx="925200" cy="479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"/>
          <p:cNvPicPr/>
          <p:nvPr/>
        </p:nvPicPr>
        <p:blipFill>
          <a:blip r:embed="rId4"/>
          <a:stretch/>
        </p:blipFill>
        <p:spPr>
          <a:xfrm>
            <a:off x="965160" y="128520"/>
            <a:ext cx="1670040" cy="3891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"/>
          <p:cNvPicPr/>
          <p:nvPr/>
        </p:nvPicPr>
        <p:blipFill>
          <a:blip r:embed="rId5"/>
          <a:stretch/>
        </p:blipFill>
        <p:spPr>
          <a:xfrm>
            <a:off x="2727360" y="128520"/>
            <a:ext cx="536400" cy="3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1"/>
          <p:cNvSpPr/>
          <p:nvPr/>
        </p:nvSpPr>
        <p:spPr>
          <a:xfrm>
            <a:off x="2533680" y="6675480"/>
            <a:ext cx="55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Lucida Sans Unicode"/>
              </a:rPr>
              <a:t>www.kaashivinfotech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-2049480" y="111240"/>
            <a:ext cx="1362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2681280" y="4495680"/>
            <a:ext cx="624852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0" y="4495680"/>
            <a:ext cx="1494000" cy="15004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641600" y="4495680"/>
            <a:ext cx="8920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304920" y="28440"/>
            <a:ext cx="822960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nderground Toolkit Arms Hackers For Java Fla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y Antone Gonsalves, CRN March 29, 2012    3:57 PM 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software toolkit popular among cyber-criminals has been updated to include malicious code targeting a critical Java vulnerability that experts say many Internet users have yet to patch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patch for the Java bug was released in February, but based on the Java patching behavior of 28 million Internet users, Rapid7 estimates that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from 60 percent to 80 percent of computers running Java are vulnera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The bug affects all operating systems, including Windows, starting with XP, Ubuntu and Mac OS X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general, up to 60 percent of Java installations are never updated to the latest version, according to Rapid7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crn.com/news/security/232700528/underground-toolkit-arms-hackers-for-java-flaw.htm;jsessionid=aN-QwyraKe6tlMxNtzWh5A**.ecappj03?cid=nl_s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97240" y="498960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0277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487520" y="498960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304920" y="152280"/>
            <a:ext cx="8610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ederal Statute 2B1.1. - Protected Computer - Civil Penal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tected Computer Cases.--In the case of an offense involving unlawfully accessing, or exceeding authorized access to, a "protected computer" as defined in 18 U.S.C. § 1030(e)(2), actual loss includes the following pecuniary harm, regardless of whether such pecuniary harm was reasonably foreseeable: reasonable costs to the victim of conducting a damage assessment, and restoring the system and data to their condition prior to the offense, and any lost revenue due to interruption of servi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B) Gain.--The court shall use the gain that resulted from the offense as an alternative measure of loss only if there is a loss but it reasonably cannot be determin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) Estimation of Loss.--The court need only make a reasonable estimate of the loss. The sentencing judge is in a unique position to assess the evidence and estimate the loss based upon that eviden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397240" y="498960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50277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487520" y="498960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76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4880" y="-36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Why Do People Hack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47560"/>
            <a:ext cx="82281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To make security stronger ( Ethical Hacking 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Just for fu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Show off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Hack other systems secretl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Notify many people their thought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Steal important informati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Destroy enemy</a:t>
            </a:r>
            <a:r>
              <a:rPr b="0" lang="en-US" sz="2000" spc="-1" strike="noStrike">
                <a:solidFill>
                  <a:srgbClr val="002a13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2a13"/>
                </a:solidFill>
                <a:latin typeface="Candara"/>
              </a:rPr>
              <a:t>s computer network during the war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397240" y="498960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0277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487520" y="498960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82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228600" y="586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What is Ethical Hack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511920" y="1371600"/>
            <a:ext cx="64897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so Called – Attack &amp; Penetration Testing, White-hat hacking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 tea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Leg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ission is obtained from the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of an overall security progra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vulnerabilities visible from the 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ical hackers possesses same skills, mindset and tools o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acker but the attacks are done in a non-destructive manne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dc9e1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Hack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of breaking into systems for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sonal or Commercial Gai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licious Intent – Causing sever damage to Information &amp; Asse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orming to accepted professional standards of con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397240" y="498960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0277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487520" y="498960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88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8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Candara"/>
              </a:rPr>
              <a:t>Types of Hackers</a:t>
            </a:r>
            <a:endParaRPr b="0" lang="en-US" sz="4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3960" y="1417320"/>
            <a:ext cx="82281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White Hat Hackers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White Hat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who specializes in penetration testing and in other testing methodologies to ensure the security of an organization's information system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Black Hat Hackers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Black Hat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is the villain or </a:t>
            </a:r>
            <a:r>
              <a:rPr b="0" i="1" lang="en-US" sz="1800" spc="-1" strike="noStrike">
                <a:solidFill>
                  <a:srgbClr val="000000"/>
                </a:solidFill>
                <a:latin typeface="Candara"/>
              </a:rPr>
              <a:t>bad guy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, especially in a western movie in which such a character would stereotypically wear a black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ndara"/>
                <a:hlinkClick r:id="rId1"/>
              </a:rPr>
              <a:t>hat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in contrast to the hero's white hat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Gray Hat Hackers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Grey Hat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, in the hacking community, refers to a skilled hacker whose activities fall somewhere between white and black hat hackers on a variety of spectr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863640" indent="-3240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http://t1.gstatic.com/images?q=tbn:ANd9GcSMReLS08nbNBq091ftyaeMC_KbIJNVs94rR7JwT5WWvYBxlDwf"/>
          <p:cNvPicPr/>
          <p:nvPr/>
        </p:nvPicPr>
        <p:blipFill>
          <a:blip r:embed="rId3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  <p:sp>
        <p:nvSpPr>
          <p:cNvPr id="94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tIns="990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 Narrow"/>
              </a:rPr>
              <a:t>Why Can</a:t>
            </a:r>
            <a:r>
              <a:rPr b="1" lang="en-US" sz="3000" spc="-1" strike="noStrike">
                <a:solidFill>
                  <a:srgbClr val="006600"/>
                </a:solidFill>
                <a:latin typeface="Times New Roman"/>
              </a:rPr>
              <a:t>’</a:t>
            </a:r>
            <a:r>
              <a:rPr b="1" lang="en-US" sz="3000" spc="-1" strike="noStrike">
                <a:solidFill>
                  <a:srgbClr val="006600"/>
                </a:solidFill>
                <a:latin typeface="Arial Narrow"/>
              </a:rPr>
              <a:t>t We Defend Against Hackers?</a:t>
            </a:r>
            <a:endParaRPr b="0" lang="en-US" sz="3000" spc="-1" strike="noStrike">
              <a:solidFill>
                <a:srgbClr val="009900"/>
              </a:solidFill>
              <a:latin typeface="Candara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09480" y="160020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2680" bIns="46800" anchor="t">
            <a:normAutofit/>
          </a:bodyPr>
          <a:p>
            <a:pPr marL="343080" indent="-341640">
              <a:lnSpc>
                <a:spcPct val="93000"/>
              </a:lnSpc>
              <a:spcBef>
                <a:spcPts val="488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unknown security ho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488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ckers need to know only one security hole to hack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488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 need to know all security holes to defend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3000"/>
              </a:lnSpc>
              <a:spcBef>
                <a:spcPts val="414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1905120" y="6588000"/>
            <a:ext cx="550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2057400" y="6740640"/>
            <a:ext cx="550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ww.kaashivinfotech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428920" y="5000760"/>
            <a:ext cx="6715080" cy="15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F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dobe Gothic Std B"/>
              </a:rPr>
              <a:t>Inplant Training / Internshi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dobe Gothic Std B"/>
              </a:rPr>
              <a:t>,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dobe Gothic Std B"/>
              </a:rPr>
              <a:t>please download the "Inplant training registration form" from our website www.kaashivinfotech.com. Fill the form and send it to kaashiv.info@gmail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5440" y="5013360"/>
            <a:ext cx="1471680" cy="1477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ttp://t1.gstatic.com/images?q=tbn:ANd9GcSMReLS08nbNBq091ftyaeMC_KbIJNVs94rR7JwT5WWvYBxlDwf"/>
          <p:cNvPicPr/>
          <p:nvPr/>
        </p:nvPicPr>
        <p:blipFill>
          <a:blip r:embed="rId2"/>
          <a:stretch/>
        </p:blipFill>
        <p:spPr>
          <a:xfrm>
            <a:off x="1531800" y="4998960"/>
            <a:ext cx="8938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aashiv</cp:lastModifiedBy>
  <dcterms:modified xsi:type="dcterms:W3CDTF">2015-11-06T10:51:52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