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F8B-401F-491E-92FF-23269534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631-52D8-45F2-A262-ADD96237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537-1E91-4437-8527-0F27AE41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053-7F8C-4C1E-92FB-7B1C6EFB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546-1AFB-4F53-80A8-B2FBD6CC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BA8-CE08-4EF3-9C20-9E05E22A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4B8-F5EB-4E4E-AF84-8EE53645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7FF-3258-4F7D-B779-02331F37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90A-0844-475F-8034-E2B8068A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17F-BB78-48D0-A0F7-56831FAF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157-E27D-4BFF-BF06-EEA0BA2F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859-BC0C-4A9A-9448-BA2FC4A5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C3C2-E271-47EE-AF50-31C8BA3E4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73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66688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Edwardian Script ITC"/>
              </a:rPr>
              <a:t>Beautiful Friendship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84560" y="4608360"/>
            <a:ext cx="26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80880"/>
            <a:ext cx="7925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G Omega"/>
              </a:rPr>
              <a:t>Friendship is a priceless gift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CG Omega"/>
              </a:rPr>
              <a:t>Cannot be bought or sold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CG Omega"/>
              </a:rPr>
              <a:t>The value is far greater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CG Omega"/>
              </a:rPr>
              <a:t>Than a mountain made of gol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94148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arrington"/>
              </a:rPr>
              <a:t>It has the ears to list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arrington"/>
              </a:rPr>
              <a:t>A heart to underst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arrington"/>
              </a:rPr>
              <a:t>Friendship can bring you comfo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Harrington"/>
              </a:rPr>
              <a:t>And give a helping hand</a:t>
            </a:r>
            <a:r>
              <a:rPr b="1" lang="en-US" sz="4800" spc="-1" strike="noStrike">
                <a:solidFill>
                  <a:srgbClr val="000000"/>
                </a:solidFill>
                <a:latin typeface="Harringto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600" y="1366920"/>
            <a:ext cx="9079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 friend is someone we turn to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When our spirit needs a lift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 friend we always treasure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After all it is a gif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609480"/>
            <a:ext cx="883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ITC Zapf Chancery"/>
              </a:rPr>
              <a:t>A friend fills our lives with beauty</a:t>
            </a:r>
            <a:br>
              <a:rPr sz="5400"/>
            </a:br>
            <a:r>
              <a:rPr b="1" lang="en-US" sz="5400" spc="-1" strike="noStrike">
                <a:solidFill>
                  <a:srgbClr val="660066"/>
                </a:solidFill>
                <a:latin typeface="ITC Zapf Chancery"/>
              </a:rPr>
              <a:t>Gives joy when we are sad</a:t>
            </a:r>
            <a:br>
              <a:rPr sz="5400"/>
            </a:br>
            <a:r>
              <a:rPr b="1" lang="en-US" sz="5400" spc="-1" strike="noStrike">
                <a:solidFill>
                  <a:srgbClr val="660066"/>
                </a:solidFill>
                <a:latin typeface="ITC Zapf Chancery"/>
              </a:rPr>
              <a:t>Friends are very special</a:t>
            </a:r>
            <a:br>
              <a:rPr sz="5400"/>
            </a:br>
            <a:r>
              <a:rPr b="1" lang="en-US" sz="5400" spc="-1" strike="noStrike">
                <a:solidFill>
                  <a:srgbClr val="660066"/>
                </a:solidFill>
                <a:latin typeface="ITC Zapf Chancery"/>
              </a:rPr>
              <a:t>You are the best friend I ever ha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9160" y="1371600"/>
            <a:ext cx="8491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larendon Condensed"/>
              </a:rPr>
              <a:t>You make my world a happy place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Clarendon Condensed"/>
              </a:rPr>
              <a:t>So special, kind and true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Clarendon Condensed"/>
              </a:rPr>
              <a:t>I send this to my special friend</a:t>
            </a:r>
            <a:br>
              <a:rPr sz="4800"/>
            </a:br>
            <a:r>
              <a:rPr b="1" i="1" lang="en-US" sz="4800" spc="-1" strike="noStrike">
                <a:solidFill>
                  <a:srgbClr val="0000ff"/>
                </a:solidFill>
                <a:latin typeface="Clarendon Condensed"/>
              </a:rPr>
              <a:t>And dear that friend is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5T09:49:33Z</dcterms:created>
  <dc:creator>admin</dc:creator>
  <dc:description/>
  <dc:language>en-US</dc:language>
  <cp:lastModifiedBy>Mrs Siti Amnah</cp:lastModifiedBy>
  <dcterms:modified xsi:type="dcterms:W3CDTF">2009-08-01T07:09:04Z</dcterms:modified>
  <cp:revision>4</cp:revision>
  <dc:subject/>
  <dc:title>Slide 1</dc:title>
</cp:coreProperties>
</file>