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717-8542-4EA2-A7B1-FE8ED13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C7E-42B4-47E8-8D58-D24D865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F53-F7C8-45AF-BAF0-64FD3DD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781-71D8-4B22-80BB-9E32F693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94D-B0E4-4C3F-BC48-8672038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777-6F89-4750-919A-FF5C019F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DA9-9ED7-4352-86FE-7067E66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3B1-8A87-4101-9713-2CF819B6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82A-67FA-4C3A-AF0B-ABFF8F19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7C6-4D72-4FFD-9B58-88C62E1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114-8C34-4CC6-8428-9BEEBA51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5FB-896C-4AD1-BF6B-DA9141BF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10BE-A33C-49DA-9593-530FD881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73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66688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Edwardian Script ITC"/>
              </a:rPr>
              <a:t>Beautiful Friendship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608360"/>
            <a:ext cx="26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80880"/>
            <a:ext cx="792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Friendship is a priceless gift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Cannot be bought or sold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The value is far greater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Than a mountain made of g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9414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It has the ears to lis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A heart to under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Friendship can bring you comfo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And give a helping hand</a:t>
            </a: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600" y="1366920"/>
            <a:ext cx="907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 friend is someone we turn to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en our spirit needs a lift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 friend we always treasure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fter all it is a gif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60948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A friend fills our lives with beauty</a:t>
            </a:r>
            <a:br>
              <a:rPr sz="5400"/>
            </a:b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Gives joy when we are sad</a:t>
            </a:r>
            <a:br>
              <a:rPr sz="5400"/>
            </a:b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Friends are very special</a:t>
            </a:r>
            <a:br>
              <a:rPr sz="5400"/>
            </a:b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You are the best friend I ever h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9160" y="1371600"/>
            <a:ext cx="8491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You make my world a happy place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So special, kind and true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I send this to my special friend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And dear that friend is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09:49:33Z</dcterms:created>
  <dc:creator>admin</dc:creator>
  <dc:description/>
  <dc:language>en-US</dc:language>
  <cp:lastModifiedBy>Mrs Siti Amnah</cp:lastModifiedBy>
  <dcterms:modified xsi:type="dcterms:W3CDTF">2009-08-01T07:09:04Z</dcterms:modified>
  <cp:revision>4</cp:revision>
  <dc:subject/>
  <dc:title>Slide 1</dc:title>
</cp:coreProperties>
</file>