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B127-76EF-4C1E-8529-7CACC345F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B61F-43A1-4F18-A4EA-05847575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BF65-D598-42E8-99BF-B43D37CA1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DE13-63C7-4F5A-98D1-559A17EE8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49B9-F1B4-4D90-8190-82C51B064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69ABB-AED5-4472-873C-EDF77704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29BE-D8DA-4892-9633-75D83BA5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2540-D16D-4928-97D2-2F57F8BC6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098E-7A2B-4639-BE75-C483091F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FCF4-6F86-4CE5-B9F2-FC0A1D53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506E-A5D7-4D60-B2A0-B09ACBCF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627B-3FD0-497E-BE59-9E95F8B1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F1A6-D11E-43E5-AF95-BD1A6B48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46230-146F-46B4-927B-E0D25BDF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EAED-F6D5-4B5C-ACB7-AEEEBF3C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C8D6-BA14-4474-9720-E050E4E67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14DF-5814-44F3-9524-5F5CF5B2D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0D84-43EC-4C47-96C8-5D3D383C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B7FF-090C-4A14-A077-600331EF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E84B-65B4-407E-8F28-B30D04F5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63A4-1BDD-44CE-8A5D-96BAB0B6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2FB0-F28D-4F62-83F2-9BCE75F3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A1E0-5BCA-41D6-8A69-2806D65C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2D2A-0BDF-4F44-ACD7-07DBFBDD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AB35-6C26-4ADD-A28A-79A1449D1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690F-6778-4748-A8DA-6B420E0A70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RECENT ADVANCES IN POWER ELECTRONIC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CTIFIER ST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that involve frequent and extended periods of braking (e.g., cranes) can justify the introduction of a regenerative input converter brid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provide the drive with bidirectional power conversion capabil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e-phase input line reactors are essential with the active input bridge configuration to provide the necessary input impedance characteristics to the bridge termin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ition of the regenerative active input bridge clearly represents an expensive solution that can only be justified that truly need bi dirctional power flo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PROGRESS OF RAIL TRACTI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EAVY RAIL CATENARY  SUPPLY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62499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VY RAIL DIESEL ELECTRIC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6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610092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057040" y="5486400"/>
            <a:ext cx="5257800" cy="380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MATRIX CONVERTER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819520" y="380880"/>
            <a:ext cx="49528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FUTURE SC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576288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TRIX CONVERT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trix converter is a power circuit topology that has the capability of directly converting ac power at one frequency and voltage into ac power at a second frequency and volta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asic matrix converter topology only uses nine switches as shown in Fig  although each switch must provide bidirectional current contr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switch in Fig is typically implemented using two power switches  in an anti parallel conne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least one major power semiconductor manufacturer is already offering an IGBT power module that contains all of the necessary switch elements to construct a low-power matrix conver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y current issues such as industrial drive input power quality and the effects of fast IGBT switching transients on the machines and electromagnetic interference (EMI) production are review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ent developments in electric traction for both rail and road vehicles are discus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ket introduction of new hybrid vehicles using advanced power electron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ject concludes with a discussion of expected future trends in power electronics technology that will likely expand the markets for industrial and traction drives during coming ye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2819160" y="2819520"/>
            <a:ext cx="41907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ubject which deals with the equipment working on the principles of electronics at power levels rather than signal levels is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WER ELECTRONIC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y to use power electronics circuits??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ROGRESS OF 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OWER SEMICONDUCTOR DEVICE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5" name="Rectangle 5" descr=""/>
          <p:cNvPicPr/>
          <p:nvPr/>
        </p:nvPicPr>
        <p:blipFill>
          <a:blip r:embed="rId1"/>
          <a:stretch/>
        </p:blipFill>
        <p:spPr>
          <a:xfrm>
            <a:off x="3267000" y="2352600"/>
            <a:ext cx="1244520" cy="109224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10"/>
          <p:cNvSpPr/>
          <p:nvPr/>
        </p:nvSpPr>
        <p:spPr>
          <a:xfrm>
            <a:off x="1219320" y="2362320"/>
            <a:ext cx="1218960" cy="990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5486400" y="2362320"/>
            <a:ext cx="129528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SF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12"/>
          <p:cNvSpPr/>
          <p:nvPr/>
        </p:nvSpPr>
        <p:spPr>
          <a:xfrm>
            <a:off x="5562720" y="4038480"/>
            <a:ext cx="1295280" cy="990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GB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9" name="Straight Arrow Connector 18"/>
          <p:cNvCxnSpPr/>
          <p:nvPr/>
        </p:nvCxnSpPr>
        <p:spPr>
          <a:xfrm>
            <a:off x="4495680" y="2895120"/>
            <a:ext cx="99144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20" name="Straight Arrow Connector 25"/>
          <p:cNvCxnSpPr/>
          <p:nvPr/>
        </p:nvCxnSpPr>
        <p:spPr>
          <a:xfrm>
            <a:off x="2437920" y="2819520"/>
            <a:ext cx="8391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21" name="Straight Arrow Connector 31"/>
          <p:cNvCxnSpPr/>
          <p:nvPr/>
        </p:nvCxnSpPr>
        <p:spPr>
          <a:xfrm flipH="1">
            <a:off x="6171840" y="3429000"/>
            <a:ext cx="2160" cy="612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22" name="Rectangle 14"/>
          <p:cNvSpPr/>
          <p:nvPr/>
        </p:nvSpPr>
        <p:spPr>
          <a:xfrm>
            <a:off x="5638680" y="5638680"/>
            <a:ext cx="1295640" cy="990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G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3" name="Straight Arrow Connector 31"/>
          <p:cNvCxnSpPr/>
          <p:nvPr/>
        </p:nvCxnSpPr>
        <p:spPr>
          <a:xfrm flipH="1">
            <a:off x="6248160" y="5029200"/>
            <a:ext cx="2160" cy="612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Advances in power electronic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USTRIAL DR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L T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DUSTRIAL DRI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chine with control is dri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mechanical solutions involving combinations of dc and ac machines were developed early in the 20th century to control the speed of electric machines in industrial proce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 1970s. Since that time, new generations of gate-controlled power switches have successively improved the performance and cost-effectiveness of ac drives in comparison to their dc dr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hough most of today’s growth in the worldwide industrial drive market can be ascribed to ac drive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AIL TRA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il transport systems have been a major application area for electric drives since the earliest days of electric machines in the 1800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 semiconductors during the second half of the 20th century made it increasingly practical to introduce ac induction and synchronous machi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iminate the need for mechanical commutators days of electric machines in the 18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day, ac adjustable-frequency rail propulsion equipment increasingly dominates new production for both light-rail and heavy-rail  traction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PROGRESS IN INDUSTRIAL DRIV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ctromechanical AC/DC machines in early 2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entu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ured triggered arc power switch technology in 1920 – 1930’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id state thyristors 1970’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ate controlled switc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2" name="Straight Arrow Connector 5"/>
          <p:cNvCxnSpPr/>
          <p:nvPr/>
        </p:nvCxnSpPr>
        <p:spPr>
          <a:xfrm flipH="1">
            <a:off x="3809160" y="2057400"/>
            <a:ext cx="252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33" name="Straight Arrow Connector 7"/>
          <p:cNvCxnSpPr/>
          <p:nvPr/>
        </p:nvCxnSpPr>
        <p:spPr>
          <a:xfrm flipH="1">
            <a:off x="3807720" y="3201840"/>
            <a:ext cx="3960" cy="534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34" name="Straight Arrow Connector 9"/>
          <p:cNvCxnSpPr/>
          <p:nvPr/>
        </p:nvCxnSpPr>
        <p:spPr>
          <a:xfrm flipH="1">
            <a:off x="3884400" y="4192200"/>
            <a:ext cx="3600" cy="686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INDUSTRIAL DRIVE DESIGN ISSU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rter st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ctifier st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generative drive configu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6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3800" cy="44956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"/>
          <p:cNvPicPr/>
          <p:nvPr/>
        </p:nvPicPr>
        <p:blipFill>
          <a:blip r:embed="rId2"/>
          <a:stretch/>
        </p:blipFill>
        <p:spPr>
          <a:xfrm>
            <a:off x="762120" y="3962520"/>
            <a:ext cx="3232080" cy="1523880"/>
          </a:xfrm>
          <a:prstGeom prst="rect">
            <a:avLst/>
          </a:prstGeom>
          <a:ln w="0">
            <a:noFill/>
          </a:ln>
        </p:spPr>
      </p:pic>
      <p:sp>
        <p:nvSpPr>
          <p:cNvPr id="239" name="TextBox 6"/>
          <p:cNvSpPr/>
          <p:nvPr/>
        </p:nvSpPr>
        <p:spPr>
          <a:xfrm>
            <a:off x="4876920" y="63244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ustrial drive configu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VERTER ST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rn IGBTs have matured to a high state of electrical ruggedness that make it possible to design the inverter stag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a minimum of additional snubber circuitry  to limit either the rate of current change or the rate of voltage change  at the IGBT termin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fact, many new IGBT inverters are designed without any snubbers at a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approach has the advantage of saving cost, space, and losses in the inver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M MOHAN RAO</cp:lastModifiedBy>
  <dcterms:modified xsi:type="dcterms:W3CDTF">2010-09-23T14:02:13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