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B83-79E8-435E-BAAF-CCC14D4D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0A47-FCD9-42D3-BEFA-43501FDA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818A-B28D-4237-91AA-66475544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8BC-FE03-4233-9FFF-29AF0B58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0292-EE2A-4300-AB34-2D453939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3854-62D0-4545-9EAA-E8818BCC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CD96-1086-4E53-ABAA-32335D49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42CA-B94C-4825-BB51-45D64076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1779-F366-4159-A1EC-02136934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9D5D-116F-4E56-AF8E-F19F2B63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B5F0-9C17-4EFE-A32C-2EA3B243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7C1-6209-4A45-AA5F-1A237FFB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4CC9-AFBC-4B2A-B63A-D0DCFF4D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0FA5-8FD1-469D-B9D2-18E43A4C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9383-D0A2-421F-A665-D69A1BB7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C019-D47A-4D89-BADD-39E3CDEA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3FC4-9DFF-4C5E-AA36-6489997E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650-36DE-48DE-8BC4-621140E2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E48-F35C-46CB-BB54-18974502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4832-94B7-414F-8B00-C56AAFB2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7DB-7CFC-472A-BCE4-02C2E1B3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6DB-2A0E-498A-BC03-CEDF55FC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BDD-0B7A-4DF6-B89A-1AA2C0EB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EFA-91BE-4374-8C9D-0B61E331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88D1-AC98-4BE6-8C6B-E6BE0F51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921F-606E-404C-BA5A-AB95FEAAD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Times New Roman"/>
              </a:rPr>
              <a:t>RECENT ADVANCES IN POWER ELECTRONIC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TIFIER ST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that involve frequent and extended periods of braking (e.g., cranes) can justify the introduction of a regenerative input converter brid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rovide the drive with bidirectional power conversion cap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-phase input line reactors are essential with the active input bridge configuration to provide the necessary input impedance characteristics to the bridge termin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 of the regenerative active input bridge clearly represents an expensive solution that can only be justified that truly need bi dirctional power 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imes New Roman"/>
              </a:rPr>
              <a:t>PROGRESS OF RAIL TRACTI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HEAVY RAIL CATENARY  SUPPL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249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RAIL DIESEL ELECTRIC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10092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5486400"/>
            <a:ext cx="5257800" cy="38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MATRIX CONVERTE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19520" y="38088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FUTURE 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76288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TRIX CONVER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trix converter is a power circuit topology that has the capability of directly converting ac power at one frequency and voltage into ac power at a second frequency and volt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sic matrix converter topology only uses nine switches as shown in Fig  although each switch must provide bidirectional current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witch in Fig is typically implemented using two power switches  in an anti parallel conn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one major power semiconductor manufacturer is already offering an IGBT power module that contains all of the necessary switch elements to construct a low-power matrix conver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current issues such as industrial drive input power quality and the effects of fast IGBT switching transients on the machines and electromagnetic interference (EMI) production are review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developments in electric traction for both rail and road vehicles are discus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introduction of new hybrid vehicles using advanced power electron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ject concludes with a discussion of expected future trends in power electronics technology that will likely expand the markets for industrial and traction drives during coming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819160" y="281952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bject which deals with the equipment working on the principles of electronics at power levels rather than signal levels i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WER ELECTRONIC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to use power electronics circuits?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ROGRESS OF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OWER SEMICONDUCTOR DEVIC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Rectangle 5" descr=""/>
          <p:cNvPicPr/>
          <p:nvPr/>
        </p:nvPicPr>
        <p:blipFill>
          <a:blip r:embed="rId1"/>
          <a:stretch/>
        </p:blipFill>
        <p:spPr>
          <a:xfrm>
            <a:off x="3267000" y="2352600"/>
            <a:ext cx="1244520" cy="10922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0"/>
          <p:cNvSpPr/>
          <p:nvPr/>
        </p:nvSpPr>
        <p:spPr>
          <a:xfrm>
            <a:off x="1219320" y="2362320"/>
            <a:ext cx="1218960" cy="99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486400" y="2362320"/>
            <a:ext cx="129528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F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5562720" y="4038480"/>
            <a:ext cx="129528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GB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" name="Straight Arrow Connector 18"/>
          <p:cNvCxnSpPr/>
          <p:nvPr/>
        </p:nvCxnSpPr>
        <p:spPr>
          <a:xfrm>
            <a:off x="4495680" y="2895120"/>
            <a:ext cx="99144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0" name="Straight Arrow Connector 25"/>
          <p:cNvCxnSpPr/>
          <p:nvPr/>
        </p:nvCxnSpPr>
        <p:spPr>
          <a:xfrm>
            <a:off x="2437920" y="2819520"/>
            <a:ext cx="8391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21" name="Straight Arrow Connector 31"/>
          <p:cNvCxnSpPr/>
          <p:nvPr/>
        </p:nvCxnSpPr>
        <p:spPr>
          <a:xfrm flipH="1">
            <a:off x="6171840" y="3429000"/>
            <a:ext cx="2160" cy="61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22" name="Rectangle 14"/>
          <p:cNvSpPr/>
          <p:nvPr/>
        </p:nvSpPr>
        <p:spPr>
          <a:xfrm>
            <a:off x="5638680" y="5638680"/>
            <a:ext cx="1295640" cy="99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G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3" name="Straight Arrow Connector 31"/>
          <p:cNvCxnSpPr/>
          <p:nvPr/>
        </p:nvCxnSpPr>
        <p:spPr>
          <a:xfrm flipH="1">
            <a:off x="6248160" y="5029200"/>
            <a:ext cx="2160" cy="612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Advances in power electronic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DR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 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DRI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chine with control is dr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mechanical solutions involving combinations of dc and ac machines were developed early in the 20th century to control the speed of electric machines in industrial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 1970s. Since that time, new generations of gate-controlled power switches have successively improved the performance and cost-effectiveness of ac drives in comparison to their dc dr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most of today’s growth in the worldwide industrial drive market can be ascribed to ac dri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 TRA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l transport systems have been a major application area for electric drives since the earliest days of electric machines in the 1800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 semiconductors during the second half of the 20th century made it increasingly practical to introduce ac induction and synchronous mach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iminate the need for mechanical commutators days of electric machines in the 18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, ac adjustable-frequency rail propulsion equipment increasingly dominates new production for both light-rail and heavy-rail  trac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PROGRESS IN INDUSTRIAL DRIV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mechanical AC/DC machines in early 2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ntu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ured triggered arc power switch technology in 1920 – 1930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 state thyristors 1970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ate controlled swi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Straight Arrow Connector 5"/>
          <p:cNvCxnSpPr/>
          <p:nvPr/>
        </p:nvCxnSpPr>
        <p:spPr>
          <a:xfrm flipH="1">
            <a:off x="3809160" y="2057400"/>
            <a:ext cx="25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3" name="Straight Arrow Connector 7"/>
          <p:cNvCxnSpPr/>
          <p:nvPr/>
        </p:nvCxnSpPr>
        <p:spPr>
          <a:xfrm flipH="1">
            <a:off x="3807720" y="3201840"/>
            <a:ext cx="396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34" name="Straight Arrow Connector 9"/>
          <p:cNvCxnSpPr/>
          <p:nvPr/>
        </p:nvCxnSpPr>
        <p:spPr>
          <a:xfrm flipH="1">
            <a:off x="3884400" y="4192200"/>
            <a:ext cx="36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INDUSTRIAL DRIVE DESIGN ISSU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rter st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tifier st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enerative drive 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3800" cy="4495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3232080" cy="15238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4876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ial drive configu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ERTER ST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rn IGBTs have matured to a high state of electrical ruggedness that make it possible to design the inverter st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a minimum of additional snubber circuitry  to limit either the rate of current change or the rate of voltage change  at the IGBT termin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many new IGBT inverters are designed without any snubbers at 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pproach has the advantage of saving cost, space, and losses in the inve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M MOHAN RAO</cp:lastModifiedBy>
  <dcterms:modified xsi:type="dcterms:W3CDTF">2010-09-23T14:02:1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