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577-80BE-46CB-93E0-CCFAA41D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14C-2648-46F3-9AC5-E13A3EC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9FC-5165-4F77-8018-5FDA447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F36-857B-4FD9-AB28-BD4D1BAE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AB5-BC52-4616-B4EE-9E049EE6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35B-7814-4F65-9D50-3E1C4CC0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811-0647-41CE-9B50-F118879B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5BC-4213-4989-B882-4784CEF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51C-BD95-4470-BFA2-37E4583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97A-C91B-47B2-A581-64EA9585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438-2F53-4B35-BF09-69BD4F5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EF3-0AE0-483F-BDD2-79BAE3E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7211-7A02-4429-99DF-4E59D0DB5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5861160"/>
            <a:ext cx="914400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ng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1:20:24Z</dcterms:created>
  <dc:creator>Fossy von www.funmail2u.de</dc:creator>
  <dc:description>Diese Datei darf nicht ohne Genehmigung von FUNMAIL2U verändert werden. Erlaubt ist jedoch das unveränderte Weiterleiten dieser Datei.
...
PPSFun.net Download</dc:description>
  <dc:language>en-US</dc:language>
  <cp:lastModifiedBy>Smets</cp:lastModifiedBy>
  <dcterms:modified xsi:type="dcterms:W3CDTF">2008-08-31T20:15:01Z</dcterms:modified>
  <cp:revision>51</cp:revision>
  <dc:subject>-</dc:subject>
  <dc:title>Danger</dc:title>
</cp:coreProperties>
</file>