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72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7.jpeg" ContentType="image/jpeg"/>
  <Override PartName="/ppt/media/image64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5B1-8449-436F-BA08-340593C9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2F1-A901-4363-8602-A77DE67E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33E-148B-4D05-85D9-655BCE78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3B3-CDA9-482B-B375-806E92A5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4B3-C30F-47F1-A0AE-08EAA941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762-1FDF-46B9-9E40-023FBE07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18A-EA7C-4014-9744-BA972908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F31-C09A-4AD1-A6D3-6A670F5D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BC16-22C4-4F80-9C10-5104FBD8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568-B759-4294-991A-2771989E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345A-204B-403A-86B5-32F1CFE5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8674-E7E0-414C-A8FE-6C2CA448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7D88-0FEE-4A68-BC62-E09700E215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2.pn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48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image" Target="../media/image2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2868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86240" y="2311200"/>
            <a:ext cx="302904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6840" y="44020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84640" y="3584520"/>
            <a:ext cx="29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برنامه گرفتن اطلاعات بين دو نقطه يا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بدين منظور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 تا برنامه اجرا گرد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440160"/>
            <a:ext cx="2879640" cy="1555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77720" y="488880"/>
            <a:ext cx="2951280" cy="1511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86240" y="704880"/>
            <a:ext cx="323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عيين معلوم بودن ارتفاع منش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ارد كردن ارتفاع منش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نا معلوم بودن ارتفاع منش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روي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49360" y="3584520"/>
            <a:ext cx="5832360" cy="1225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76280" y="2223360"/>
            <a:ext cx="597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نتخاب اين موضوع كه از اطلاعات داخل حافظه استفاده ميگردد يا خي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انتخاب فايل مورد نظر و نقاط مورد نظر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انتخاب حالت بدون اطلاعات حافظه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76280" y="5745240"/>
            <a:ext cx="2951280" cy="1368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60640" y="5321160"/>
            <a:ext cx="263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گر گزينه فايل انتخاب گردد صفحه زير نمايش داده مي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نام فايل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نمايش نامهاي فايله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549360" y="7832880"/>
            <a:ext cx="2950920" cy="1184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645000" y="7891560"/>
            <a:ext cx="290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گر گزينه بدون اطلاعات حافظه انتخاب گردد بدين صورت بايد عمل ك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اين حالت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81000" y="1136520"/>
            <a:ext cx="4824360" cy="1440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64160" y="415440"/>
            <a:ext cx="47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برنامه محاسبه ارتفاع ايستگاه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هت ورود به اين برنامه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20640" y="1065240"/>
            <a:ext cx="5256360" cy="1079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92880" y="344160"/>
            <a:ext cx="47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برنامه محاسبه ارتفاع ايستگاه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هت ورود به اين برنامه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92280" y="3944880"/>
            <a:ext cx="5257800" cy="10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5000" y="2295000"/>
            <a:ext cx="522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اين صفحه اين نكته را مشخص مي نماييم كه از اطلاعات داخل حافظه مي خواهيم استفاده كنيم يا خي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استفاده از اطلاعات داخل حافظه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استفاده نكردن از اطلاعات حافظه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73360" y="5457960"/>
            <a:ext cx="28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اين صفحه توسط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ختصات نقطه استقرار را معرفي مينماي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 توسط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به منشور قراول روي مينمايي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6640" y="5529240"/>
            <a:ext cx="2376360" cy="129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836640" y="7761240"/>
            <a:ext cx="2376360" cy="1440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500280" y="7689960"/>
            <a:ext cx="299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حال با معرفي ارتفاع دوربين و مختصات نقطه استقرار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ا اندازه گيري طول و زاويه صورت گير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377208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3080" y="4016160"/>
            <a:ext cx="361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برنامه محاسبه مساحت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هت ورود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36640" y="1281240"/>
            <a:ext cx="5184720" cy="115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57440" y="344160"/>
            <a:ext cx="361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برنامه محاسبه مساحت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هت ورود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36640" y="2792520"/>
            <a:ext cx="2852640" cy="1728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292640" y="2655720"/>
            <a:ext cx="182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نتخاب نقاط از روي يك فايل توسط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نتخاب نقاط بر اساس اندازه گيري طول وزاوي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836640" y="4881600"/>
            <a:ext cx="2879640" cy="1657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365720" y="4823280"/>
            <a:ext cx="1849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ندازه گيري مختصات با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غيير واحد نمايش مساحت با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836640" y="6897600"/>
            <a:ext cx="2879640" cy="1719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149720" y="7120800"/>
            <a:ext cx="234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بازدن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ختصات ثبت شده و جهت محاسبه مختصات استفاده مي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377208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950480" y="4495320"/>
            <a:ext cx="295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ندازه گيري نقطه از خ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907920" y="1065240"/>
            <a:ext cx="5113440" cy="1224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969560" y="344160"/>
            <a:ext cx="295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ندازه گيري نقطه از خ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907920" y="2505240"/>
            <a:ext cx="1584360" cy="792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02000" y="2720520"/>
            <a:ext cx="42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اين منو ارتفاع دوربين را معرفي مينماي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907920" y="3513240"/>
            <a:ext cx="1584360" cy="792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56760" y="3728520"/>
            <a:ext cx="47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اين منو ارتفاع منشور اول  را معرفي مينماي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rcRect l="0" t="0" r="0" b="62"/>
          <a:stretch/>
        </p:blipFill>
        <p:spPr>
          <a:xfrm>
            <a:off x="907920" y="4521240"/>
            <a:ext cx="1573200" cy="792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55200" y="4736520"/>
            <a:ext cx="44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حال به منشور اول قراول روي خواهيم داش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907920" y="5530680"/>
            <a:ext cx="1584360" cy="717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145960" y="5744520"/>
            <a:ext cx="47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اين منو ارتفاع منشور دوم  را معرفي مينماي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44400" y="6681240"/>
            <a:ext cx="44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حال به منشور دوم قراول روي خواهيم داش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907920" y="6465960"/>
            <a:ext cx="1584360" cy="718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437000" y="762372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اين صفحه اختلاف ارتفاع و فاصله افقي اين دو نقطه بيان ميشو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907920" y="7400880"/>
            <a:ext cx="30258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92280" y="1136520"/>
            <a:ext cx="5256000" cy="1008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81000" y="344160"/>
            <a:ext cx="461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روشن كردن چراغ ها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گزينه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92280" y="3513240"/>
            <a:ext cx="5257800" cy="1079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5800" y="2360520"/>
            <a:ext cx="539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روشن ساختن چراغ صفحه نمايش 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خاموش ساختن چراغ صفحه نمايش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روشن ساختن چراغ تارهاي رتيكول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92280" y="4770360"/>
            <a:ext cx="2305080" cy="1046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762280" y="5024160"/>
            <a:ext cx="34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روشن ساختن شاقول ليزر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92280" y="5961240"/>
            <a:ext cx="2305080" cy="1009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500280" y="5765040"/>
            <a:ext cx="222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عرفي پارامترهاي دستگا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13000" y="7121160"/>
            <a:ext cx="3192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اطلاعات زاويه وطو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خاموش شدن دستگاه به صورت اتومات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كمپانزاتور و يا روشن ساختن آ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692280" y="7169040"/>
            <a:ext cx="230508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76280" y="415800"/>
            <a:ext cx="2879640" cy="1782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716280" y="317160"/>
            <a:ext cx="256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تنظيم خطا به صورت اتومات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نوع باط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76280" y="3513240"/>
            <a:ext cx="5761080" cy="934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2120" y="2431800"/>
            <a:ext cx="645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 READING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اطلاعات زاويه (تنظيم دقت زاوي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اطلاعات طول(تنظيم دقت طول تا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يليمت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76280" y="5457960"/>
            <a:ext cx="5761080" cy="100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125360" y="4528080"/>
            <a:ext cx="391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POWER OFF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476280" y="7689960"/>
            <a:ext cx="5761080" cy="1079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04640" y="6608880"/>
            <a:ext cx="587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صورت روشن ساختن اين منو دستگاه بعد از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قيقه به صورت اتوماتيك خاموش خواهد ش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377208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20640" y="992160"/>
            <a:ext cx="5589720" cy="792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977480" y="272520"/>
            <a:ext cx="246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LT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620640" y="2073240"/>
            <a:ext cx="2160720" cy="1224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852640" y="1733400"/>
            <a:ext cx="358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كمپانزاتور در يك جه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كمپانزاتور در دو جه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خاموش كردن كمپانزات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اييد مطالب با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20640" y="4376880"/>
            <a:ext cx="5545080" cy="100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432800" y="3657240"/>
            <a:ext cx="42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CORRECTION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620640" y="5673600"/>
            <a:ext cx="2087640" cy="895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997360" y="5744880"/>
            <a:ext cx="344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صورت روشن ساختن اين منو دستگا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به صورت اتوماتيك خطاي كرويت و انكسار را حذف مي نماي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620640" y="7616880"/>
            <a:ext cx="5545080" cy="100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65000" y="6824160"/>
            <a:ext cx="55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TYP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36000" y="876888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اين منو نوع باطري دستگاه را معرفي مي نماي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97360" y="12081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AST AD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33360" y="920880"/>
            <a:ext cx="2881440" cy="1295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716280" y="2576520"/>
            <a:ext cx="27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-اين صفحه جهت افزايش کنتراست صفحه نمايش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بدين صورت که با کليدها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 , 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صورت ميگير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-سپس با ک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طلاعات فوق را تاييد مينماييم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33360" y="2865600"/>
            <a:ext cx="2951280" cy="1325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4737240"/>
            <a:ext cx="6381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COLL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04640" y="5457960"/>
            <a:ext cx="5977080" cy="1295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429000" y="7329600"/>
            <a:ext cx="30956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اطلاعات ايستگاه استقر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ايستگاه صفر صفر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برداشت شعاعي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76280" y="7483320"/>
            <a:ext cx="2808360" cy="14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924280" y="84924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انتخاب يك فا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كدهاي برداش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مشخصات برداش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76280" y="849240"/>
            <a:ext cx="2521080" cy="1150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781360" y="2576520"/>
            <a:ext cx="35859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A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76280" y="2505240"/>
            <a:ext cx="2521080" cy="1223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65000" y="437688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اين منو گزينه اول نمايش اطلاعات خام يا طول و زاويه است و گزينه دوم نمايش اطلاعات مختصاتي يك فايل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49360" y="5457960"/>
            <a:ext cx="5688000" cy="1224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68640" y="76168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ODE IN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476280" y="7400880"/>
            <a:ext cx="2521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882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068640" y="12812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49360" y="704880"/>
            <a:ext cx="3240000" cy="1584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20640" y="2792520"/>
            <a:ext cx="587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اين منو سعي بر اين است كه فرضيات برداشت را در منو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OLLECT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تنظيم كن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نوع مد اندازه گيري طول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نوع نمايش طول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چگونگي طوليابي است(از نظر تعداد تكرا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 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04640" y="4808520"/>
            <a:ext cx="5977080" cy="1081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9360" y="6465960"/>
            <a:ext cx="594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تاييد اطلاعات مختصات قبل از ثبت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چگونگي ثبت اطلاعات مختصات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حالت محاسبه مختصات به صورت اتومات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333360" y="7689960"/>
            <a:ext cx="612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مقدم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آشنايي با صفحه كليد سيست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كليد هاي اجراي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كليد خاموش و روشن سيست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كليد انداره گيري زاو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كليد اندازه گيري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كليد اندازه گيري مختص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كليد ورود به برنامه 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كليد برگشت به حالت ق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6858000" cy="9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مقدم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آشنايي با صفحه كليد سيست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كليد هاي اجراي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كليد خاموش و روشن سيست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كليد اندازه گيري زاو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كليد اندازه گيري طو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كليد اندازه گيري مختص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كليد ورود به برنامه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كليد برگشت به حالت قب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6280" y="2216160"/>
            <a:ext cx="28796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005360" y="1143720"/>
            <a:ext cx="246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Y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76280" y="920880"/>
            <a:ext cx="3384360" cy="1584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76280" y="3008160"/>
            <a:ext cx="6021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جهت وارد كردن مختصات نقطه استقرار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مختصات نقطه اديد عقب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قسمت پياده سازي دستگاه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شدن به صفخه بعد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76280" y="4305240"/>
            <a:ext cx="6048360" cy="1152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20640" y="6105600"/>
            <a:ext cx="58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نام فايل مورد نظر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مختصات نقاط جديدي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شدن به صفخه بعد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76280" y="7113600"/>
            <a:ext cx="6048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068640" y="11365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 MGR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منوي اصلي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04640" y="776160"/>
            <a:ext cx="2519640" cy="12970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141720" y="243216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نمايش تعداد فايلهاي ذخيره شده و مقدار حافظه باقي ماند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نمايش فايلهاي مختلف ذخيره شد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پاك كردن و يا تغيير دادن يك فايل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جهت ورود به صفحه بعدي اين منو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04640" y="3081240"/>
            <a:ext cx="2519640" cy="1295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068640" y="502452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مختصات به فايل مختصات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پاك نمودن مختصاتهاي مختلف از يك فا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كد هاي مختلف براي نق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جهت ورود به صفحه بعدي اين منو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476280" y="5384880"/>
            <a:ext cx="2521080" cy="1297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068640" y="783288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انتقال اطلاعات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پاك كردن كل حافظه داخلي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جهت ورود به صفحه بعدي اين منو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76280" y="7689960"/>
            <a:ext cx="2519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3080" y="1496880"/>
            <a:ext cx="3009600" cy="2951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3080" y="5656320"/>
            <a:ext cx="3009600" cy="3192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504960" y="560160"/>
            <a:ext cx="3009960" cy="82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7000" y="57240"/>
            <a:ext cx="6858000" cy="9905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68640" y="776160"/>
            <a:ext cx="3429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-اين صفحه جهت افزايش کنتراست صفحه نمايش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بدين صورت که با کليدها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 , 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صورت ميگير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-سپس با ک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وارد صفحات اصلی دستگاه ميشوي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33360" y="1136520"/>
            <a:ext cx="2852640" cy="1513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0280" y="2720880"/>
            <a:ext cx="623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صفحه اول منوي زاويه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ين صفحه با فشار كليد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نمايش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ي ياب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صفر صفر نمودن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نگهداري لمب افق يا قرار دادن يك زاويه مشخص روي يك امتدا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قرار دادن يك زاويه خاص روي يك امتداد اين مقدار را با عدد ايجاد مينمايي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زاويه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33360" y="4808520"/>
            <a:ext cx="5832360" cy="115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52640" y="6392880"/>
            <a:ext cx="544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روشن نمودن خطا گير يا كمپانزاتور در هردو محور و شاقول ليزري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محاسبه يك زاويه به صورت تكرار است ( همان حالت كوپ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بديل زاويه قائم به شيب درص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زاويه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404640" y="8408880"/>
            <a:ext cx="59058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4160880"/>
            <a:ext cx="68580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صفحه اول منوي طولياب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ين صفحه با فشار دادن كليد مثلث نمايش مي ياب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هت اندازه گيري طول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عيين نوع اندازه گيري طول اس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, TRACK , CO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نمايش مقدار موج خروجي و ثابت منشور است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طوليابي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20640" y="6969240"/>
            <a:ext cx="568800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6640" y="631800"/>
            <a:ext cx="558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روشن نمودن بوقي است كه در زواياي قائمه صدا مي ده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عويض سمت افزايش زاويه افق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تعويض محل صفر زاويه قائ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زاويه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20640" y="2073240"/>
            <a:ext cx="5688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3080" y="2311200"/>
            <a:ext cx="3009600" cy="6537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04960" y="2311200"/>
            <a:ext cx="30099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6280" y="4232160"/>
            <a:ext cx="6062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صفحه اول نمايش مختصات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ين صفحه با فشار كليد صفحات مختصات تمايش داده مي شو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هت اندازه گيري مختصات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عيين نوع اندازه گيري طول اس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, TRACK , CO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نمايش مقدار موج خروجي و ثابت منشور است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مختصات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49360" y="1568520"/>
            <a:ext cx="3097080" cy="1584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49720" y="920880"/>
            <a:ext cx="2374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ايجاد يك اندازه گيري انحرافي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پياده سازي يك طول مشخص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غيير واحد طول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طوليابي 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6280" y="6824520"/>
            <a:ext cx="59770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49360" y="920880"/>
            <a:ext cx="3141720" cy="2520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49720" y="576000"/>
            <a:ext cx="2205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ارتفاع منشور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ارتفاع دوربين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مختصات نقطه استقرار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مختصات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6280" y="488880"/>
            <a:ext cx="3141720" cy="2160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076640" y="286920"/>
            <a:ext cx="2205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ارتفاع منشور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ارتفاع دوربين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مختصات نقطه استقرار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مختصات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77720" y="3728880"/>
            <a:ext cx="3095640" cy="2087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60640" y="4024080"/>
            <a:ext cx="2619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اندازه گيري مختصات به روشهاي انحرافي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غيير واحد اندازه گيري طول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مختصات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04640" y="7943760"/>
            <a:ext cx="6048720" cy="1546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6280" y="6243480"/>
            <a:ext cx="59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با زدن كلي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صفحه زير نمايش مي يابد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اطلاع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طرح بندي اطلاع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حافظه و تغيير دادن آ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3080" y="2311200"/>
            <a:ext cx="3009600" cy="6537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504960" y="2311200"/>
            <a:ext cx="3009960" cy="6537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3808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1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هت ورود به منوي برنامه 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هت روشن كردن شاقول ليزر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هت روشن كردن تارهاي رتيكول و صفحه نما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هت ورود به صفحه بعدي منو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04640" y="992160"/>
            <a:ext cx="2997360" cy="1657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005360" y="488880"/>
            <a:ext cx="2519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منوي برنامه ه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روشن كردن شاقول ليزر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روشن كردن تارهاي رتيكول و صفحه نماي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404640" y="3584520"/>
            <a:ext cx="2953080" cy="1655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076640" y="394452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منوي پارامتر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عيين مقدار روشنايي صفحه نماي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404640" y="6699240"/>
            <a:ext cx="2953080" cy="1638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716280" y="6976080"/>
            <a:ext cx="2781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ر صفحه دو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گزينه برنامه ها را فشار مي 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6280" y="849240"/>
            <a:ext cx="2879640" cy="1440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33720" y="358200"/>
            <a:ext cx="2492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برنامه اندازه گيري ارتفاع از راه دور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اندازه گيري غير مستقيم فاصل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اندازه گيري ارتفاع نقطه استقرا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 برنامه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49360" y="3513240"/>
            <a:ext cx="2879640" cy="143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60640" y="3807360"/>
            <a:ext cx="2565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برنامه اندازه گيري مساحت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برنامه تقاط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20640" y="7329600"/>
            <a:ext cx="5472360" cy="1295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58896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عيين معلوم بودن ارتفاع منش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ارد كردن ارتفاع منش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نا معلوم بودن ارتفاع منش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روي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3080" y="2311200"/>
            <a:ext cx="3009600" cy="6537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04640" y="1136520"/>
            <a:ext cx="3025800" cy="1224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716280" y="364680"/>
            <a:ext cx="262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عيين معلوم بودن ارتفاع منش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ارد كردن ارتفاع منش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نا معلوم بودن ارتفاع منش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روي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33720" y="3375720"/>
            <a:ext cx="23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رود ارتفاع منشور از طري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ي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 سپس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كردن آ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76280" y="3368520"/>
            <a:ext cx="3024000" cy="1152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476280" y="5313240"/>
            <a:ext cx="3024000" cy="1152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6640" y="5457960"/>
            <a:ext cx="2328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ندازه گيري طول افق با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ذخيره اطلاعات بدست آمده با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476280" y="7257960"/>
            <a:ext cx="3024000" cy="1079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716280" y="7329600"/>
            <a:ext cx="279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حاسبه اختلاف ارتفا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نمايش ارتفاع منش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نمايش مقدار طول اندازه گيري شد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3:38:27Z</dcterms:created>
  <dc:creator>Mehregan.Co</dc:creator>
  <dc:description/>
  <dc:language>en-US</dc:language>
  <cp:lastModifiedBy>Mehregan.Co</cp:lastModifiedBy>
  <dcterms:modified xsi:type="dcterms:W3CDTF">2007-11-27T07:08:11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07000000000001024140</vt:lpwstr>
  </property>
</Properties>
</file>