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8E7-C393-43C2-AEE2-6627F549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684-166D-4FF7-890C-3EFF2182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649-EEA7-4BB7-80F2-6A0A8F40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268-5CD9-45A4-8850-B6B17AA9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DF5-26B5-4C11-B3A3-5C714DA3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6A1-9481-45E6-8DE5-D855068C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754-607D-4450-B41B-0299466C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466-6D1F-4BF7-BE0E-FCA8D5D1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0C6-FDF9-4DB0-AE51-8FB7E04C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0F9-CBDC-4598-9E76-7A82FEF4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0BC-46B8-4BF4-8627-A5261D1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B73-73AC-4CB9-9EC3-11F57FD5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71491-36AD-4BF3-ACD9-C574D3A198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5EE38-226E-4432-B8EC-466D2D2B9A1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6:33:15Z</dcterms:created>
  <dc:creator>최봉수</dc:creator>
  <dc:description/>
  <dc:language>en-US</dc:language>
  <cp:lastModifiedBy>맛있다 군만두</cp:lastModifiedBy>
  <dcterms:modified xsi:type="dcterms:W3CDTF">2024-10-01T03:01:54Z</dcterms:modified>
  <cp:revision>3</cp:revision>
  <dc:subject/>
  <dc:title>슬라이드 1</dc:title>
</cp:coreProperties>
</file>