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451-8FC1-48FC-9B12-75CFD184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4BA-D1FC-476B-BF7B-11843D91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60A-08C3-4CA0-816D-79300B02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A3A-3E02-4009-A8A5-46F03C6E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B55-DDAF-4BDC-9F89-45BBFB10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18F-7CB7-4C1E-A88B-EAA1F12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5E0-8C65-4C7E-A43B-9117A71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D09-66D0-4DDA-9A04-88AC81F0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443-AC52-45E8-8F65-CB867943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779-B9B7-41AA-BE03-493E2FA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692-0F71-4846-9963-A0CCC3F8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2BA-D8C3-4362-81AB-26E5FA44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9AB53-4366-4AA5-9A96-8949A5A645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48FCD-E128-43BF-82C8-22115BBF348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6:33:15Z</dcterms:created>
  <dc:creator>최봉수</dc:creator>
  <dc:description/>
  <dc:language>en-US</dc:language>
  <cp:lastModifiedBy>맛있다 군만두</cp:lastModifiedBy>
  <dcterms:modified xsi:type="dcterms:W3CDTF">2024-10-01T03:01:54Z</dcterms:modified>
  <cp:revision>3</cp:revision>
  <dc:subject/>
  <dc:title>슬라이드 1</dc:title>
</cp:coreProperties>
</file>