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4F5-324A-4B3E-A7B0-456E9835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004-36D7-4FD9-8197-C15DAEEF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6250-A753-4400-9333-93D7B8DA3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B7EB-A75B-4DAF-BCA4-21F7166B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716D-5487-43BD-9D46-63896566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822C-C0D4-4C43-BF9F-D7DA7712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7842-4769-4EF3-BC5A-B6500E68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8A79-60BD-4B1C-93AD-F22B766E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73B5-4220-493A-ABA4-D86250BA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99E5-5483-4C59-AF93-F3CA23E8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912C-AAAD-45E5-BB48-2D32E883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0E86-1C9D-4C54-84D4-9D81C286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8730C-1206-4193-93EE-5ED454E4A36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CFAFCA-D758-4709-9EAB-ED7EFFB380B3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41:05Z</dcterms:created>
  <dc:creator>최봉수</dc:creator>
  <dc:description/>
  <dc:language>en-US</dc:language>
  <cp:lastModifiedBy>맛있다 군만두</cp:lastModifiedBy>
  <dcterms:modified xsi:type="dcterms:W3CDTF">2023-07-13T11:17:47Z</dcterms:modified>
  <cp:revision>3</cp:revision>
  <dc:subject/>
  <dc:title>슬라이드 1</dc:title>
</cp:coreProperties>
</file>