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52CE-3036-45B2-9F87-859DFFC49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6950-360C-43AB-9500-1A5498EDE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2E8A-A0EA-4D4E-975D-5B3508D76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BE86-5C52-41D7-A550-5F96DEEE3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6084-9AC3-45E7-BE38-4BB78A19D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B97A-5376-407A-AAC9-C769B4443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CC0C-F81B-4B4D-90A9-14F0089C6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D45B-A8CF-47C4-9DDB-DB2844E1F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0413-4089-4FA8-8B4B-5DA99AF53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5BEE-2C81-4C7E-BB92-F08F62D5D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F56B-4693-42C3-97D2-1ECB5C16B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5CF7-F497-457E-AB9D-1F294942C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540F2-7DC0-41F2-9AC9-06CD35B9C7DD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5.xml"/><Relationship Id="rId3" Type="http://schemas.openxmlformats.org/officeDocument/2006/relationships/image" Target="../media/image10.jpeg"/><Relationship Id="rId4" Type="http://schemas.openxmlformats.org/officeDocument/2006/relationships/slide" Target="slide8.xml"/><Relationship Id="rId5" Type="http://schemas.openxmlformats.org/officeDocument/2006/relationships/image" Target="../media/image11.jpeg"/><Relationship Id="rId6" Type="http://schemas.openxmlformats.org/officeDocument/2006/relationships/hyperlink" Target="file:///../&#1601;&#1607;&#1585;&#1587;%20&#1575;&#1604;&#1578;&#1585;&#1575;&#1606;&#1610;&#1605;.pps" TargetMode="External"/><Relationship Id="rId7" Type="http://schemas.openxmlformats.org/officeDocument/2006/relationships/image" Target="../media/image11.jpeg"/><Relationship Id="rId8" Type="http://schemas.openxmlformats.org/officeDocument/2006/relationships/slide" Target="slide1.xml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914400" y="1889280"/>
            <a:ext cx="7313760" cy="22870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ff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آتي إليك يا فادي حياتي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43000" y="3306600"/>
            <a:ext cx="6705720" cy="22870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ff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يا من تزيلُ كلَّ خوفي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35280" y="404640"/>
            <a:ext cx="2089080" cy="7956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8026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905120" y="1249200"/>
            <a:ext cx="5333760" cy="22258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ff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آتي إليك </a:t>
            </a:r>
            <a:r>
              <a:rPr b="1" lang="ar-SA" sz="6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يا نجاتي</a:t>
            </a: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2468520"/>
            <a:ext cx="7467480" cy="22870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ff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يا رافعي من كل ضعفي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04920" y="1447920"/>
            <a:ext cx="8458200" cy="192132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ff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إليك يا مانح الغفران أرفع نشيد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2697120"/>
            <a:ext cx="6248520" cy="192132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ff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إذ قلتَ لذتي في الإنسان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76520" y="3992400"/>
            <a:ext cx="5790960" cy="192132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ff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أعطيتَ معنى لوجود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80880" y="2117880"/>
            <a:ext cx="7391520" cy="253044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فيلذُّ لك نشيد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3413160"/>
            <a:ext cx="7391520" cy="13114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وأنا أفرح بك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635280" y="404640"/>
            <a:ext cx="2089080" cy="7956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cs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09480" y="1828800"/>
            <a:ext cx="7543800" cy="22870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آتي إليك يا</a:t>
            </a:r>
            <a:r>
              <a:rPr b="1" lang="en-US" sz="72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</a:t>
            </a: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حبيبي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00200" y="3170160"/>
            <a:ext cx="5867280" cy="22870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أنسيتني كلَّ ماضيَّ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404640"/>
            <a:ext cx="2089080" cy="7956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80880" y="716040"/>
            <a:ext cx="5105520" cy="22870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بانتصار شخصك</a:t>
            </a:r>
            <a:r>
              <a:rPr b="1" lang="en-US" sz="72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2087640"/>
            <a:ext cx="7086600" cy="22870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في حياتي</a:t>
            </a:r>
            <a:r>
              <a:rPr b="1" lang="ar-EG" sz="72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</a:t>
            </a: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لا عبودية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6320" y="1143000"/>
            <a:ext cx="8839080" cy="192132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إليك يا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</a:t>
            </a:r>
            <a:r>
              <a:rPr b="1" lang="ar-SA" sz="6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مانح السلام أطلب حضورك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2239920"/>
            <a:ext cx="5943600" cy="192132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حيَّ في داخلي الآن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0" y="3687840"/>
            <a:ext cx="4191120" cy="192132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وسلطانَ روحِك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-1440" y="0"/>
            <a:ext cx="9144000" cy="6856560"/>
          </a:xfrm>
          <a:prstGeom prst="rect">
            <a:avLst/>
          </a:prstGeom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</p:pic>
      <p:sp>
        <p:nvSpPr>
          <p:cNvPr id="68" name=""/>
          <p:cNvSpPr/>
          <p:nvPr/>
        </p:nvSpPr>
        <p:spPr>
          <a:xfrm>
            <a:off x="2514600" y="2057400"/>
            <a:ext cx="4419720" cy="21034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فيلذُّ لك نشيدي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14600" y="3048120"/>
            <a:ext cx="4419720" cy="21034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وأنا أفرح بك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35280" y="404640"/>
            <a:ext cx="2089080" cy="7956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cs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72" name="">
            <a:hlinkClick r:id="rId2" action="ppaction://hlinksldjump"/>
          </p:cNvPr>
          <p:cNvSpPr/>
          <p:nvPr/>
        </p:nvSpPr>
        <p:spPr>
          <a:xfrm>
            <a:off x="5292720" y="1413000"/>
            <a:ext cx="3816360" cy="707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- 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cs typeface="Times New Roman"/>
              </a:rPr>
              <a:t>آتى إليك يا حبيب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rId4" action="ppaction://hlinksldjump"/>
          </p:cNvPr>
          <p:cNvSpPr/>
          <p:nvPr/>
        </p:nvSpPr>
        <p:spPr>
          <a:xfrm>
            <a:off x="108000" y="1281240"/>
            <a:ext cx="4176720" cy="707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ff"/>
                </a:solidFill>
                <a:latin typeface="Arial"/>
                <a:ea typeface="Arial"/>
              </a:rPr>
              <a:t> القرار : </a:t>
            </a:r>
            <a:r>
              <a:rPr b="1" lang="ar-EG" sz="4000" spc="-1" strike="noStrike">
                <a:solidFill>
                  <a:srgbClr val="0000ff"/>
                </a:solidFill>
                <a:latin typeface="Arial"/>
                <a:cs typeface="Times New Roman"/>
              </a:rPr>
              <a:t>فيلذ لك نشيدى</a:t>
            </a:r>
            <a:r>
              <a:rPr b="1" lang="ar-EG" sz="4000" spc="-1" strike="noStrike">
                <a:solidFill>
                  <a:srgbClr val="0000ff"/>
                </a:solidFill>
                <a:latin typeface="Arial"/>
                <a:ea typeface="Arial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392">
            <a:hlinkClick r:id="rId6"/>
          </p:cNvPr>
          <p:cNvSpPr/>
          <p:nvPr/>
        </p:nvSpPr>
        <p:spPr>
          <a:xfrm>
            <a:off x="900000" y="260280"/>
            <a:ext cx="2376720" cy="11912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  <a:effectLst>
            <a:outerShdw dist="28496" dir="92255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ff"/>
                </a:solidFill>
                <a:latin typeface="Arial"/>
                <a:cs typeface="Arial"/>
              </a:rPr>
              <a:t>فهرس التراني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8" action="ppaction://hlinksldjump"/>
          </p:cNvPr>
          <p:cNvSpPr/>
          <p:nvPr/>
        </p:nvSpPr>
        <p:spPr>
          <a:xfrm>
            <a:off x="5292720" y="417600"/>
            <a:ext cx="3816360" cy="7077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- 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cs typeface="Times New Roman"/>
              </a:rPr>
              <a:t>آتى إليك يا فاد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3T12:02:07Z</dcterms:created>
  <dc:creator/>
  <dc:description/>
  <dc:language>en-US</dc:language>
  <cp:lastModifiedBy>Sp2</cp:lastModifiedBy>
  <dcterms:modified xsi:type="dcterms:W3CDTF">2008-10-05T12:17:48Z</dcterms:modified>
  <cp:revision>47</cp:revision>
  <dc:subject/>
  <dc:title>عرض تقديمي من PowerPoint</dc:title>
</cp:coreProperties>
</file>