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A24-8F95-4B28-B0FC-63627700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C38-152F-46C6-8308-273A3C18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393-48D3-4489-93CF-A9AE174E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626-E81C-4924-B989-21B6D705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9D3-7613-43D4-8FAA-6AAB3DF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17F-97B1-49E0-AAFA-59D8128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CEA-CD57-4F79-BDFC-B8B4CBD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D00-6E5B-418F-8DC5-47B4BDD4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EB8-D243-4B22-910D-82E2D2E9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536-2E5D-4CFE-9A9A-9ED1EA6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814-D358-4E77-90AA-E4B27B4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0D3-8CF8-4804-9415-75D1E0F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DFCC-A177-4983-9BF6-3B9887F9781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" Target="slide8.xml"/><Relationship Id="rId5" Type="http://schemas.openxmlformats.org/officeDocument/2006/relationships/image" Target="../media/image11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11.jpeg"/><Relationship Id="rId8" Type="http://schemas.openxmlformats.org/officeDocument/2006/relationships/slide" Target="slide1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1889280"/>
            <a:ext cx="73137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يا فادي حيات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306600"/>
            <a:ext cx="67057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من تزيلُ كلَّ خو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802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1249200"/>
            <a:ext cx="5333760" cy="2225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نجاتي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468520"/>
            <a:ext cx="7467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افعي من كل ضع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447920"/>
            <a:ext cx="845820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يك يا مانح الغفران أرفع نشيد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697120"/>
            <a:ext cx="624852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ذ قلتَ لذتي في الإنس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992400"/>
            <a:ext cx="579096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عطيتَ معنى لوجود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117880"/>
            <a:ext cx="739152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لذُّ لك نش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13160"/>
            <a:ext cx="7391520" cy="1311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نا أفرح ب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1828800"/>
            <a:ext cx="75438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يا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ي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170160"/>
            <a:ext cx="58672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سيتني كلَّ ماضي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716040"/>
            <a:ext cx="5105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نتصار شخصك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087640"/>
            <a:ext cx="7086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حياتي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عبو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1143000"/>
            <a:ext cx="883908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يك يا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انح السلام أطلب حضور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39920"/>
            <a:ext cx="594360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يَّ في داخلي الآ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687840"/>
            <a:ext cx="419112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لطانَ روحِ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6560"/>
          </a:xfrm>
          <a:prstGeom prst="rect">
            <a:avLst/>
          </a:prstGeom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2514600" y="2057400"/>
            <a:ext cx="441972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لذُّ لك نشيد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048120"/>
            <a:ext cx="441972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نا أفرح ب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آتى إليك يا حبيب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cs typeface="Times New Roman"/>
              </a:rPr>
              <a:t>فيلذ لك نشيدى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آتى إليك يا ف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2:02:07Z</dcterms:created>
  <dc:creator/>
  <dc:description/>
  <dc:language>en-US</dc:language>
  <cp:lastModifiedBy>Sp2</cp:lastModifiedBy>
  <dcterms:modified xsi:type="dcterms:W3CDTF">2008-10-05T12:17:48Z</dcterms:modified>
  <cp:revision>47</cp:revision>
  <dc:subject/>
  <dc:title>عرض تقديمي من PowerPoint</dc:title>
</cp:coreProperties>
</file>