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8C30-EADC-4241-BF20-62F083B8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6C6-3783-4260-9525-97F4E96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2A6-664D-4A75-AC71-1930BED6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2F1-EFCB-4D60-9B19-EC083BB6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C0F-D16B-464D-B07E-50CF527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62D-78AC-4EB8-844F-80F8079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850-EFAF-45B4-8CFD-304D435D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47B-B639-4F2B-B0FB-9E5CC93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8E-6B45-41C1-BEDA-367B4418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159-14F1-48E1-95D8-9664326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4C3-82BD-4E86-A843-B7796D92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D7F-1B77-4393-8D42-AA895FD7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20C74-0A3C-4348-A4C3-6E850D634A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084A6-88F9-4619-A8F1-44CA3EBDA5B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01:33Z</dcterms:created>
  <dc:creator>최봉수</dc:creator>
  <dc:description/>
  <dc:language>en-US</dc:language>
  <cp:lastModifiedBy>맛있다 군만두</cp:lastModifiedBy>
  <dcterms:modified xsi:type="dcterms:W3CDTF">2024-10-01T02:52:53Z</dcterms:modified>
  <cp:revision>3</cp:revision>
  <dc:subject/>
  <dc:title>슬라이드 1</dc:title>
</cp:coreProperties>
</file>