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371-A878-496E-A694-1E93AD16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9A0-7141-4DA9-ACBF-085F6DBF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76A-6CCA-445F-AFBC-BA8A76F0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101-D2C4-4CEC-9207-C373FD25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A11-E6B9-49E4-85F1-C0D41706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FC1-ECD9-4A1E-A1D6-4DDBD941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A6A-0D1D-424B-90A8-F05BFE0D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6E4-42A7-4D85-885A-B301400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F2C-64B6-42A0-AE75-80D9147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A9A-2CE5-441C-8C1D-73BD654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F54-274D-42DE-89BB-CF692DC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DDE-3F72-49DE-8135-38B1541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385CB-AB23-4DC9-A181-36F0E5E2FF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F0AD1-0566-4CE6-8554-AF2E3DB33AA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1:33Z</dcterms:created>
  <dc:creator>최봉수</dc:creator>
  <dc:description/>
  <dc:language>en-US</dc:language>
  <cp:lastModifiedBy>맛있다 군만두</cp:lastModifiedBy>
  <dcterms:modified xsi:type="dcterms:W3CDTF">2024-10-01T02:52:53Z</dcterms:modified>
  <cp:revision>3</cp:revision>
  <dc:subject/>
  <dc:title>슬라이드 1</dc:title>
</cp:coreProperties>
</file>