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17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5DBACD-C8BA-4C09-BD4C-21F9AA719C6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E0AB84F-2C79-458A-AEF8-7603499CCEB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5DA335-2DB0-4E2A-A800-A72C2F13344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3B99DE-DD0E-4FC0-880C-10C6EBAAEDF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FFB6A0-26D6-4BCB-B4EB-0762CFC73D2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242A74-7171-4FDB-965C-D51F1628D25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82EA54-1832-4FDA-BA29-1BAFFB2067B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ED7EFC-EF64-4B5E-BAA6-EAD2D58D857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0EA4D3-9B84-4CE9-BC9C-B4AC15CBD61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472126B-26EB-49EC-BFAE-6547353F998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08CC01-BE55-4B54-8D34-DB9FA82CF9B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6CFB5C-3F43-42D8-9F8C-5F6ABC630DB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D1B468-563D-4AEC-BAD7-D34BA96EFAC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F524CB-1E4F-414F-92EC-4E88F263C4D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0D079D-B088-40D2-8E33-3F3E1403F2E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1F5A80-A845-496E-8C39-3A95497AC116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E13228-0B8A-40F1-BC88-FE85792F3834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C98282-0F6D-438F-84C2-2911DD4ED38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DD1EF1-2C00-40F8-9016-10543C76980B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ABF13A-97B7-49D0-8BC8-3A0F7C0C278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B6C7F6-8E75-4058-B37B-4A3BCB1FCFE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CE6C80-C3F5-4064-B51F-20635C93852B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0B38C5-03F6-4AB0-979F-0AF97B3F1F6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C11F85-8EF8-48DB-9DD5-8E04A03AB753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CA2B6F-626C-4328-A8FC-3B271F2EFE6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196719-9662-4C70-8004-1658883310A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E1C235-31FB-47B3-AC7B-8F93FEAF161B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3C6E01-9E40-479D-B1DD-1F953489506B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D50C-6DEB-46F0-A4CD-51FB1828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81E-B788-46AC-AA99-E3B2CB1E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F64E-C4CB-45A2-9205-07225F8B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381-77CD-4A4E-9DD2-9EAAB303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980-75E6-40C7-B902-57CD1954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84E7-6715-45C6-BA0D-B0B5E592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D43A-B391-4993-8EA8-A3F1352C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DDFC-58F6-4CBC-B273-2D590A78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60C-B8D0-41B5-B1BD-5D4EFF1F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67AB-BAFF-4B37-AF50-5F1879D5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C40-9C3F-4EA0-B8CB-6C336D4A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593-C803-4581-97B8-9CE0E636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A047-E781-4A9C-8B28-8347B137722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2178-B61F-4E2C-AE78-AED17877082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Chapitre 3 :Algèbre de Bo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39640" y="3500280"/>
            <a:ext cx="7704360" cy="26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finition des variables et fonctions lo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s opérateurs de base et les portes logiqu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s lois fondamentales de l’algèbre de Bo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FA20-8DDF-4CFC-AA37-11E43A81DAD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4. Opérateurs logiques de base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4.1 NON ( nég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N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  est un opérateur unaire ( une seule variable) qui à pour rôle d’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invers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a valeur d’une variable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(A)=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N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  lire :  A barr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2195640" y="464652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"/>
          <p:cNvPicPr/>
          <p:nvPr/>
        </p:nvPicPr>
        <p:blipFill>
          <a:blip r:embed="rId2"/>
          <a:stretch/>
        </p:blipFill>
        <p:spPr>
          <a:xfrm>
            <a:off x="4932360" y="4149720"/>
            <a:ext cx="48420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3419640" y="4005360"/>
          <a:ext cx="2232000" cy="2562120"/>
        </p:xfrm>
        <a:graphic>
          <a:graphicData uri="http://schemas.openxmlformats.org/drawingml/2006/table">
            <a:tbl>
              <a:tblPr/>
              <a:tblGrid>
                <a:gridCol w="1068120"/>
                <a:gridCol w="11638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Group 51"/>
          <p:cNvGrpSpPr/>
          <p:nvPr/>
        </p:nvGrpSpPr>
        <p:grpSpPr>
          <a:xfrm>
            <a:off x="5942520" y="2781360"/>
            <a:ext cx="400320" cy="459720"/>
            <a:chOff x="5942520" y="2781360"/>
            <a:chExt cx="400320" cy="459720"/>
          </a:xfrm>
        </p:grpSpPr>
        <p:sp>
          <p:nvSpPr>
            <p:cNvPr id="97" name="Text Box 49"/>
            <p:cNvSpPr/>
            <p:nvPr/>
          </p:nvSpPr>
          <p:spPr>
            <a:xfrm>
              <a:off x="5942520" y="2781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0"/>
            <p:cNvSpPr/>
            <p:nvPr/>
          </p:nvSpPr>
          <p:spPr>
            <a:xfrm>
              <a:off x="5960880" y="2833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4DCF-E3B4-4F87-A79E-6E906AFA556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T  ( AND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77756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E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st un opérateur binaire ( deux variables) , à pour rôle de réaliser l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Produit logiqu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eux variables booléen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E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ait la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 conjonction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e deux variables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ET est défini p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F(A,B)= 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tretch/>
        </p:blipFill>
        <p:spPr>
          <a:xfrm>
            <a:off x="7740720" y="4941720"/>
            <a:ext cx="484200" cy="303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743040" cy="26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684360" y="3716280"/>
          <a:ext cx="4038480" cy="2408400"/>
        </p:xfrm>
        <a:graphic>
          <a:graphicData uri="http://schemas.openxmlformats.org/drawingml/2006/table">
            <a:tbl>
              <a:tblPr/>
              <a:tblGrid>
                <a:gridCol w="1346040"/>
                <a:gridCol w="1346040"/>
                <a:gridCol w="1346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70A6-CAEA-4348-9E94-2CF60D0D8E8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4.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 ( OR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353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OU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st un opérateur binaire ( deux variables) ,  à pour rôle de réaliser la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somme  logiqu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eux variables log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OU fait la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 disjonction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e deux variables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OU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t défini p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(A,B)=  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      (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ne faut pas confondre avec la somme arithmét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3" descr=""/>
          <p:cNvPicPr/>
          <p:nvPr/>
        </p:nvPicPr>
        <p:blipFill>
          <a:blip r:embed="rId1"/>
          <a:stretch/>
        </p:blipFill>
        <p:spPr>
          <a:xfrm>
            <a:off x="2556000" y="4508640"/>
            <a:ext cx="742680" cy="26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971640" y="3645000"/>
          <a:ext cx="3887640" cy="2808360"/>
        </p:xfrm>
        <a:graphic>
          <a:graphicData uri="http://schemas.openxmlformats.org/drawingml/2006/table">
            <a:tbl>
              <a:tblPr/>
              <a:tblGrid>
                <a:gridCol w="1295280"/>
                <a:gridCol w="1297080"/>
                <a:gridCol w="12952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+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34EF-353E-4636-A1FF-4C1C5E70276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Remarques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la définition des opérateurs ET , OU , nous avons juste donner la définition de base avec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eux variables logiqu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opérateur ET peut réaliser le produit d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plusieurs variabl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ogique  ( ex :  A . B . C . D  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opérateur OU peut aussi réaliser la somme logique d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plusieurs variabl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ogiques  ( ex : A + B + C +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une expression on peut aussi utiliser les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parenthè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DD33-2E1F-4B32-9A44-B8FD1A3BCA1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4 Précédence des opérateurs ( priorité des opérateur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2310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évaluer une expression logique ( fonction logique)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commence par évaluer les sous expressions entre le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arenthès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uis l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complémen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 NON )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suite l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rodui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logique ( E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fin la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som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logique ( 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emple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6"/>
              <p:cNvSpPr txBox="1"/>
              <p:nvPr/>
            </p:nvSpPr>
            <p:spPr>
              <a:xfrm>
                <a:off x="900000" y="3141720"/>
                <a:ext cx="4824360" cy="27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,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on veut calculer  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lors :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Text Box 8"/>
          <p:cNvSpPr/>
          <p:nvPr/>
        </p:nvSpPr>
        <p:spPr>
          <a:xfrm>
            <a:off x="254520" y="5877000"/>
            <a:ext cx="739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Exercice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ouver la table de vérité de la fonction précédente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1C07-38E9-434E-AED5-2626F6BEDBF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9540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olution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50920" y="1962000"/>
                <a:ext cx="3979800" cy="444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,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0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0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,0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,0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,1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,1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21" name=""/>
          <p:cNvGraphicFramePr/>
          <p:nvPr/>
        </p:nvGraphicFramePr>
        <p:xfrm>
          <a:off x="5292720" y="1989000"/>
          <a:ext cx="3095640" cy="4408560"/>
        </p:xfrm>
        <a:graphic>
          <a:graphicData uri="http://schemas.openxmlformats.org/drawingml/2006/table">
            <a:tbl>
              <a:tblPr/>
              <a:tblGrid>
                <a:gridCol w="615960"/>
                <a:gridCol w="696960"/>
                <a:gridCol w="531720"/>
                <a:gridCol w="263520"/>
                <a:gridCol w="987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Text Box 71"/>
          <p:cNvSpPr/>
          <p:nvPr/>
        </p:nvSpPr>
        <p:spPr>
          <a:xfrm>
            <a:off x="179280" y="620640"/>
            <a:ext cx="813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trouver la table de vérité , il faut trouver la valeur de la fonction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chaque combinaisons des trois variables A, B 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 variabl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3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= 8 combinaisons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AB8A-63E1-4645-B360-EC71688C201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4.5 Lois fondamentales de l’Algèbre de Bo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11280" y="148428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opérateur 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8"/>
              <p:cNvSpPr txBox="1"/>
              <p:nvPr/>
            </p:nvSpPr>
            <p:spPr>
              <a:xfrm>
                <a:off x="971640" y="2349360"/>
                <a:ext cx="374472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</m:ba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EA60-A5D3-4E64-A392-F80FDB047A8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68360" y="765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opérateur 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468360" y="2146320"/>
                <a:ext cx="7488360" cy="27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Associativité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Commutativité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Idempotence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Elément neutre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Elément absorba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475F-3559-4F98-BEC1-61010548CB0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50920" y="62064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opérateur 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468360" y="2060640"/>
                <a:ext cx="8424720" cy="25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Associativité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  Commutativité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         Idempotenc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          Elément neutr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            Elément absorba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10FD-84B9-47C1-B9C4-2E6C477260D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26160" y="333360"/>
            <a:ext cx="24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istribu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9"/>
              <p:cNvSpPr txBox="1"/>
              <p:nvPr/>
            </p:nvSpPr>
            <p:spPr>
              <a:xfrm>
                <a:off x="179280" y="1413000"/>
                <a:ext cx="86043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 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Distributivité du ET sur le OU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 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Distributivité du OU sur le E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3"/>
              <p:cNvSpPr txBox="1"/>
              <p:nvPr/>
            </p:nvSpPr>
            <p:spPr>
              <a:xfrm>
                <a:off x="826920" y="3645000"/>
                <a:ext cx="4392720" cy="26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Text Box 16"/>
          <p:cNvSpPr/>
          <p:nvPr/>
        </p:nvSpPr>
        <p:spPr>
          <a:xfrm>
            <a:off x="250920" y="2852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utres  relations u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E6AE-6C20-4D0D-9B73-450CE3F53D4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Introductio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machines numériques sont constituées d’un ensemble d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circui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électro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aque circuit fournit un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fonction log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bien déterminée ( addition,  comparaison ,…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395280" y="5445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fonction F(A,B) peut être : la somme de A et B , ou le résultat de la comparaison de A et B ou une autre fo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0"/>
          <p:cNvGrpSpPr/>
          <p:nvPr/>
        </p:nvGrpSpPr>
        <p:grpSpPr>
          <a:xfrm>
            <a:off x="1298520" y="3500280"/>
            <a:ext cx="6043680" cy="1657440"/>
            <a:chOff x="1298520" y="3500280"/>
            <a:chExt cx="6043680" cy="1657440"/>
          </a:xfrm>
        </p:grpSpPr>
        <p:sp>
          <p:nvSpPr>
            <p:cNvPr id="56" name="Rectangle 5"/>
            <p:cNvSpPr/>
            <p:nvPr/>
          </p:nvSpPr>
          <p:spPr>
            <a:xfrm>
              <a:off x="3355920" y="3500280"/>
              <a:ext cx="2284560" cy="165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6"/>
            <p:cNvSpPr/>
            <p:nvPr/>
          </p:nvSpPr>
          <p:spPr>
            <a:xfrm>
              <a:off x="1944720" y="3933720"/>
              <a:ext cx="141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9"/>
            <p:cNvSpPr/>
            <p:nvPr/>
          </p:nvSpPr>
          <p:spPr>
            <a:xfrm>
              <a:off x="1944720" y="4653000"/>
              <a:ext cx="141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>
              <a:off x="5640480" y="4365720"/>
              <a:ext cx="141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3"/>
            <p:cNvSpPr/>
            <p:nvPr/>
          </p:nvSpPr>
          <p:spPr>
            <a:xfrm>
              <a:off x="1332000" y="37162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4"/>
            <p:cNvSpPr/>
            <p:nvPr/>
          </p:nvSpPr>
          <p:spPr>
            <a:xfrm>
              <a:off x="6012000" y="3860640"/>
              <a:ext cx="133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F(A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7"/>
            <p:cNvSpPr/>
            <p:nvPr/>
          </p:nvSpPr>
          <p:spPr>
            <a:xfrm>
              <a:off x="1298520" y="450864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AD84-890C-4835-B719-35A864507F9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ualité de l’algèbre de Bo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 expression logique rest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vrai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i on remplace le ET par le OU , le OU par le ET , le 1 par 0 , le 0 par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1403280" y="3618000"/>
                <a:ext cx="590544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 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 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9334-972B-4176-8F55-B16812AA05D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6. Théorème de </a:t>
            </a:r>
            <a:r>
              <a:rPr b="1" lang="fr-FR" sz="3200" spc="-1" strike="noStrike">
                <a:solidFill>
                  <a:srgbClr val="ff3300"/>
                </a:solidFill>
                <a:latin typeface="Arial"/>
              </a:rPr>
              <a:t>DE-MORG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3789360"/>
            <a:ext cx="8281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produi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ogiqu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complimen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  deux variables est égale au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somm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ogique des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complémen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s deux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9280" y="1341360"/>
            <a:ext cx="792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somm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ogiqu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complimenté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 deux variables est égale au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produi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s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complémen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s deux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1"/>
          <p:cNvGrpSpPr/>
          <p:nvPr/>
        </p:nvGrpSpPr>
        <p:grpSpPr>
          <a:xfrm>
            <a:off x="4419720" y="2181240"/>
            <a:ext cx="360" cy="791280"/>
            <a:chOff x="4419720" y="2181240"/>
            <a:chExt cx="360" cy="791280"/>
          </a:xfrm>
        </p:grpSpPr>
        <p:pic>
          <p:nvPicPr>
            <p:cNvPr id="147" name="Picture 4" descr=""/>
            <p:cNvPicPr/>
            <p:nvPr/>
          </p:nvPicPr>
          <p:blipFill>
            <a:blip r:embed="rId1"/>
            <a:stretch/>
          </p:blipFill>
          <p:spPr>
            <a:xfrm>
              <a:off x="4419720" y="2181240"/>
              <a:ext cx="360" cy="79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2"/>
            <a:stretch/>
          </p:blipFill>
          <p:spPr>
            <a:xfrm>
              <a:off x="4419720" y="2181240"/>
              <a:ext cx="360" cy="7912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49" name="Object 23"/>
              <p:cNvSpPr txBox="1"/>
              <p:nvPr/>
            </p:nvSpPr>
            <p:spPr>
              <a:xfrm>
                <a:off x="1835280" y="2708280"/>
                <a:ext cx="36003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4"/>
              <p:cNvSpPr txBox="1"/>
              <p:nvPr/>
            </p:nvSpPr>
            <p:spPr>
              <a:xfrm>
                <a:off x="2195640" y="5589720"/>
                <a:ext cx="36003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6CF1-DA55-49C9-B5D9-B2915406A1C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6.1 Généralisation du Théorème DE-MORGAN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à</a:t>
            </a:r>
            <a:r>
              <a:rPr b="1" lang="fr-FR" sz="3200" spc="-1" strike="noStrike">
                <a:solidFill>
                  <a:srgbClr val="ff3300"/>
                </a:solidFill>
                <a:latin typeface="Arial"/>
              </a:rPr>
              <a:t> 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variables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6"/>
              <p:cNvSpPr txBox="1"/>
              <p:nvPr/>
            </p:nvSpPr>
            <p:spPr>
              <a:xfrm>
                <a:off x="539640" y="2924280"/>
                <a:ext cx="784872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0A36-9E2D-437B-81C3-24E9596E15D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7. Autres opérateur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logiqu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7.1 OU exclusif ( X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14"/>
          <p:cNvGraphicFramePr/>
          <p:nvPr/>
        </p:nvGraphicFramePr>
        <p:xfrm>
          <a:off x="4643280" y="2421000"/>
          <a:ext cx="309744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421000"/>
                    <a:ext cx="309744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8" name="Object 18"/>
              <p:cNvSpPr txBox="1"/>
              <p:nvPr/>
            </p:nvSpPr>
            <p:spPr>
              <a:xfrm>
                <a:off x="395280" y="2205000"/>
                <a:ext cx="29527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⊕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0"/>
              <p:cNvSpPr txBox="1"/>
              <p:nvPr/>
            </p:nvSpPr>
            <p:spPr>
              <a:xfrm>
                <a:off x="250920" y="3141720"/>
                <a:ext cx="32814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⊕</m:t>
                    </m:r>
                    <m:r>
                      <m:t xml:space="preserve">B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E912-3A8C-4C05-A6E4-A0C7AE2CF49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7.2 NAND ( NON ET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20"/>
          <p:cNvGraphicFramePr/>
          <p:nvPr/>
        </p:nvGraphicFramePr>
        <p:xfrm>
          <a:off x="4643280" y="2060640"/>
          <a:ext cx="32274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060640"/>
                    <a:ext cx="32274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23"/>
              <p:cNvSpPr txBox="1"/>
              <p:nvPr/>
            </p:nvSpPr>
            <p:spPr>
              <a:xfrm>
                <a:off x="270000" y="2247840"/>
                <a:ext cx="28620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</m:ba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↑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1ACA-1F79-434C-AE5D-9051CD41D0E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7.3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R ( NON  OU 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1"/>
          <p:cNvGraphicFramePr/>
          <p:nvPr/>
        </p:nvGraphicFramePr>
        <p:xfrm>
          <a:off x="4716360" y="2133720"/>
          <a:ext cx="3457800" cy="36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133720"/>
                    <a:ext cx="3457800" cy="36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9" name="Object 15"/>
              <p:cNvSpPr txBox="1"/>
              <p:nvPr/>
            </p:nvSpPr>
            <p:spPr>
              <a:xfrm>
                <a:off x="395280" y="2225520"/>
                <a:ext cx="2898720" cy="13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ba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↓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260F-BD7F-4093-B0A3-0EC5C6854C8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7.4 NAND et NOR  sont des opérateurs </a:t>
            </a:r>
            <a:r>
              <a:rPr b="1" lang="fr-FR" sz="3200" spc="-1" strike="noStrike">
                <a:solidFill>
                  <a:srgbClr val="ff3300"/>
                </a:solidFill>
                <a:latin typeface="Arial"/>
              </a:rPr>
              <a:t>univer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utilisant les NAND et les NOR  on peut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exprime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n’importe qu’elle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expressio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 fonction ) log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ela , Il suffit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d’exprimer les opérateurs de bas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 NON , ET , OU ) avec des NAND et des 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5339-FD92-414C-BE9C-F93C4890747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7.4.1 Réalisation des opérateurs de base avec des 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4"/>
              <p:cNvSpPr txBox="1"/>
              <p:nvPr/>
            </p:nvSpPr>
            <p:spPr>
              <a:xfrm>
                <a:off x="250920" y="2522520"/>
                <a:ext cx="8281800" cy="24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↓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↓</m:t>
                            </m:r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↓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↓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↓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  <m:r>
                              <m:t xml:space="preserve">+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↓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↓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↓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↓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EE73-6021-463B-BD25-F0C4390534D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Exerc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primer le NON , ET , OU en utilisant des NAN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2E18-122D-44A2-B486-F6893A266B1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7.4.3 Propriétés des opérateurs NAND et 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7"/>
              <p:cNvSpPr txBox="1"/>
              <p:nvPr/>
            </p:nvSpPr>
            <p:spPr>
              <a:xfrm>
                <a:off x="4716360" y="2052720"/>
                <a:ext cx="4103640" cy="24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↓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e>
                        <m:r>
                          <m:t xml:space="preserve">A</m:t>
                        </m:r>
                        <m:r>
                          <m:t xml:space="preserve">↓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↓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↓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↓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↓</m:t>
                        </m:r>
                        <m:r>
                          <m:t xml:space="preserve">C</m:t>
                        </m:r>
                        <m:r>
                          <m:t xml:space="preserve">≠</m:t>
                        </m:r>
                        <m:r>
                          <m:t xml:space="preserve">A</m:t>
                        </m:r>
                        <m:r>
                          <m:t xml:space="preserve">↓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↓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0"/>
              <p:cNvSpPr txBox="1"/>
              <p:nvPr/>
            </p:nvSpPr>
            <p:spPr>
              <a:xfrm>
                <a:off x="378000" y="2162160"/>
                <a:ext cx="4068720" cy="24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↑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↑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e>
                        <m:r>
                          <m:t xml:space="preserve">A</m:t>
                        </m:r>
                        <m:r>
                          <m:t xml:space="preserve">↑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↑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↑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↑</m:t>
                        </m:r>
                        <m:r>
                          <m:t xml:space="preserve">C</m:t>
                        </m:r>
                        <m:r>
                          <m:t xml:space="preserve">≠</m:t>
                        </m:r>
                        <m:r>
                          <m:t xml:space="preserve">A</m:t>
                        </m:r>
                        <m:r>
                          <m:t xml:space="preserve">↑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↑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3" name="Line 23"/>
          <p:cNvSpPr/>
          <p:nvPr/>
        </p:nvSpPr>
        <p:spPr>
          <a:xfrm>
            <a:off x="4500720" y="1773360"/>
            <a:ext cx="0" cy="367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175C-BBBB-4480-8E5A-28F499D694D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concevoir et réalise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ce circuit on doit avoir  un modèle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mathématique de la fonc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réalisée par ce circui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 modèle doit prendre en considération le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système binair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modèle mathématique utilisé est celui de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Boo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94D1-0772-48DF-B4A7-94C7DC15305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8. Portes logique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36"/>
          <p:cNvGraphicFramePr/>
          <p:nvPr/>
        </p:nvGraphicFramePr>
        <p:xfrm>
          <a:off x="5003640" y="4707000"/>
          <a:ext cx="3816360" cy="14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4707000"/>
                    <a:ext cx="3816360" cy="14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33"/>
          <p:cNvGraphicFramePr/>
          <p:nvPr/>
        </p:nvGraphicFramePr>
        <p:xfrm>
          <a:off x="2238480" y="2421000"/>
          <a:ext cx="380196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38480" y="2421000"/>
                    <a:ext cx="380196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19"/>
          <p:cNvSpPr/>
          <p:nvPr/>
        </p:nvSpPr>
        <p:spPr>
          <a:xfrm>
            <a:off x="308160" y="1143000"/>
            <a:ext cx="876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porte logique est un circuit électronique élémentaire qu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  de réaliser la fonction d’un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opérateur  logique de ba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42"/>
          <p:cNvGraphicFramePr/>
          <p:nvPr/>
        </p:nvGraphicFramePr>
        <p:xfrm>
          <a:off x="0" y="4869000"/>
          <a:ext cx="4824360" cy="13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4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869000"/>
                    <a:ext cx="482436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0334-A5F7-4D48-9D7F-2E72D1D1714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0" y="4869000"/>
            <a:ext cx="86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marqu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portes ET , OU , NAND , NOR peuvent avoir 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e deux entr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n’existe pa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 OU exclusif à plus de deux entr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20"/>
          <p:cNvGraphicFramePr/>
          <p:nvPr/>
        </p:nvGraphicFramePr>
        <p:xfrm>
          <a:off x="4932360" y="717480"/>
          <a:ext cx="360036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717480"/>
                    <a:ext cx="360036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22"/>
          <p:cNvGraphicFramePr/>
          <p:nvPr/>
        </p:nvGraphicFramePr>
        <p:xfrm>
          <a:off x="611280" y="687240"/>
          <a:ext cx="367344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687240"/>
                    <a:ext cx="36734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25"/>
          <p:cNvGraphicFramePr/>
          <p:nvPr/>
        </p:nvGraphicFramePr>
        <p:xfrm>
          <a:off x="2627280" y="3000240"/>
          <a:ext cx="3456000" cy="14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3000240"/>
                    <a:ext cx="345600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207F-DBC6-4975-BA41-F9B0B96BC8B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3640" y="3573360"/>
            <a:ext cx="2530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empl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324000" y="4314960"/>
                <a:ext cx="28080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Rectangle 6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8.1 Schéma d’un circuit logique ( Logigram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38320" y="1316160"/>
            <a:ext cx="832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’est la traduction de la fonction logique en un schéma électron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principe consiste à remplacer chaqu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opérateur 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ar la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or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qui lui corresp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9"/>
          <p:cNvGraphicFramePr/>
          <p:nvPr/>
        </p:nvGraphicFramePr>
        <p:xfrm>
          <a:off x="3635280" y="2997360"/>
          <a:ext cx="5184720" cy="31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997360"/>
                    <a:ext cx="5184720" cy="31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9AF1-646B-4775-A4DD-250A9D74EA0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11"/>
              <p:cNvSpPr txBox="1"/>
              <p:nvPr/>
            </p:nvSpPr>
            <p:spPr>
              <a:xfrm>
                <a:off x="468360" y="1554120"/>
                <a:ext cx="6162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,B,C,D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B </m:t>
                            </m:r>
                            <m:r>
                              <m:t xml:space="preserve">+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D 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0" name="Rectangle 15"/>
          <p:cNvSpPr/>
          <p:nvPr/>
        </p:nvSpPr>
        <p:spPr>
          <a:xfrm>
            <a:off x="250920" y="692280"/>
            <a:ext cx="25304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e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22"/>
          <p:cNvGraphicFramePr/>
          <p:nvPr/>
        </p:nvGraphicFramePr>
        <p:xfrm>
          <a:off x="900000" y="2876400"/>
          <a:ext cx="705672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876400"/>
                    <a:ext cx="70567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46E3-B85D-4AD0-8FD2-1F499AEC6C6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xercice 1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291520" cy="3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nner le logigramme des fonctions suivant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539640" y="2205000"/>
                <a:ext cx="60483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,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,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3B05-F21F-4E7D-B33B-14B62D2A2AD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ercice 2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onner l’équation de F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67"/>
          <p:cNvGraphicFramePr/>
          <p:nvPr/>
        </p:nvGraphicFramePr>
        <p:xfrm>
          <a:off x="0" y="1844640"/>
          <a:ext cx="889308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6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44640"/>
                    <a:ext cx="889308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0F2E-96B6-471B-B753-3EE5940FD4B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18560" cy="30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finition textuelle d’une fonction logique  , table de vérité , formes algébriques , simplification algébrique, table de Karnau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DB13-4B38-4E89-AE98-7632A4B0DCB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1. Définition textuelle d’une fonction lo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0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énéralement la définition du fonctionnement d’un système est donnée sous un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format textuel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fair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l’étude et la réalis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’un tel système on doit avoir son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 modèle mathématiqu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fonction logiqu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il faut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tirer ( déduire 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fonction log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 partir de la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escription textu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3917-CFA0-47FA-B730-31D6D52D839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xemple : définition textuelle du fonctionnement d’un systè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97800" cy="269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serrure de sécurité s’ouvre en fonction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e trois cl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Le fonctionnement de la serrure  est définie comme suite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serrure est ouverte si au moins deux  clés sont utilisé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serrure reste fermée dans les autres cas 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7960" y="5227560"/>
            <a:ext cx="72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ner la schéma du circuit qui permet de contrô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ouverture de la serrur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F0BF-BCC4-4EB4-B579-85AB2612245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Étapes de conception et de réalisation d’un circuit numériqu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faire l’étude et la réalisation d’un circuit  il faut suivre le étapes suivan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faut bien comprendre le fonctionnement du systè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faut définir les variables d’entr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faut définir les variables de sort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ablir la table de vé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crire les équations algébriques des sorties ( à partir de la table de vérité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ffectuer des simplifications ( algébrique ou par Karnaug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ire le schéma avec un minimum de portes log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D5D8-6FB5-4947-85F2-E7C6511894A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Algèbre de Bo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eorge Boole est un mathématicien anglais ( 1815-186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a fait des travaux dont lesquels les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fonction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expressions ) sont constitués par des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variabl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qui peuvent prendre les valeurs ‘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OU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 ou ‘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N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s travaux ont été utilisés pour faire l’étude des systèmes qui possèdent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eux états s’exclus mutuellem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système peut être uniquement dans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eux éta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1 et E2 tel que E1 est l’opposé de E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systèm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ne peut pas êtr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ans l’état E1 et E2 en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même te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s travaux sont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bien adap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u Systèm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binair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0 et 1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6A58-8F22-4FEE-994D-D712EE96E8C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 on reprend l’exemple de la serrur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système possèd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trois entré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: chaque entrée représente une cl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va correspondre à chaque clé une variable logique: clé 1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 , la clé 2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B , la clé 3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 la clé 1 est utilisée alors la variable A=1 sinon A 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 la clé 2 est utilisée alors la variable B=1 sinon B 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 la clé 3 est utilisée alors la variable C=1 sinon C 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système possèd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une seule sorti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qui correspond à l’état de la serrure ( ouverte ou fermé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va correspondre une variable S pour designer la sorti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=1 si la serrure est ouverte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=0 si elle est fermé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684360" y="5667480"/>
            <a:ext cx="456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CBBF-174A-4E53-9528-479208FC4EB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=F(A,B,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(A,B,C)= 1 si au mois deux clés sont introdu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(A,B,C)=0 si n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316320" y="1989000"/>
            <a:ext cx="2284560" cy="16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1905120" y="227664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1905120" y="328608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5600880" y="285444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1292400" y="20606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972040" y="2349360"/>
            <a:ext cx="18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=F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1258920" y="25653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1906560" y="278136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1258920" y="3032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384840" y="4724280"/>
            <a:ext cx="835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Remarqu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est important de préciser aussi le niveau logique avec lequel on trava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 logique positive ou négative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42DD-CB60-4004-BBDE-4CCD666389B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Table de vérité  ( Rappel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 une fonction logique possède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N variab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logiques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combinaisons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la fonction possède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fr-FR" sz="2800" spc="-1" strike="noStrike" baseline="30000">
                <a:solidFill>
                  <a:srgbClr val="ff3300"/>
                </a:solidFill>
                <a:latin typeface="Arial"/>
              </a:rPr>
              <a:t>n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 valeu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combinaisons sont représentées dans une table qui s’appelle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table de vér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69BC-1DE4-4BE7-8F5A-3E2EA99A0AF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 Table de vérité ( Exemple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600200"/>
          <a:ext cx="4033800" cy="4525920"/>
        </p:xfrm>
        <a:graphic>
          <a:graphicData uri="http://schemas.openxmlformats.org/drawingml/2006/table">
            <a:tbl>
              <a:tblPr/>
              <a:tblGrid>
                <a:gridCol w="800280"/>
                <a:gridCol w="803160"/>
                <a:gridCol w="801720"/>
                <a:gridCol w="342720"/>
                <a:gridCol w="12859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Line 305"/>
          <p:cNvSpPr/>
          <p:nvPr/>
        </p:nvSpPr>
        <p:spPr>
          <a:xfrm>
            <a:off x="4500720" y="3933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07"/>
          <p:cNvSpPr/>
          <p:nvPr/>
        </p:nvSpPr>
        <p:spPr>
          <a:xfrm>
            <a:off x="543564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34"/>
          <p:cNvSpPr/>
          <p:nvPr/>
        </p:nvSpPr>
        <p:spPr>
          <a:xfrm>
            <a:off x="4500720" y="234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344"/>
              <p:cNvSpPr txBox="1"/>
              <p:nvPr/>
            </p:nvSpPr>
            <p:spPr>
              <a:xfrm>
                <a:off x="5259240" y="2133720"/>
                <a:ext cx="302112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   :  max term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:  max term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   :  max terme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      :  min terme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   :  max term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      :  min term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   :  min term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      :  min term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346"/>
          <p:cNvSpPr/>
          <p:nvPr/>
        </p:nvSpPr>
        <p:spPr>
          <a:xfrm>
            <a:off x="4500720" y="285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47"/>
          <p:cNvSpPr/>
          <p:nvPr/>
        </p:nvSpPr>
        <p:spPr>
          <a:xfrm>
            <a:off x="4500720" y="342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48"/>
          <p:cNvSpPr/>
          <p:nvPr/>
        </p:nvSpPr>
        <p:spPr>
          <a:xfrm>
            <a:off x="4500720" y="4365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49"/>
          <p:cNvSpPr/>
          <p:nvPr/>
        </p:nvSpPr>
        <p:spPr>
          <a:xfrm>
            <a:off x="450072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50"/>
          <p:cNvSpPr/>
          <p:nvPr/>
        </p:nvSpPr>
        <p:spPr>
          <a:xfrm>
            <a:off x="4500720" y="54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51"/>
          <p:cNvSpPr/>
          <p:nvPr/>
        </p:nvSpPr>
        <p:spPr>
          <a:xfrm>
            <a:off x="4500720" y="5950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30AE-1DB4-4CC0-8C22-3D6F76F4656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 Extraction de la fonction logique à partir de la T.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339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 = somme min ter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14"/>
              <p:cNvSpPr txBox="1"/>
              <p:nvPr/>
            </p:nvSpPr>
            <p:spPr>
              <a:xfrm>
                <a:off x="179280" y="5013360"/>
                <a:ext cx="8533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,B,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0"/>
              <p:cNvSpPr txBox="1"/>
              <p:nvPr/>
            </p:nvSpPr>
            <p:spPr>
              <a:xfrm>
                <a:off x="322200" y="2565360"/>
                <a:ext cx="8713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A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Rectangle 21"/>
          <p:cNvSpPr/>
          <p:nvPr/>
        </p:nvSpPr>
        <p:spPr>
          <a:xfrm>
            <a:off x="612360" y="3952800"/>
            <a:ext cx="48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 = produit des max ter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0AE7-66BA-4577-93E2-5C2CC5D6566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 Forme canonique d’une fonction lo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153280" cy="20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appel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forme canon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’une fonction la forme ou chaqu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term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 la fonction comportent 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toutes les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6"/>
              <p:cNvSpPr txBox="1"/>
              <p:nvPr/>
            </p:nvSpPr>
            <p:spPr>
              <a:xfrm>
                <a:off x="826920" y="3933720"/>
                <a:ext cx="6481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,B,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A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B 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BC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Rectangle 8"/>
          <p:cNvSpPr/>
          <p:nvPr/>
        </p:nvSpPr>
        <p:spPr>
          <a:xfrm>
            <a:off x="905760" y="5451480"/>
            <a:ext cx="79880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existent plusieurs formes canoniques : les plus utilisé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nt la première et la deuxième form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4EAA-D849-4756-95B1-A9224804653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1  Première forme canoniqu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97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Première forme canon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forme disjonctive) :  somme de produ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’est la somme des min ter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disjonction de conjon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19"/>
              <p:cNvSpPr txBox="1"/>
              <p:nvPr/>
            </p:nvSpPr>
            <p:spPr>
              <a:xfrm>
                <a:off x="684360" y="4471920"/>
                <a:ext cx="77803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A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Rectangle 20"/>
          <p:cNvSpPr/>
          <p:nvPr/>
        </p:nvSpPr>
        <p:spPr>
          <a:xfrm>
            <a:off x="540360" y="5622840"/>
            <a:ext cx="6526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tte forme est la forme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la plus utilisée</a:t>
            </a: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F94B-E74C-4E78-A5F3-87B6359C8C9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2 Deuxième forme canon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9930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euxième forme canon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conjonctive): produit de so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produit des max ter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jonction de disjo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250920" y="53737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première et la deuxièm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orme canonique sont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équivalent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15"/>
              <p:cNvSpPr txBox="1"/>
              <p:nvPr/>
            </p:nvSpPr>
            <p:spPr>
              <a:xfrm>
                <a:off x="468360" y="4076640"/>
                <a:ext cx="74721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,B,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8048-7CD8-48D3-9CFC-D4E824B7724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emarque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peut toujours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ramener n’import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qu’elle fonction logique à l’une des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formes canoniqu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la revient à rajouter les variables manquants dans les termes qui n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contienne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pas toutes les variables ( les termes non canoniques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la est possible en utilisant les règles de l’algèbre de Boo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ultiplier un terme avec une expression qui vaut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dditionner à un terme avec une expression qui vaut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 la  suite faire la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A24A-B590-4B34-AECC-57E2EE57A8F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Exempl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31"/>
              <p:cNvSpPr txBox="1"/>
              <p:nvPr/>
            </p:nvSpPr>
            <p:spPr>
              <a:xfrm>
                <a:off x="611280" y="1197000"/>
                <a:ext cx="7416720" cy="522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B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B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B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B</m:t>
                        </m:r>
                      </m:e>
                      <m:e/>
                      <m:e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,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B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B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B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C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B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C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B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B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B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B C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0AC7-B897-43E0-B6DB-4FE1E3A26D0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emple de systèmes à deux éta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interrupteur est ouvert ou non ouvert  ( ferm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lampe est allumée ou non allumée ( éteint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porte est ouverte ou non ouverte ( fermé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Remarque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peut utiliser les conventions suivan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I 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VRAI    ( tru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N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FAUX  ( f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I  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1         ( Niveau Haut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N 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0         ( Niveau Ba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08E9-0DAC-44F6-B4CC-C60AF44CF98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emarqu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3104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existe une autre représentation des formes canoniques d’une fonction , cette représentation est appelé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forme numér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 : pour indiquer la forme disjon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 : pour indiquer la forme conjo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16"/>
              <p:cNvSpPr txBox="1"/>
              <p:nvPr/>
            </p:nvSpPr>
            <p:spPr>
              <a:xfrm>
                <a:off x="0" y="4221000"/>
                <a:ext cx="9217080" cy="20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2,4,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4,6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010,100,1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B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e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,3,5,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0,1,3,5,7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00,001,011,101,11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6" name="Text Box 18"/>
          <p:cNvSpPr/>
          <p:nvPr/>
        </p:nvSpPr>
        <p:spPr>
          <a:xfrm>
            <a:off x="162720" y="3448080"/>
            <a:ext cx="73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Exemple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i on prend une fonction avec 3 variabl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BCCC-2EB3-46DC-9A15-91ACB0BB763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emarque 3 : déterminer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95280" y="1125360"/>
          <a:ext cx="4033800" cy="4526280"/>
        </p:xfrm>
        <a:graphic>
          <a:graphicData uri="http://schemas.openxmlformats.org/drawingml/2006/table">
            <a:tbl>
              <a:tblPr/>
              <a:tblGrid>
                <a:gridCol w="608040"/>
                <a:gridCol w="608040"/>
                <a:gridCol w="608040"/>
                <a:gridCol w="260280"/>
                <a:gridCol w="974880"/>
                <a:gridCol w="9745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Text Box 67"/>
          <p:cNvSpPr/>
          <p:nvPr/>
        </p:nvSpPr>
        <p:spPr>
          <a:xfrm>
            <a:off x="498492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75"/>
          <p:cNvSpPr/>
          <p:nvPr/>
        </p:nvSpPr>
        <p:spPr>
          <a:xfrm>
            <a:off x="5580000" y="404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76"/>
              <p:cNvSpPr txBox="1"/>
              <p:nvPr/>
            </p:nvSpPr>
            <p:spPr>
              <a:xfrm>
                <a:off x="971640" y="5950080"/>
                <a:ext cx="69134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F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03" name="Group 179"/>
          <p:cNvGrpSpPr/>
          <p:nvPr/>
        </p:nvGrpSpPr>
        <p:grpSpPr>
          <a:xfrm>
            <a:off x="3709800" y="1197000"/>
            <a:ext cx="320760" cy="368280"/>
            <a:chOff x="3709800" y="1197000"/>
            <a:chExt cx="320760" cy="368280"/>
          </a:xfrm>
        </p:grpSpPr>
        <p:sp>
          <p:nvSpPr>
            <p:cNvPr id="304" name="Line 160"/>
            <p:cNvSpPr/>
            <p:nvPr/>
          </p:nvSpPr>
          <p:spPr>
            <a:xfrm>
              <a:off x="3727440" y="124920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78"/>
            <p:cNvSpPr/>
            <p:nvPr/>
          </p:nvSpPr>
          <p:spPr>
            <a:xfrm>
              <a:off x="3709800" y="11970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3EE5-4FA3-4638-83AA-B0E27E7ED69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ercice 1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42508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terminer la première , la deuxième forme canonique et la fonction inverse à partir de la TV suivante ? Tracer le logigramme de la fon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547640" y="2708280"/>
          <a:ext cx="4038840" cy="259092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0565-AC5C-4F68-B6D2-61986CE32C3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ercic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764388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ire le même travail avec la T.V suivant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916360" y="2205000"/>
          <a:ext cx="3267000" cy="4019760"/>
        </p:xfrm>
        <a:graphic>
          <a:graphicData uri="http://schemas.openxmlformats.org/drawingml/2006/table">
            <a:tbl>
              <a:tblPr/>
              <a:tblGrid>
                <a:gridCol w="649080"/>
                <a:gridCol w="649440"/>
                <a:gridCol w="649080"/>
                <a:gridCol w="277920"/>
                <a:gridCol w="104148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105B-6232-4F1F-8F3F-E3CA7E2EA6E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352000" cy="71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ercic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Un jury composé de 4 membres pose une question à un joueur, qui à son tour donne une réponse. Chaque membre du jury positionne son  interrupteur à " 1 " lorsqu'il estime que la réponse donnée par le joueur est juste (avis favorable ) et à " 0 " dans le cas contraire (avis défavorable ). On traite la réponse de telle façon à positionner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Une variable succès (S=1) lorsque la décision de la majorité des membres de jury est favorab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une variable Échec (E=1) lorsque la décision de la majorité des membres de jury est défavor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t une variable Égalité (N=1) lorsqu’il y a autant d'avis favorables que d'avis défavorab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Ques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./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Déduire une table de vérité pour le problèm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./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Donner les équations de S, 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./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En déduire l’équation de 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0341-1484-4BE3-B187-CF54063D168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Simplification des fonctions log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32CC-7780-4B8C-93C7-7405E2AB63A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4. Simplification des fonctions log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objectif de la simplification des fonctions logiques est d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duire l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nombre de ter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ans une fo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 de réduire l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nombre de variabl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ans un t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la afin de  réduire le nombre d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portes logiqu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utilisé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réduire le coût du circui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lusieurs méthodes existent pour la simplification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éthode algéb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Méthodes graphiques : ( ex : table de karnaugh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méthodes programm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1FC5-74FB-4610-BDC7-8C9DE68F9A2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Méthode algébriqu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3640" y="836640"/>
            <a:ext cx="83516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principe consiste à appliquer les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 règl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 l’algèbre d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Boo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fin d’éliminer des variables ou des ter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is il n’y a pas un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émarche bien spécif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oici quelques règles les plus utilisé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9"/>
              <p:cNvSpPr txBox="1"/>
              <p:nvPr/>
            </p:nvSpPr>
            <p:spPr>
              <a:xfrm>
                <a:off x="1332000" y="3141720"/>
                <a:ext cx="3671640" cy="33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DCEC-5371-4C7E-A16E-4ED75045E56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5.1 Règles de simplificati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1532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Règles 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 regrouper des termes à l’aide des règles précéd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10"/>
              <p:cNvSpPr txBox="1"/>
              <p:nvPr/>
            </p:nvSpPr>
            <p:spPr>
              <a:xfrm>
                <a:off x="611280" y="3284640"/>
                <a:ext cx="7993080" cy="25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B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 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D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C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968F-DDD0-41BF-B5FC-C9255F76AD1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642160" cy="20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Règles 2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Rajouter un terme déjà existant à une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12"/>
              <p:cNvSpPr txBox="1"/>
              <p:nvPr/>
            </p:nvSpPr>
            <p:spPr>
              <a:xfrm>
                <a:off x="324000" y="2708280"/>
                <a:ext cx="8064360" cy="18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A B C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B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B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ABC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B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BC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BC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B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B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AC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AB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70D6-1268-42F1-A95E-411028958F6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Définitions et conven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5596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.1. 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Niveau logique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orsque on fait l’étude d’un système logique il faut bien préciser le niveau du trav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55640" y="4149720"/>
            <a:ext cx="777708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gique positiv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mpe allumée 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mpe éteinte :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gique né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mpe allumée  :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mpe éteinte  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85680" y="2809800"/>
          <a:ext cx="7010640" cy="1330560"/>
        </p:xfrm>
        <a:graphic>
          <a:graphicData uri="http://schemas.openxmlformats.org/drawingml/2006/table">
            <a:tbl>
              <a:tblPr/>
              <a:tblGrid>
                <a:gridCol w="2337120"/>
                <a:gridCol w="2336760"/>
                <a:gridCol w="2336760"/>
              </a:tblGrid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vea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ique pos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ique nég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( Hight ) ha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 ( Low )    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8777-9417-4708-8292-F7E62AC2B1B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Règles 3 :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est possible de supprimer un terme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superflu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 un terme en plus ), c’est-à-dire déjà inclus dans la réunion des autres ter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emple 1 :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2"/>
              <p:cNvSpPr txBox="1"/>
              <p:nvPr/>
            </p:nvSpPr>
            <p:spPr>
              <a:xfrm>
                <a:off x="324000" y="3284640"/>
                <a:ext cx="835344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,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 B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C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C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CB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B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1F53-8C74-4497-B6EA-72DC5BC020A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emple 2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existe aussi la forme conjonctive du terme superf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324000" y="1628640"/>
                <a:ext cx="799128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,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9BCD-766A-4162-B59F-07625BE2D61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79200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Règles 4 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est préférable de simplifier la forme canonique ayant le nombre de termes minim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30"/>
              <p:cNvSpPr txBox="1"/>
              <p:nvPr/>
            </p:nvSpPr>
            <p:spPr>
              <a:xfrm>
                <a:off x="826920" y="2852640"/>
                <a:ext cx="633744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2,3,4,5,6,7</m:t>
                        </m:r>
                        <m:r>
                          <m:t xml:space="preserve">)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,B,C</m:t>
                            </m:r>
                            <m:r>
                              <m:t xml:space="preserve">)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0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</m:ba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,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,B,C</m:t>
                                </m:r>
                                <m:r>
                                  <m:t xml:space="preserve">)</m:t>
                                </m:r>
                              </m:e>
                            </m:ba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ba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17C7-0204-479C-AF0E-624464CA124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xercice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0"/>
              <p:cNvSpPr txBox="1"/>
              <p:nvPr/>
            </p:nvSpPr>
            <p:spPr>
              <a:xfrm>
                <a:off x="395280" y="4581360"/>
                <a:ext cx="7373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BCD</m:t>
                    </m:r>
                    <m:r>
                      <m:t xml:space="preserve">+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D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C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Text Box 6"/>
          <p:cNvSpPr/>
          <p:nvPr/>
        </p:nvSpPr>
        <p:spPr>
          <a:xfrm>
            <a:off x="250920" y="1628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ontrer la  proposition suivan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250920" y="3573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ner la forme simplifiée de la fonction suivant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13"/>
              <p:cNvSpPr txBox="1"/>
              <p:nvPr/>
            </p:nvSpPr>
            <p:spPr>
              <a:xfrm>
                <a:off x="395280" y="2563920"/>
                <a:ext cx="79218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C228-4C2F-40FB-A8C6-CCCD7DEAC0B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1054800" y="2046240"/>
            <a:ext cx="638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6. Simplification par l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Karnau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1989-BCED-42F9-88B5-F202330C4E2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1. Les termes adjac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1763640" y="1989000"/>
                <a:ext cx="33894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A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52" name="Text Box 4"/>
          <p:cNvSpPr/>
          <p:nvPr/>
        </p:nvSpPr>
        <p:spPr>
          <a:xfrm>
            <a:off x="395280" y="2708280"/>
            <a:ext cx="785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deux termes possèdent les même variables. La seule différence est l’état de la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variable B qui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on applique les règles de simplification on obti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468360" y="5661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s termes sont 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ites adjacen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9"/>
              <p:cNvSpPr txBox="1"/>
              <p:nvPr/>
            </p:nvSpPr>
            <p:spPr>
              <a:xfrm>
                <a:off x="1258920" y="4508640"/>
                <a:ext cx="531504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Rectangle 12"/>
          <p:cNvSpPr/>
          <p:nvPr/>
        </p:nvSpPr>
        <p:spPr>
          <a:xfrm>
            <a:off x="617760" y="1413000"/>
            <a:ext cx="48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aminons l’expression suivan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25DD-6FCB-4654-B478-D776868CCD6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emple de termes adjacents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14"/>
              <p:cNvSpPr txBox="1"/>
              <p:nvPr/>
            </p:nvSpPr>
            <p:spPr>
              <a:xfrm>
                <a:off x="826920" y="1413000"/>
                <a:ext cx="5832720" cy="436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es termes sont adjacents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B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B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D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es termes ne sont pas adjacents 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B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 </m:t>
                            </m:r>
                          </m:e>
                        </m:ba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D2C4-7AED-43B2-8B3E-634CADB1AE4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324000" y="1628640"/>
            <a:ext cx="8496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éthode de Karnaugh se base sur la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règle précédent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éthode consiste a mettre en évidence  par une méthod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graph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un tableaux ) tous les termes qui sont adjacents (qui ne différent que par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l’état d’une seule variable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éthode peut s’appliquer aux fonctions logiques d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2,3,4,5 et 6 variabl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tableau de Karnaugh comportent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fr-FR" sz="2400" spc="-1" strike="noStrike" baseline="30000">
                <a:solidFill>
                  <a:srgbClr val="ff3300"/>
                </a:solidFill>
                <a:latin typeface="Arial"/>
              </a:rPr>
              <a:t>n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 cas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N est le nombre de variables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6.1 Description de la table de karnaugh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F21C-41B3-4F78-97D0-5FE53D8C369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353880" y="1893960"/>
          <a:ext cx="2346480" cy="215424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Text Box 57"/>
          <p:cNvSpPr/>
          <p:nvPr/>
        </p:nvSpPr>
        <p:spPr>
          <a:xfrm>
            <a:off x="595440" y="1838160"/>
            <a:ext cx="7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8"/>
          <p:cNvSpPr/>
          <p:nvPr/>
        </p:nvSpPr>
        <p:spPr>
          <a:xfrm>
            <a:off x="282600" y="21812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765680" y="1893960"/>
          <a:ext cx="3909960" cy="215424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80840"/>
                <a:gridCol w="782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Text Box 94"/>
          <p:cNvSpPr/>
          <p:nvPr/>
        </p:nvSpPr>
        <p:spPr>
          <a:xfrm>
            <a:off x="5006880" y="18381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5"/>
          <p:cNvSpPr/>
          <p:nvPr/>
        </p:nvSpPr>
        <p:spPr>
          <a:xfrm>
            <a:off x="4694400" y="21812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45"/>
          <p:cNvSpPr/>
          <p:nvPr/>
        </p:nvSpPr>
        <p:spPr>
          <a:xfrm>
            <a:off x="5111640" y="4653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ableaux à 3 variabl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47"/>
          <p:cNvSpPr/>
          <p:nvPr/>
        </p:nvSpPr>
        <p:spPr>
          <a:xfrm>
            <a:off x="0" y="4653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ableau à 2 variabl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14B1-E378-4B10-84B6-A8FC7440C0E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390760" y="1828800"/>
          <a:ext cx="3909960" cy="354492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50600"/>
                <a:gridCol w="812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Text Box 51"/>
          <p:cNvSpPr/>
          <p:nvPr/>
        </p:nvSpPr>
        <p:spPr>
          <a:xfrm>
            <a:off x="2631960" y="17733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2"/>
          <p:cNvSpPr/>
          <p:nvPr/>
        </p:nvSpPr>
        <p:spPr>
          <a:xfrm>
            <a:off x="2319480" y="2116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2556000" y="620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ableau à 4 variab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037B-7376-4E72-814A-77196177BCD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.2. Variable logique (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ooléen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variable logique (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booléenn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)  est une variable qui peut prendre soit la valeur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0 ou 1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énéralement elle est exprimée par un seul caractère alphabétique en majuscule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 A , B, S 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lampe  :  allumée     L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teinte       L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emier interrupteur    ouvert :      I1 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ermé :    I1 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éme interrupteur     ouvert :     I2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ermé :   I2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F244-DEFD-4DE5-9CF1-EA04EEE331A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06200" y="2189160"/>
          <a:ext cx="3910320" cy="354492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50960"/>
                <a:gridCol w="812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Text Box 51"/>
          <p:cNvSpPr/>
          <p:nvPr/>
        </p:nvSpPr>
        <p:spPr>
          <a:xfrm>
            <a:off x="347760" y="2133720"/>
            <a:ext cx="7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2"/>
          <p:cNvSpPr/>
          <p:nvPr/>
        </p:nvSpPr>
        <p:spPr>
          <a:xfrm>
            <a:off x="34920" y="24764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4765680" y="2189160"/>
          <a:ext cx="3909960" cy="354492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50600"/>
                <a:gridCol w="812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Text Box 100"/>
          <p:cNvSpPr/>
          <p:nvPr/>
        </p:nvSpPr>
        <p:spPr>
          <a:xfrm>
            <a:off x="5006880" y="21337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1"/>
          <p:cNvSpPr/>
          <p:nvPr/>
        </p:nvSpPr>
        <p:spPr>
          <a:xfrm>
            <a:off x="4694400" y="24764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2"/>
          <p:cNvSpPr/>
          <p:nvPr/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ableau à 5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03"/>
          <p:cNvSpPr/>
          <p:nvPr/>
        </p:nvSpPr>
        <p:spPr>
          <a:xfrm>
            <a:off x="1403280" y="6021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04"/>
          <p:cNvSpPr/>
          <p:nvPr/>
        </p:nvSpPr>
        <p:spPr>
          <a:xfrm>
            <a:off x="6227640" y="6021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8C11-CA63-48EB-8179-F5C40DCB17F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71280" y="2333520"/>
          <a:ext cx="3910320" cy="215424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81200"/>
                <a:gridCol w="782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8" name="Text Box 64"/>
          <p:cNvSpPr/>
          <p:nvPr/>
        </p:nvSpPr>
        <p:spPr>
          <a:xfrm>
            <a:off x="312840" y="2278080"/>
            <a:ext cx="7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5"/>
          <p:cNvSpPr/>
          <p:nvPr/>
        </p:nvSpPr>
        <p:spPr>
          <a:xfrm>
            <a:off x="0" y="2620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68"/>
          <p:cNvSpPr/>
          <p:nvPr/>
        </p:nvSpPr>
        <p:spPr>
          <a:xfrm>
            <a:off x="1173240" y="358128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9"/>
          <p:cNvSpPr/>
          <p:nvPr/>
        </p:nvSpPr>
        <p:spPr>
          <a:xfrm flipV="1">
            <a:off x="1173240" y="3508200"/>
            <a:ext cx="158436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70"/>
          <p:cNvSpPr/>
          <p:nvPr/>
        </p:nvSpPr>
        <p:spPr>
          <a:xfrm flipV="1">
            <a:off x="1173240" y="4156200"/>
            <a:ext cx="576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1"/>
          <p:cNvSpPr/>
          <p:nvPr/>
        </p:nvSpPr>
        <p:spPr>
          <a:xfrm>
            <a:off x="254160" y="5154480"/>
            <a:ext cx="39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trois cases bleues sont des cases adjacentes à la case rou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4932360" y="2406600"/>
          <a:ext cx="3909960" cy="354492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50600"/>
                <a:gridCol w="812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Text Box 168"/>
          <p:cNvSpPr/>
          <p:nvPr/>
        </p:nvSpPr>
        <p:spPr>
          <a:xfrm>
            <a:off x="5173560" y="23511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9"/>
          <p:cNvSpPr/>
          <p:nvPr/>
        </p:nvSpPr>
        <p:spPr>
          <a:xfrm>
            <a:off x="4645080" y="2693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70"/>
          <p:cNvSpPr/>
          <p:nvPr/>
        </p:nvSpPr>
        <p:spPr>
          <a:xfrm>
            <a:off x="250920" y="26028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un tableau de karnaugh , chaque case possède un certain nombre d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cases adjacent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511F-D168-41CC-B865-9E5B2930757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6.2 Passage de la table de vérité à la table de Karnaugh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18"/>
          <p:cNvSpPr/>
          <p:nvPr/>
        </p:nvSpPr>
        <p:spPr>
          <a:xfrm>
            <a:off x="3240" y="1700280"/>
            <a:ext cx="8432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combinaisons qui représente un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min term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u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rrespond un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cas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le tableau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 qui doit être mise à 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combinaisons qui représente un max terme 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rrespond un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ca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ans le tableau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qui doit être mise à 0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orsque on remplis le tableau , on doit soit prendre 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n terme ou les max t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2C5C-932C-4ED5-8D7E-1FDD522B055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79280" y="1557360"/>
          <a:ext cx="2808360" cy="4465440"/>
        </p:xfrm>
        <a:graphic>
          <a:graphicData uri="http://schemas.openxmlformats.org/drawingml/2006/table">
            <a:tbl>
              <a:tblPr/>
              <a:tblGrid>
                <a:gridCol w="557280"/>
                <a:gridCol w="558720"/>
                <a:gridCol w="557280"/>
                <a:gridCol w="239760"/>
                <a:gridCol w="8953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Text Box 66"/>
          <p:cNvSpPr/>
          <p:nvPr/>
        </p:nvSpPr>
        <p:spPr>
          <a:xfrm>
            <a:off x="4510080" y="2521080"/>
            <a:ext cx="936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211640" y="2276640"/>
          <a:ext cx="3909960" cy="215424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80840"/>
                <a:gridCol w="782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Text Box 130"/>
          <p:cNvSpPr/>
          <p:nvPr/>
        </p:nvSpPr>
        <p:spPr>
          <a:xfrm>
            <a:off x="4452840" y="222084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31"/>
          <p:cNvSpPr/>
          <p:nvPr/>
        </p:nvSpPr>
        <p:spPr>
          <a:xfrm>
            <a:off x="4140360" y="25639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32"/>
          <p:cNvSpPr/>
          <p:nvPr/>
        </p:nvSpPr>
        <p:spPr>
          <a:xfrm>
            <a:off x="2700360" y="3933720"/>
            <a:ext cx="3166920" cy="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34"/>
          <p:cNvSpPr/>
          <p:nvPr/>
        </p:nvSpPr>
        <p:spPr>
          <a:xfrm flipV="1">
            <a:off x="2771640" y="4149720"/>
            <a:ext cx="4824720" cy="71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35"/>
          <p:cNvSpPr/>
          <p:nvPr/>
        </p:nvSpPr>
        <p:spPr>
          <a:xfrm flipV="1">
            <a:off x="2843280" y="3428640"/>
            <a:ext cx="403380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36"/>
          <p:cNvSpPr/>
          <p:nvPr/>
        </p:nvSpPr>
        <p:spPr>
          <a:xfrm flipV="1">
            <a:off x="2700360" y="4005360"/>
            <a:ext cx="4176720" cy="180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37"/>
          <p:cNvSpPr/>
          <p:nvPr/>
        </p:nvSpPr>
        <p:spPr>
          <a:xfrm>
            <a:off x="810360" y="2811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3586-134E-40AC-8AFA-4346211907C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6.3 Passage de la forme canonique à la table de Karna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a fonction logique est donnée sous la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première forme canon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disjonctive), alors sa représentation est directe : pour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chaque term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ui correspond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une seule case qui doit être mise à 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a fonction logique est donnée sous la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euxième forme canon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conjonctive), alors sa représentation est directe : pour chaque terme lui correspond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une seule case qui doit être mise à 0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77BE-7AA4-4A93-A9F2-285D3F6B39B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468360" y="1484280"/>
                <a:ext cx="35431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,B,C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,2,5,7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29"/>
              <p:cNvSpPr txBox="1"/>
              <p:nvPr/>
            </p:nvSpPr>
            <p:spPr>
              <a:xfrm>
                <a:off x="250920" y="4581360"/>
                <a:ext cx="3708360" cy="5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,B,C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2,3,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Text Box 54"/>
          <p:cNvSpPr/>
          <p:nvPr/>
        </p:nvSpPr>
        <p:spPr>
          <a:xfrm>
            <a:off x="4941720" y="1136520"/>
            <a:ext cx="936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4643280" y="892080"/>
          <a:ext cx="3910320" cy="215424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81200"/>
                <a:gridCol w="782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Text Box 90"/>
          <p:cNvSpPr/>
          <p:nvPr/>
        </p:nvSpPr>
        <p:spPr>
          <a:xfrm>
            <a:off x="4884840" y="836640"/>
            <a:ext cx="7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1"/>
          <p:cNvSpPr/>
          <p:nvPr/>
        </p:nvSpPr>
        <p:spPr>
          <a:xfrm>
            <a:off x="4572000" y="1179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92"/>
          <p:cNvSpPr/>
          <p:nvPr/>
        </p:nvSpPr>
        <p:spPr>
          <a:xfrm>
            <a:off x="4992840" y="4075200"/>
            <a:ext cx="936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4694400" y="3830760"/>
          <a:ext cx="3909960" cy="2154240"/>
        </p:xfrm>
        <a:graphic>
          <a:graphicData uri="http://schemas.openxmlformats.org/drawingml/2006/table">
            <a:tbl>
              <a:tblPr/>
              <a:tblGrid>
                <a:gridCol w="782640"/>
                <a:gridCol w="780840"/>
                <a:gridCol w="782640"/>
                <a:gridCol w="781200"/>
                <a:gridCol w="782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5" name="Text Box 128"/>
          <p:cNvSpPr/>
          <p:nvPr/>
        </p:nvSpPr>
        <p:spPr>
          <a:xfrm>
            <a:off x="4935600" y="3774960"/>
            <a:ext cx="7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29"/>
          <p:cNvSpPr/>
          <p:nvPr/>
        </p:nvSpPr>
        <p:spPr>
          <a:xfrm>
            <a:off x="4622760" y="41180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DB28-3265-4838-AF90-4B6068E080F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6.4 Méthode de simplification (Exemple : 3 variable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541520" y="3838680"/>
          <a:ext cx="3909960" cy="2154240"/>
        </p:xfrm>
        <a:graphic>
          <a:graphicData uri="http://schemas.openxmlformats.org/drawingml/2006/table">
            <a:tbl>
              <a:tblPr/>
              <a:tblGrid>
                <a:gridCol w="782640"/>
                <a:gridCol w="780840"/>
                <a:gridCol w="782640"/>
                <a:gridCol w="781200"/>
                <a:gridCol w="782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Text Box 39"/>
          <p:cNvSpPr/>
          <p:nvPr/>
        </p:nvSpPr>
        <p:spPr>
          <a:xfrm>
            <a:off x="1782720" y="37828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0"/>
          <p:cNvSpPr/>
          <p:nvPr/>
        </p:nvSpPr>
        <p:spPr>
          <a:xfrm>
            <a:off x="1469880" y="4125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43"/>
              <p:cNvSpPr txBox="1"/>
              <p:nvPr/>
            </p:nvSpPr>
            <p:spPr>
              <a:xfrm>
                <a:off x="6078600" y="4579920"/>
                <a:ext cx="23097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Oval 46"/>
          <p:cNvSpPr/>
          <p:nvPr/>
        </p:nvSpPr>
        <p:spPr>
          <a:xfrm>
            <a:off x="3917880" y="4579920"/>
            <a:ext cx="720720" cy="144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49"/>
          <p:cNvSpPr/>
          <p:nvPr/>
        </p:nvSpPr>
        <p:spPr>
          <a:xfrm>
            <a:off x="4565520" y="4869000"/>
            <a:ext cx="158436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52"/>
          <p:cNvSpPr/>
          <p:nvPr/>
        </p:nvSpPr>
        <p:spPr>
          <a:xfrm>
            <a:off x="324000" y="1052640"/>
            <a:ext cx="84960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idée de base est d’essayer de regrouper (fair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des regroupemen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) le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cases adjacent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qui comportent de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( rassembler les termes adjacents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ssayer de faire des regroupements avec le maximum de cases ( 16,8,4 ou 2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notre exemple on peut faire uniquement des regroupements de 2 case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679F-449D-418E-A7DD-2A9ABCDE79A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332000" y="2908440"/>
          <a:ext cx="3909960" cy="2154240"/>
        </p:xfrm>
        <a:graphic>
          <a:graphicData uri="http://schemas.openxmlformats.org/drawingml/2006/table">
            <a:tbl>
              <a:tblPr/>
              <a:tblGrid>
                <a:gridCol w="782640"/>
                <a:gridCol w="780840"/>
                <a:gridCol w="782640"/>
                <a:gridCol w="781200"/>
                <a:gridCol w="782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Text Box 38"/>
          <p:cNvSpPr/>
          <p:nvPr/>
        </p:nvSpPr>
        <p:spPr>
          <a:xfrm>
            <a:off x="1573200" y="285264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9"/>
          <p:cNvSpPr/>
          <p:nvPr/>
        </p:nvSpPr>
        <p:spPr>
          <a:xfrm>
            <a:off x="1260360" y="319572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42"/>
              <p:cNvSpPr txBox="1"/>
              <p:nvPr/>
            </p:nvSpPr>
            <p:spPr>
              <a:xfrm>
                <a:off x="5724360" y="4514760"/>
                <a:ext cx="23878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+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Oval 44"/>
          <p:cNvSpPr/>
          <p:nvPr/>
        </p:nvSpPr>
        <p:spPr>
          <a:xfrm>
            <a:off x="3708360" y="3649680"/>
            <a:ext cx="720720" cy="144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45"/>
          <p:cNvSpPr/>
          <p:nvPr/>
        </p:nvSpPr>
        <p:spPr>
          <a:xfrm>
            <a:off x="3637080" y="4370400"/>
            <a:ext cx="1584360" cy="6476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7"/>
          <p:cNvSpPr/>
          <p:nvPr/>
        </p:nvSpPr>
        <p:spPr>
          <a:xfrm>
            <a:off x="4356000" y="3938760"/>
            <a:ext cx="158436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8"/>
          <p:cNvSpPr/>
          <p:nvPr/>
        </p:nvSpPr>
        <p:spPr>
          <a:xfrm>
            <a:off x="5292720" y="4730760"/>
            <a:ext cx="50472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1"/>
          <p:cNvSpPr/>
          <p:nvPr/>
        </p:nvSpPr>
        <p:spPr>
          <a:xfrm>
            <a:off x="250920" y="333360"/>
            <a:ext cx="7921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uisque il existent encore des cases qui sont en dehors d’un regroupement on refait la même procédure : former des regroup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ase peut appartenir à plusieurs regroup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52"/>
              <p:cNvSpPr txBox="1"/>
              <p:nvPr/>
            </p:nvSpPr>
            <p:spPr>
              <a:xfrm>
                <a:off x="6012000" y="3681360"/>
                <a:ext cx="25207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1F23-EDF4-4431-B0AD-04EF9ECDFFC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181160" y="1774800"/>
          <a:ext cx="3909960" cy="2154240"/>
        </p:xfrm>
        <a:graphic>
          <a:graphicData uri="http://schemas.openxmlformats.org/drawingml/2006/table">
            <a:tbl>
              <a:tblPr/>
              <a:tblGrid>
                <a:gridCol w="782640"/>
                <a:gridCol w="780840"/>
                <a:gridCol w="782640"/>
                <a:gridCol w="781200"/>
                <a:gridCol w="782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Text Box 38"/>
          <p:cNvSpPr/>
          <p:nvPr/>
        </p:nvSpPr>
        <p:spPr>
          <a:xfrm>
            <a:off x="1422360" y="17193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9"/>
          <p:cNvSpPr/>
          <p:nvPr/>
        </p:nvSpPr>
        <p:spPr>
          <a:xfrm>
            <a:off x="1109520" y="206208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40"/>
              <p:cNvSpPr txBox="1"/>
              <p:nvPr/>
            </p:nvSpPr>
            <p:spPr>
              <a:xfrm>
                <a:off x="1187280" y="5805360"/>
                <a:ext cx="48247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42"/>
              <p:cNvSpPr txBox="1"/>
              <p:nvPr/>
            </p:nvSpPr>
            <p:spPr>
              <a:xfrm>
                <a:off x="5573880" y="3381480"/>
                <a:ext cx="2387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+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43"/>
              <p:cNvSpPr txBox="1"/>
              <p:nvPr/>
            </p:nvSpPr>
            <p:spPr>
              <a:xfrm>
                <a:off x="2405160" y="4605480"/>
                <a:ext cx="21826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Oval 44"/>
          <p:cNvSpPr/>
          <p:nvPr/>
        </p:nvSpPr>
        <p:spPr>
          <a:xfrm>
            <a:off x="3557520" y="2516040"/>
            <a:ext cx="720720" cy="144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45"/>
          <p:cNvSpPr/>
          <p:nvPr/>
        </p:nvSpPr>
        <p:spPr>
          <a:xfrm>
            <a:off x="3486240" y="3236760"/>
            <a:ext cx="1584360" cy="64800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6"/>
          <p:cNvSpPr/>
          <p:nvPr/>
        </p:nvSpPr>
        <p:spPr>
          <a:xfrm>
            <a:off x="2693880" y="3236760"/>
            <a:ext cx="1584360" cy="6480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7"/>
          <p:cNvSpPr/>
          <p:nvPr/>
        </p:nvSpPr>
        <p:spPr>
          <a:xfrm>
            <a:off x="4205160" y="2805120"/>
            <a:ext cx="158436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8"/>
          <p:cNvSpPr/>
          <p:nvPr/>
        </p:nvSpPr>
        <p:spPr>
          <a:xfrm>
            <a:off x="5141880" y="3597120"/>
            <a:ext cx="50472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49"/>
          <p:cNvSpPr/>
          <p:nvPr/>
        </p:nvSpPr>
        <p:spPr>
          <a:xfrm>
            <a:off x="3270240" y="3884760"/>
            <a:ext cx="0" cy="720720"/>
          </a:xfrm>
          <a:prstGeom prst="line">
            <a:avLst/>
          </a:prstGeom>
          <a:ln w="255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1"/>
          <p:cNvSpPr/>
          <p:nvPr/>
        </p:nvSpPr>
        <p:spPr>
          <a:xfrm>
            <a:off x="250920" y="33336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s’arrête lorsque il y a plus d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n dehors des regroup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fonction final est égale à la réunion ( somme ) des termes après simplif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52"/>
              <p:cNvSpPr txBox="1"/>
              <p:nvPr/>
            </p:nvSpPr>
            <p:spPr>
              <a:xfrm>
                <a:off x="5940360" y="2565360"/>
                <a:ext cx="22320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F526-1831-431A-84B5-A4F494F752D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820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, en résumé pour simplifier une fonction par la table de karnaugh il faut suivre les étapes suivan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Rempli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e tableau à partir de la table de vérité ou à partir de la forme cano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ire des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regroupement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des regroupements de  16,8,4,2,1 cases ( Les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même ter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peuvent participer à plusieurs regroupements 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un regroupem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contient un seule terme on peut pas éliminer de variab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contient deux termes on peut éliminer une variable ( celle qui change d’état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contient 4 termes on peut éliminer 2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contient 8 termes on peut éliminer 3 variab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contient 16 termes on peut éliminer 4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ression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logique fina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st la réunion ( la somme ) des groupements après simplification et élimination des variables qui changent d’ét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248E-987D-4061-B677-84A1CD58B59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3. Fonction lo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7991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’est une fonction qui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relie N variables logiqu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vec un ensembl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’opérateurs logiqu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 b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l’Algèbre de Boole il existe trois opérateurs de base :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NON , ET  , OU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valeur d’une fonction logique est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égale à 1 ou 0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elon les valeurs des variables log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une fonction logique possèd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N variabl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ogiqu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fr-FR" sz="2400" spc="-1" strike="noStrike" baseline="30000">
                <a:solidFill>
                  <a:srgbClr val="ff3300"/>
                </a:solidFill>
                <a:latin typeface="Arial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ombinaisons 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a fonction possèd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fr-FR" sz="2400" spc="-1" strike="noStrike" baseline="30000">
                <a:solidFill>
                  <a:srgbClr val="ff3300"/>
                </a:solidFill>
                <a:latin typeface="Arial"/>
              </a:rPr>
              <a:t>n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 valeur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ombinaisons sont représentées dans une table qui s’appell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table de vérité  ( TV 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A5F9-0B7A-406F-941B-7D0BEF86880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181160" y="1774800"/>
          <a:ext cx="3909960" cy="2154240"/>
        </p:xfrm>
        <a:graphic>
          <a:graphicData uri="http://schemas.openxmlformats.org/drawingml/2006/table">
            <a:tbl>
              <a:tblPr/>
              <a:tblGrid>
                <a:gridCol w="782640"/>
                <a:gridCol w="780840"/>
                <a:gridCol w="782640"/>
                <a:gridCol w="781200"/>
                <a:gridCol w="782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6" name="Text Box 37"/>
          <p:cNvSpPr/>
          <p:nvPr/>
        </p:nvSpPr>
        <p:spPr>
          <a:xfrm>
            <a:off x="1422360" y="17193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8"/>
          <p:cNvSpPr/>
          <p:nvPr/>
        </p:nvSpPr>
        <p:spPr>
          <a:xfrm>
            <a:off x="1109520" y="206208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39"/>
              <p:cNvSpPr txBox="1"/>
              <p:nvPr/>
            </p:nvSpPr>
            <p:spPr>
              <a:xfrm>
                <a:off x="1692360" y="5229360"/>
                <a:ext cx="35575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Oval 42"/>
          <p:cNvSpPr/>
          <p:nvPr/>
        </p:nvSpPr>
        <p:spPr>
          <a:xfrm>
            <a:off x="3557520" y="2516040"/>
            <a:ext cx="720720" cy="144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43"/>
          <p:cNvSpPr/>
          <p:nvPr/>
        </p:nvSpPr>
        <p:spPr>
          <a:xfrm>
            <a:off x="1835280" y="3236760"/>
            <a:ext cx="3235320" cy="64800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50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xemple 1 : 3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52"/>
          <p:cNvSpPr/>
          <p:nvPr/>
        </p:nvSpPr>
        <p:spPr>
          <a:xfrm>
            <a:off x="2987640" y="3860640"/>
            <a:ext cx="1008000" cy="13687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53"/>
          <p:cNvSpPr/>
          <p:nvPr/>
        </p:nvSpPr>
        <p:spPr>
          <a:xfrm>
            <a:off x="4211640" y="3573360"/>
            <a:ext cx="720720" cy="165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B498-CAFE-481D-9A47-3A85BC8335A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xemple 2 : 4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3"/>
              <p:cNvSpPr txBox="1"/>
              <p:nvPr/>
            </p:nvSpPr>
            <p:spPr>
              <a:xfrm>
                <a:off x="611280" y="5661000"/>
                <a:ext cx="7273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aphicFrame>
        <p:nvGraphicFramePr>
          <p:cNvPr id="477" name=""/>
          <p:cNvGraphicFramePr/>
          <p:nvPr/>
        </p:nvGraphicFramePr>
        <p:xfrm>
          <a:off x="1906560" y="1324080"/>
          <a:ext cx="3909960" cy="354492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50600"/>
                <a:gridCol w="812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8" name="Text Box 51"/>
          <p:cNvSpPr/>
          <p:nvPr/>
        </p:nvSpPr>
        <p:spPr>
          <a:xfrm>
            <a:off x="2147760" y="12682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2"/>
          <p:cNvSpPr/>
          <p:nvPr/>
        </p:nvSpPr>
        <p:spPr>
          <a:xfrm>
            <a:off x="1835280" y="161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54"/>
          <p:cNvSpPr/>
          <p:nvPr/>
        </p:nvSpPr>
        <p:spPr>
          <a:xfrm>
            <a:off x="2771640" y="2781360"/>
            <a:ext cx="3095640" cy="6476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77"/>
          <p:cNvSpPr/>
          <p:nvPr/>
        </p:nvSpPr>
        <p:spPr>
          <a:xfrm>
            <a:off x="3492360" y="4149720"/>
            <a:ext cx="792360" cy="647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78"/>
          <p:cNvSpPr/>
          <p:nvPr/>
        </p:nvSpPr>
        <p:spPr>
          <a:xfrm>
            <a:off x="5076720" y="2133720"/>
            <a:ext cx="64764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79"/>
          <p:cNvSpPr/>
          <p:nvPr/>
        </p:nvSpPr>
        <p:spPr>
          <a:xfrm>
            <a:off x="4284720" y="4581360"/>
            <a:ext cx="2448000" cy="1008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80"/>
          <p:cNvSpPr/>
          <p:nvPr/>
        </p:nvSpPr>
        <p:spPr>
          <a:xfrm flipH="1">
            <a:off x="5292360" y="3429000"/>
            <a:ext cx="142920" cy="22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81"/>
          <p:cNvSpPr/>
          <p:nvPr/>
        </p:nvSpPr>
        <p:spPr>
          <a:xfrm>
            <a:off x="2916360" y="3213000"/>
            <a:ext cx="863640" cy="2448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7693-D9BB-49CF-B246-1930CB5186D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xemple 3 : 4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11"/>
              <p:cNvSpPr txBox="1"/>
              <p:nvPr/>
            </p:nvSpPr>
            <p:spPr>
              <a:xfrm>
                <a:off x="1042920" y="5734080"/>
                <a:ext cx="6048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89" name=""/>
          <p:cNvGraphicFramePr/>
          <p:nvPr/>
        </p:nvGraphicFramePr>
        <p:xfrm>
          <a:off x="1906560" y="1324080"/>
          <a:ext cx="3909960" cy="354492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50600"/>
                <a:gridCol w="812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Text Box 61"/>
          <p:cNvSpPr/>
          <p:nvPr/>
        </p:nvSpPr>
        <p:spPr>
          <a:xfrm>
            <a:off x="2147760" y="12682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62"/>
          <p:cNvSpPr/>
          <p:nvPr/>
        </p:nvSpPr>
        <p:spPr>
          <a:xfrm>
            <a:off x="1835280" y="161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63"/>
          <p:cNvSpPr/>
          <p:nvPr/>
        </p:nvSpPr>
        <p:spPr>
          <a:xfrm>
            <a:off x="5024520" y="2060640"/>
            <a:ext cx="792000" cy="28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64"/>
          <p:cNvSpPr/>
          <p:nvPr/>
        </p:nvSpPr>
        <p:spPr>
          <a:xfrm>
            <a:off x="3440160" y="2781360"/>
            <a:ext cx="1512720" cy="6476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65"/>
          <p:cNvSpPr/>
          <p:nvPr/>
        </p:nvSpPr>
        <p:spPr>
          <a:xfrm>
            <a:off x="5240160" y="4221000"/>
            <a:ext cx="936720" cy="792360"/>
          </a:xfrm>
          <a:custGeom>
            <a:avLst/>
            <a:gdLst>
              <a:gd name="textAreaLeft" fmla="*/ 0 w 936720"/>
              <a:gd name="textAreaRight" fmla="*/ 937080 w 9367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824" h="740">
                <a:moveTo>
                  <a:pt x="824" y="241"/>
                </a:moveTo>
                <a:cubicBezTo>
                  <a:pt x="597" y="135"/>
                  <a:pt x="370" y="30"/>
                  <a:pt x="234" y="15"/>
                </a:cubicBezTo>
                <a:cubicBezTo>
                  <a:pt x="98" y="0"/>
                  <a:pt x="0" y="30"/>
                  <a:pt x="8" y="151"/>
                </a:cubicBezTo>
                <a:cubicBezTo>
                  <a:pt x="16" y="272"/>
                  <a:pt x="148" y="506"/>
                  <a:pt x="280" y="74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66"/>
          <p:cNvSpPr/>
          <p:nvPr/>
        </p:nvSpPr>
        <p:spPr>
          <a:xfrm rot="16320000">
            <a:off x="5282280" y="1730880"/>
            <a:ext cx="947520" cy="1032120"/>
          </a:xfrm>
          <a:custGeom>
            <a:avLst/>
            <a:gdLst>
              <a:gd name="textAreaLeft" fmla="*/ 0 w 947520"/>
              <a:gd name="textAreaRight" fmla="*/ 947880 w 947520"/>
              <a:gd name="textAreaTop" fmla="*/ 0 h 1032120"/>
              <a:gd name="textAreaBottom" fmla="*/ 1032480 h 1032120"/>
            </a:gdLst>
            <a:ahLst/>
            <a:rect l="textAreaLeft" t="textAreaTop" r="textAreaRight" b="textAreaBottom"/>
            <a:pathLst>
              <a:path w="824" h="740">
                <a:moveTo>
                  <a:pt x="824" y="241"/>
                </a:moveTo>
                <a:cubicBezTo>
                  <a:pt x="597" y="135"/>
                  <a:pt x="370" y="30"/>
                  <a:pt x="234" y="15"/>
                </a:cubicBezTo>
                <a:cubicBezTo>
                  <a:pt x="98" y="0"/>
                  <a:pt x="0" y="30"/>
                  <a:pt x="8" y="151"/>
                </a:cubicBezTo>
                <a:cubicBezTo>
                  <a:pt x="16" y="272"/>
                  <a:pt x="148" y="506"/>
                  <a:pt x="280" y="74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67"/>
          <p:cNvSpPr/>
          <p:nvPr/>
        </p:nvSpPr>
        <p:spPr>
          <a:xfrm rot="4860000">
            <a:off x="2329920" y="4246560"/>
            <a:ext cx="1008000" cy="10839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083960"/>
              <a:gd name="textAreaBottom" fmla="*/ 1084320 h 1083960"/>
            </a:gdLst>
            <a:ahLst/>
            <a:rect l="textAreaLeft" t="textAreaTop" r="textAreaRight" b="textAreaBottom"/>
            <a:pathLst>
              <a:path w="824" h="740">
                <a:moveTo>
                  <a:pt x="824" y="241"/>
                </a:moveTo>
                <a:cubicBezTo>
                  <a:pt x="597" y="135"/>
                  <a:pt x="370" y="30"/>
                  <a:pt x="234" y="15"/>
                </a:cubicBezTo>
                <a:cubicBezTo>
                  <a:pt x="98" y="0"/>
                  <a:pt x="0" y="30"/>
                  <a:pt x="8" y="151"/>
                </a:cubicBezTo>
                <a:cubicBezTo>
                  <a:pt x="16" y="272"/>
                  <a:pt x="148" y="506"/>
                  <a:pt x="280" y="74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68"/>
          <p:cNvSpPr/>
          <p:nvPr/>
        </p:nvSpPr>
        <p:spPr>
          <a:xfrm rot="10200000">
            <a:off x="2428560" y="2027160"/>
            <a:ext cx="984240" cy="743040"/>
          </a:xfrm>
          <a:custGeom>
            <a:avLst/>
            <a:gdLst>
              <a:gd name="textAreaLeft" fmla="*/ 0 w 984240"/>
              <a:gd name="textAreaRight" fmla="*/ 984600 w 9842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824" h="740">
                <a:moveTo>
                  <a:pt x="824" y="241"/>
                </a:moveTo>
                <a:cubicBezTo>
                  <a:pt x="597" y="135"/>
                  <a:pt x="370" y="30"/>
                  <a:pt x="234" y="15"/>
                </a:cubicBezTo>
                <a:cubicBezTo>
                  <a:pt x="98" y="0"/>
                  <a:pt x="0" y="30"/>
                  <a:pt x="8" y="151"/>
                </a:cubicBezTo>
                <a:cubicBezTo>
                  <a:pt x="16" y="272"/>
                  <a:pt x="148" y="506"/>
                  <a:pt x="280" y="74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69"/>
          <p:cNvSpPr/>
          <p:nvPr/>
        </p:nvSpPr>
        <p:spPr>
          <a:xfrm flipH="1">
            <a:off x="4355640" y="4653000"/>
            <a:ext cx="863640" cy="10080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70"/>
          <p:cNvSpPr/>
          <p:nvPr/>
        </p:nvSpPr>
        <p:spPr>
          <a:xfrm flipH="1">
            <a:off x="5364000" y="4437000"/>
            <a:ext cx="648000" cy="11527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71"/>
          <p:cNvSpPr/>
          <p:nvPr/>
        </p:nvSpPr>
        <p:spPr>
          <a:xfrm>
            <a:off x="4284720" y="3429000"/>
            <a:ext cx="2158920" cy="223200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C793-B0E0-4D86-AD9B-BB6B1FFDF8F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emple 4 :  5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79280" y="1108080"/>
          <a:ext cx="3909960" cy="354492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50960"/>
                <a:gridCol w="812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4" name="Text Box 51"/>
          <p:cNvSpPr/>
          <p:nvPr/>
        </p:nvSpPr>
        <p:spPr>
          <a:xfrm>
            <a:off x="420840" y="1052640"/>
            <a:ext cx="7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4838760" y="1108080"/>
          <a:ext cx="3909960" cy="3544920"/>
        </p:xfrm>
        <a:graphic>
          <a:graphicData uri="http://schemas.openxmlformats.org/drawingml/2006/table">
            <a:tbl>
              <a:tblPr/>
              <a:tblGrid>
                <a:gridCol w="782640"/>
                <a:gridCol w="780840"/>
                <a:gridCol w="782640"/>
                <a:gridCol w="750960"/>
                <a:gridCol w="812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Text Box 99"/>
          <p:cNvSpPr/>
          <p:nvPr/>
        </p:nvSpPr>
        <p:spPr>
          <a:xfrm>
            <a:off x="5079960" y="105264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00"/>
          <p:cNvSpPr/>
          <p:nvPr/>
        </p:nvSpPr>
        <p:spPr>
          <a:xfrm>
            <a:off x="4767120" y="1395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1"/>
          <p:cNvSpPr/>
          <p:nvPr/>
        </p:nvSpPr>
        <p:spPr>
          <a:xfrm>
            <a:off x="1476360" y="4940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02"/>
          <p:cNvSpPr/>
          <p:nvPr/>
        </p:nvSpPr>
        <p:spPr>
          <a:xfrm>
            <a:off x="6300720" y="4940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105"/>
              <p:cNvSpPr txBox="1"/>
              <p:nvPr/>
            </p:nvSpPr>
            <p:spPr>
              <a:xfrm>
                <a:off x="324000" y="5805360"/>
                <a:ext cx="7343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,B,C,D,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Text Box 107"/>
          <p:cNvSpPr/>
          <p:nvPr/>
        </p:nvSpPr>
        <p:spPr>
          <a:xfrm>
            <a:off x="108000" y="14112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16"/>
          <p:cNvSpPr/>
          <p:nvPr/>
        </p:nvSpPr>
        <p:spPr>
          <a:xfrm>
            <a:off x="971640" y="1916280"/>
            <a:ext cx="792000" cy="27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7"/>
          <p:cNvSpPr/>
          <p:nvPr/>
        </p:nvSpPr>
        <p:spPr>
          <a:xfrm>
            <a:off x="5651640" y="1916280"/>
            <a:ext cx="792000" cy="27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18"/>
          <p:cNvSpPr/>
          <p:nvPr/>
        </p:nvSpPr>
        <p:spPr>
          <a:xfrm>
            <a:off x="2556000" y="2637000"/>
            <a:ext cx="720720" cy="1295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119"/>
          <p:cNvSpPr/>
          <p:nvPr/>
        </p:nvSpPr>
        <p:spPr>
          <a:xfrm>
            <a:off x="7956720" y="2563920"/>
            <a:ext cx="720720" cy="12952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20"/>
          <p:cNvSpPr/>
          <p:nvPr/>
        </p:nvSpPr>
        <p:spPr>
          <a:xfrm>
            <a:off x="5651640" y="4003560"/>
            <a:ext cx="1512720" cy="649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21"/>
          <p:cNvSpPr/>
          <p:nvPr/>
        </p:nvSpPr>
        <p:spPr>
          <a:xfrm>
            <a:off x="1619280" y="4365720"/>
            <a:ext cx="1368360" cy="1368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22"/>
          <p:cNvSpPr/>
          <p:nvPr/>
        </p:nvSpPr>
        <p:spPr>
          <a:xfrm flipH="1">
            <a:off x="3203640" y="3933720"/>
            <a:ext cx="2448000" cy="17272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23"/>
          <p:cNvSpPr/>
          <p:nvPr/>
        </p:nvSpPr>
        <p:spPr>
          <a:xfrm>
            <a:off x="3059280" y="3860640"/>
            <a:ext cx="1152360" cy="1873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24"/>
          <p:cNvSpPr/>
          <p:nvPr/>
        </p:nvSpPr>
        <p:spPr>
          <a:xfrm flipH="1">
            <a:off x="5580000" y="4653000"/>
            <a:ext cx="72072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25"/>
          <p:cNvSpPr/>
          <p:nvPr/>
        </p:nvSpPr>
        <p:spPr>
          <a:xfrm flipH="1">
            <a:off x="7093080" y="3860640"/>
            <a:ext cx="1224000" cy="187344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30FF-FF68-43D6-9925-86CCD249847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85680" y="2989440"/>
          <a:ext cx="3909960" cy="215424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80840"/>
                <a:gridCol w="782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Text Box 66"/>
          <p:cNvSpPr/>
          <p:nvPr/>
        </p:nvSpPr>
        <p:spPr>
          <a:xfrm>
            <a:off x="326880" y="293364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67"/>
          <p:cNvSpPr/>
          <p:nvPr/>
        </p:nvSpPr>
        <p:spPr>
          <a:xfrm>
            <a:off x="14400" y="3276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4643280" y="2478240"/>
          <a:ext cx="3910320" cy="354456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50960"/>
                <a:gridCol w="812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7" name="Text Box 120"/>
          <p:cNvSpPr/>
          <p:nvPr/>
        </p:nvSpPr>
        <p:spPr>
          <a:xfrm>
            <a:off x="4884840" y="2422440"/>
            <a:ext cx="7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21"/>
          <p:cNvSpPr/>
          <p:nvPr/>
        </p:nvSpPr>
        <p:spPr>
          <a:xfrm>
            <a:off x="4572000" y="27655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9760" y="1299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erc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23"/>
          <p:cNvSpPr/>
          <p:nvPr/>
        </p:nvSpPr>
        <p:spPr>
          <a:xfrm>
            <a:off x="250920" y="83664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rouver la forme simplifiée des fonctions à partir des deux tableaux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7BDC-6BCD-49EF-B8AF-4DE659D41E2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6.5 Cas d’une fonction non totalement défi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395280" y="1557360"/>
            <a:ext cx="7775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aminons l’exemple suiva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serrure de sécurité s’ouvre en fonction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de quatre clé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A, B, C D. Le fonctionnement de la serrure  est définie comme suite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(A,B,C,D)= 1 si au moins deux  clés sont utilis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(A,B,C,D)=  0  si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clé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A et 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ne peuvent pas être utilisé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n même tem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remarque que si la clé A et D sont utilisées en même temps l’état du système n’est pa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détermin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s cas sont appelés  ca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impossib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interdites 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omment représenter ces cas dans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 la table de vérité ?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250920" y="2133720"/>
            <a:ext cx="799308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686C-FF70-477D-B4D3-52D402BC418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1123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wse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5148360" y="333360"/>
          <a:ext cx="3612960" cy="6218280"/>
        </p:xfrm>
        <a:graphic>
          <a:graphicData uri="http://schemas.openxmlformats.org/drawingml/2006/table">
            <a:tbl>
              <a:tblPr/>
              <a:tblGrid>
                <a:gridCol w="681120"/>
                <a:gridCol w="676440"/>
                <a:gridCol w="681120"/>
                <a:gridCol w="608400"/>
                <a:gridCol w="216000"/>
                <a:gridCol w="749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7" name="Text Box 167"/>
          <p:cNvSpPr/>
          <p:nvPr/>
        </p:nvSpPr>
        <p:spPr>
          <a:xfrm>
            <a:off x="0" y="476280"/>
            <a:ext cx="5076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les cas impossibles ou interdi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faut mettre un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X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la T.V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cas impossibles sont représenté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ssi par de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ans la table de karna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179280" y="3054240"/>
          <a:ext cx="3909960" cy="354168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50960"/>
                <a:gridCol w="812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Text Box 215"/>
          <p:cNvSpPr/>
          <p:nvPr/>
        </p:nvSpPr>
        <p:spPr>
          <a:xfrm>
            <a:off x="420840" y="2998800"/>
            <a:ext cx="7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16"/>
          <p:cNvSpPr/>
          <p:nvPr/>
        </p:nvSpPr>
        <p:spPr>
          <a:xfrm>
            <a:off x="108000" y="33415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74F8-45FE-481C-8E38-75F6FFF6EDE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96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est possible d’utiliser le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ans des regroupemen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it les prendre comme étant de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u les prendre comme étant de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ne faut pas former des regroupement qui contient uniquement de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3"/>
              <p:cNvSpPr txBox="1"/>
              <p:nvPr/>
            </p:nvSpPr>
            <p:spPr>
              <a:xfrm>
                <a:off x="4356000" y="6093000"/>
                <a:ext cx="86364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44" name=""/>
          <p:cNvGraphicFramePr/>
          <p:nvPr/>
        </p:nvGraphicFramePr>
        <p:xfrm>
          <a:off x="1692360" y="1916280"/>
          <a:ext cx="5040360" cy="3816360"/>
        </p:xfrm>
        <a:graphic>
          <a:graphicData uri="http://schemas.openxmlformats.org/drawingml/2006/table">
            <a:tbl>
              <a:tblPr/>
              <a:tblGrid>
                <a:gridCol w="1009440"/>
                <a:gridCol w="1006560"/>
                <a:gridCol w="1008000"/>
                <a:gridCol w="968400"/>
                <a:gridCol w="104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Text Box 51"/>
          <p:cNvSpPr/>
          <p:nvPr/>
        </p:nvSpPr>
        <p:spPr>
          <a:xfrm>
            <a:off x="1979640" y="1771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2"/>
          <p:cNvSpPr/>
          <p:nvPr/>
        </p:nvSpPr>
        <p:spPr>
          <a:xfrm>
            <a:off x="1547640" y="2058840"/>
            <a:ext cx="8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53"/>
          <p:cNvSpPr/>
          <p:nvPr/>
        </p:nvSpPr>
        <p:spPr>
          <a:xfrm>
            <a:off x="4716360" y="2781360"/>
            <a:ext cx="935280" cy="3024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0118-F7C1-44D3-B99B-4C5F18A1C08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"/>
              <p:cNvSpPr txBox="1"/>
              <p:nvPr/>
            </p:nvSpPr>
            <p:spPr>
              <a:xfrm>
                <a:off x="3564000" y="5516640"/>
                <a:ext cx="20653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CD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50" name=""/>
          <p:cNvGraphicFramePr/>
          <p:nvPr/>
        </p:nvGraphicFramePr>
        <p:xfrm>
          <a:off x="1835280" y="836640"/>
          <a:ext cx="5040360" cy="3816360"/>
        </p:xfrm>
        <a:graphic>
          <a:graphicData uri="http://schemas.openxmlformats.org/drawingml/2006/table">
            <a:tbl>
              <a:tblPr/>
              <a:tblGrid>
                <a:gridCol w="1009440"/>
                <a:gridCol w="1006560"/>
                <a:gridCol w="1008000"/>
                <a:gridCol w="968400"/>
                <a:gridCol w="104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1" name="Text Box 50"/>
          <p:cNvSpPr/>
          <p:nvPr/>
        </p:nvSpPr>
        <p:spPr>
          <a:xfrm>
            <a:off x="2122560" y="6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1"/>
          <p:cNvSpPr/>
          <p:nvPr/>
        </p:nvSpPr>
        <p:spPr>
          <a:xfrm>
            <a:off x="1690560" y="979560"/>
            <a:ext cx="8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52"/>
          <p:cNvSpPr/>
          <p:nvPr/>
        </p:nvSpPr>
        <p:spPr>
          <a:xfrm>
            <a:off x="4859280" y="1555920"/>
            <a:ext cx="934920" cy="3024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53"/>
          <p:cNvSpPr/>
          <p:nvPr/>
        </p:nvSpPr>
        <p:spPr>
          <a:xfrm>
            <a:off x="2843280" y="3068640"/>
            <a:ext cx="3960720" cy="79200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4180-945B-4E7D-A621-D48B75498D7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2"/>
              <p:cNvSpPr txBox="1"/>
              <p:nvPr/>
            </p:nvSpPr>
            <p:spPr>
              <a:xfrm>
                <a:off x="3300480" y="5805360"/>
                <a:ext cx="2219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CD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BD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57" name=""/>
          <p:cNvGraphicFramePr/>
          <p:nvPr/>
        </p:nvGraphicFramePr>
        <p:xfrm>
          <a:off x="2050920" y="907920"/>
          <a:ext cx="5040360" cy="3816360"/>
        </p:xfrm>
        <a:graphic>
          <a:graphicData uri="http://schemas.openxmlformats.org/drawingml/2006/table">
            <a:tbl>
              <a:tblPr/>
              <a:tblGrid>
                <a:gridCol w="1009800"/>
                <a:gridCol w="1006560"/>
                <a:gridCol w="1008000"/>
                <a:gridCol w="968400"/>
                <a:gridCol w="1047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8" name="Text Box 50"/>
          <p:cNvSpPr/>
          <p:nvPr/>
        </p:nvSpPr>
        <p:spPr>
          <a:xfrm>
            <a:off x="2338560" y="763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1"/>
          <p:cNvSpPr/>
          <p:nvPr/>
        </p:nvSpPr>
        <p:spPr>
          <a:xfrm>
            <a:off x="1906560" y="1050840"/>
            <a:ext cx="8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52"/>
          <p:cNvSpPr/>
          <p:nvPr/>
        </p:nvSpPr>
        <p:spPr>
          <a:xfrm>
            <a:off x="5075280" y="1627200"/>
            <a:ext cx="934920" cy="3024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53"/>
          <p:cNvSpPr/>
          <p:nvPr/>
        </p:nvSpPr>
        <p:spPr>
          <a:xfrm>
            <a:off x="3059280" y="3139920"/>
            <a:ext cx="3960720" cy="79236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54"/>
          <p:cNvSpPr/>
          <p:nvPr/>
        </p:nvSpPr>
        <p:spPr>
          <a:xfrm>
            <a:off x="3994200" y="2276640"/>
            <a:ext cx="2016000" cy="18000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1A54-FF63-4479-A7AE-3E2F62208B0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emple d’une fonction lo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25"/>
              <p:cNvSpPr txBox="1"/>
              <p:nvPr/>
            </p:nvSpPr>
            <p:spPr>
              <a:xfrm>
                <a:off x="0" y="476280"/>
                <a:ext cx="6156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28"/>
              <p:cNvSpPr txBox="1"/>
              <p:nvPr/>
            </p:nvSpPr>
            <p:spPr>
              <a:xfrm>
                <a:off x="0" y="1844640"/>
                <a:ext cx="4500720" cy="428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,0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,0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,1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,1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,0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,0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,1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,1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Text Box 330"/>
          <p:cNvSpPr/>
          <p:nvPr/>
        </p:nvSpPr>
        <p:spPr>
          <a:xfrm>
            <a:off x="10080" y="1125360"/>
            <a:ext cx="72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fonction possède 3 variabl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ombinais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508720" y="2637000"/>
          <a:ext cx="3246480" cy="3627360"/>
        </p:xfrm>
        <a:graphic>
          <a:graphicData uri="http://schemas.openxmlformats.org/drawingml/2006/table">
            <a:tbl>
              <a:tblPr/>
              <a:tblGrid>
                <a:gridCol w="645840"/>
                <a:gridCol w="730440"/>
                <a:gridCol w="558720"/>
                <a:gridCol w="276120"/>
                <a:gridCol w="1035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396"/>
          <p:cNvSpPr/>
          <p:nvPr/>
        </p:nvSpPr>
        <p:spPr>
          <a:xfrm>
            <a:off x="1908000" y="63086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table de vér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97"/>
          <p:cNvSpPr/>
          <p:nvPr/>
        </p:nvSpPr>
        <p:spPr>
          <a:xfrm flipV="1">
            <a:off x="4284720" y="602136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A6F8-73C3-4CA7-8458-2B0A7BD8D08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Object 2"/>
              <p:cNvSpPr txBox="1"/>
              <p:nvPr/>
            </p:nvSpPr>
            <p:spPr>
              <a:xfrm>
                <a:off x="1614600" y="5877000"/>
                <a:ext cx="3900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CD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BD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5" name=""/>
          <p:cNvGraphicFramePr/>
          <p:nvPr/>
        </p:nvGraphicFramePr>
        <p:xfrm>
          <a:off x="1908000" y="907920"/>
          <a:ext cx="5040360" cy="3816360"/>
        </p:xfrm>
        <a:graphic>
          <a:graphicData uri="http://schemas.openxmlformats.org/drawingml/2006/table">
            <a:tbl>
              <a:tblPr/>
              <a:tblGrid>
                <a:gridCol w="1009800"/>
                <a:gridCol w="1006560"/>
                <a:gridCol w="1008000"/>
                <a:gridCol w="968400"/>
                <a:gridCol w="1047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Text Box 50"/>
          <p:cNvSpPr/>
          <p:nvPr/>
        </p:nvSpPr>
        <p:spPr>
          <a:xfrm>
            <a:off x="2195640" y="763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1"/>
          <p:cNvSpPr/>
          <p:nvPr/>
        </p:nvSpPr>
        <p:spPr>
          <a:xfrm>
            <a:off x="1763640" y="1050840"/>
            <a:ext cx="8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52"/>
          <p:cNvSpPr/>
          <p:nvPr/>
        </p:nvSpPr>
        <p:spPr>
          <a:xfrm>
            <a:off x="4932360" y="1627200"/>
            <a:ext cx="934920" cy="3024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53"/>
          <p:cNvSpPr/>
          <p:nvPr/>
        </p:nvSpPr>
        <p:spPr>
          <a:xfrm>
            <a:off x="2916360" y="3139920"/>
            <a:ext cx="3960720" cy="79236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54"/>
          <p:cNvSpPr/>
          <p:nvPr/>
        </p:nvSpPr>
        <p:spPr>
          <a:xfrm>
            <a:off x="4932360" y="3139920"/>
            <a:ext cx="2016000" cy="18003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55"/>
          <p:cNvSpPr/>
          <p:nvPr/>
        </p:nvSpPr>
        <p:spPr>
          <a:xfrm>
            <a:off x="3851280" y="2276640"/>
            <a:ext cx="2016000" cy="18000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9C96-F9B4-48E9-ACDC-DC0552A230E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1979640" y="907920"/>
          <a:ext cx="5040360" cy="3816360"/>
        </p:xfrm>
        <a:graphic>
          <a:graphicData uri="http://schemas.openxmlformats.org/drawingml/2006/table">
            <a:tbl>
              <a:tblPr/>
              <a:tblGrid>
                <a:gridCol w="1009800"/>
                <a:gridCol w="1006200"/>
                <a:gridCol w="1008000"/>
                <a:gridCol w="968400"/>
                <a:gridCol w="104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4" name="Text Box 49"/>
          <p:cNvSpPr/>
          <p:nvPr/>
        </p:nvSpPr>
        <p:spPr>
          <a:xfrm>
            <a:off x="2266920" y="763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0"/>
          <p:cNvSpPr/>
          <p:nvPr/>
        </p:nvSpPr>
        <p:spPr>
          <a:xfrm>
            <a:off x="1835280" y="105084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51"/>
          <p:cNvSpPr/>
          <p:nvPr/>
        </p:nvSpPr>
        <p:spPr>
          <a:xfrm>
            <a:off x="5003640" y="1627200"/>
            <a:ext cx="935280" cy="3024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2"/>
          <p:cNvSpPr/>
          <p:nvPr/>
        </p:nvSpPr>
        <p:spPr>
          <a:xfrm>
            <a:off x="2987640" y="3139920"/>
            <a:ext cx="3960720" cy="79236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53"/>
          <p:cNvSpPr/>
          <p:nvPr/>
        </p:nvSpPr>
        <p:spPr>
          <a:xfrm>
            <a:off x="5003640" y="3139920"/>
            <a:ext cx="2016360" cy="18003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54"/>
          <p:cNvSpPr/>
          <p:nvPr/>
        </p:nvSpPr>
        <p:spPr>
          <a:xfrm>
            <a:off x="3922560" y="3068640"/>
            <a:ext cx="2016360" cy="1800360"/>
          </a:xfrm>
          <a:prstGeom prst="ellipse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55"/>
          <p:cNvSpPr/>
          <p:nvPr/>
        </p:nvSpPr>
        <p:spPr>
          <a:xfrm>
            <a:off x="3922560" y="2276640"/>
            <a:ext cx="2016360" cy="18000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56"/>
              <p:cNvSpPr txBox="1"/>
              <p:nvPr/>
            </p:nvSpPr>
            <p:spPr>
              <a:xfrm>
                <a:off x="2257560" y="5805360"/>
                <a:ext cx="34750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CD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BD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B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9525-B387-43CF-B28C-E71B908E36A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xercic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179280" y="11970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ouver la fonction logique simplifiée à partir de la table suivant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2340000" y="2708280"/>
          <a:ext cx="3909960" cy="354168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50600"/>
                <a:gridCol w="812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7" name="Text Box 52"/>
          <p:cNvSpPr/>
          <p:nvPr/>
        </p:nvSpPr>
        <p:spPr>
          <a:xfrm>
            <a:off x="2581200" y="265284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3"/>
          <p:cNvSpPr/>
          <p:nvPr/>
        </p:nvSpPr>
        <p:spPr>
          <a:xfrm>
            <a:off x="2268360" y="29955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576E-3B60-45FD-B870-49AF9DD8B57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ercic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704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ire l’étude ( table de vérité , table de karnaugh , fonction simplifiée) du circuit qui nous permet de passer du codage BCD au codage EXCESS 3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ire le même travail pour le circuit qui permet le passage du codage EXCESS 3 au codage BC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AF09-35B6-4FFD-919C-9D39E985C10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figure 1 représente un réservoir alimenté par deux vannes V1 et V2. On distingue trois niveaux : Sécurité, Moyen, Ha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lorsque le niveau de liquide est inférieur ou égale  à Sécurité, V1 et V2 sont ouver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 lorsque le niveau du liquide est inférieur ou égal à Moyen mais supérieur à Sécurité, seule  V1 est ouve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lorsque le niveau du liquide est supérieur à Moyen mais inférieur à Haut, seule V2 est ouve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lorsque le niveau de liquide a atteint le niveau Haut, les deux vannes sont ferm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nner les équations logiques de l’ouverture de V1 et V2 en fonction du niveau de liqu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2482920" y="479592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6"/>
          <p:cNvSpPr/>
          <p:nvPr/>
        </p:nvSpPr>
        <p:spPr>
          <a:xfrm>
            <a:off x="3780000" y="479592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7"/>
          <p:cNvSpPr/>
          <p:nvPr/>
        </p:nvSpPr>
        <p:spPr>
          <a:xfrm>
            <a:off x="2482920" y="659592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2482920" y="6093000"/>
            <a:ext cx="129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9"/>
          <p:cNvSpPr/>
          <p:nvPr/>
        </p:nvSpPr>
        <p:spPr>
          <a:xfrm>
            <a:off x="2482920" y="5587920"/>
            <a:ext cx="129708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1042920" y="60199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cur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"/>
          <p:cNvSpPr/>
          <p:nvPr/>
        </p:nvSpPr>
        <p:spPr>
          <a:xfrm>
            <a:off x="1187280" y="537228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yen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1258920" y="47959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au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"/>
          <p:cNvSpPr/>
          <p:nvPr/>
        </p:nvSpPr>
        <p:spPr>
          <a:xfrm>
            <a:off x="2482920" y="4940280"/>
            <a:ext cx="1297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6"/>
          <p:cNvGrpSpPr/>
          <p:nvPr/>
        </p:nvGrpSpPr>
        <p:grpSpPr>
          <a:xfrm>
            <a:off x="3490920" y="4363920"/>
            <a:ext cx="792000" cy="287280"/>
            <a:chOff x="3490920" y="4363920"/>
            <a:chExt cx="792000" cy="287280"/>
          </a:xfrm>
        </p:grpSpPr>
        <p:sp>
          <p:nvSpPr>
            <p:cNvPr id="604" name="Line 14"/>
            <p:cNvSpPr/>
            <p:nvPr/>
          </p:nvSpPr>
          <p:spPr>
            <a:xfrm flipV="1">
              <a:off x="3490920" y="4363920"/>
              <a:ext cx="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5"/>
            <p:cNvSpPr/>
            <p:nvPr/>
          </p:nvSpPr>
          <p:spPr>
            <a:xfrm>
              <a:off x="3490920" y="43639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17"/>
          <p:cNvGrpSpPr/>
          <p:nvPr/>
        </p:nvGrpSpPr>
        <p:grpSpPr>
          <a:xfrm>
            <a:off x="1979640" y="4363920"/>
            <a:ext cx="792000" cy="287280"/>
            <a:chOff x="1979640" y="4363920"/>
            <a:chExt cx="792000" cy="287280"/>
          </a:xfrm>
        </p:grpSpPr>
        <p:sp>
          <p:nvSpPr>
            <p:cNvPr id="607" name="Line 18"/>
            <p:cNvSpPr/>
            <p:nvPr/>
          </p:nvSpPr>
          <p:spPr>
            <a:xfrm flipV="1">
              <a:off x="2771640" y="4363920"/>
              <a:ext cx="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9"/>
            <p:cNvSpPr/>
            <p:nvPr/>
          </p:nvSpPr>
          <p:spPr>
            <a:xfrm flipH="1">
              <a:off x="1979640" y="43639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Text Box 20"/>
          <p:cNvSpPr/>
          <p:nvPr/>
        </p:nvSpPr>
        <p:spPr>
          <a:xfrm>
            <a:off x="4337280" y="4383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1"/>
          <p:cNvSpPr/>
          <p:nvPr/>
        </p:nvSpPr>
        <p:spPr>
          <a:xfrm>
            <a:off x="1405080" y="429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9:09:09Z</dcterms:created>
  <dc:creator>h</dc:creator>
  <dc:description/>
  <dc:language>en-US</dc:language>
  <cp:lastModifiedBy>MACBOOKPRO</cp:lastModifiedBy>
  <dcterms:modified xsi:type="dcterms:W3CDTF">2012-04-15T07:52:41Z</dcterms:modified>
  <cp:revision>151</cp:revision>
  <dc:subject/>
  <dc:title>Algèbre de Boole</dc:title>
</cp:coreProperties>
</file>