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E41A03-2094-4E82-86F2-37D05FDA0FD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2AFDD6-9C83-44D0-B731-26C7DA79BD0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0A8641-6036-4794-A797-FECBB62D306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59D444-B7FB-4712-A1BD-073DB089501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576B23-8CE1-4CAD-8D08-2096B90B4D8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91B59C-BBAD-4DD3-8901-BEECD023E5D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4EF291-555A-4DD8-8BF1-D87DCF9BF82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107082-FDA0-4AA0-9DAB-6157791497A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E66ACC-BFD9-4C9B-AB27-07A6CE5D9EA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D0EEF7-FEEE-4A0A-8FB2-AE32FDA0465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D0EF3C-19FA-46F2-8FA0-556AEB64F8D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F186B6-8970-43B7-B4D3-EA5237C171F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B00E4B-3656-4596-8234-2AAE1CC89B1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060EB9-A72A-4779-9631-D78547FDFC1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5F789B-60E4-4BA8-B2B1-E634DC103AD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1D34C5-1120-4A0E-9992-0BC6C888D8B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2DE6E0-55CB-45CD-9C19-F7C49112EBC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196328-A3BA-443D-AE3A-BC7645CFC66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EC81D7-BC3D-4A27-BD05-65A4647616B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1D22A3-293D-4259-BEBF-294E2A852E0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70EE20-CC66-4CFA-83E5-CA64DF3A6C4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F0F575-2ED3-426F-95BF-5039C7CE5D5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9C4D1-5FCE-4FA3-AF46-852786EF59D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6FFDDB-3757-4E79-A60D-6F1BF56987B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391D25-28DF-42FB-8B8F-17C3CD06D55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E24E28-318B-4EF5-8657-FC8735159A2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DDC535-3AD3-454F-B009-E2F2C7893DB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3B17C1-5520-4909-A349-4EB6007CB70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03F-F4E2-43C5-BD2A-9AF7F276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20B-36EA-40A6-B8C3-0083C35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327-D94B-4969-AF2C-F6273C4E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311-CB18-4049-AB54-F3D76BA2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18A-8E4A-425E-965E-B86C5A17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9A4-6DDA-4114-9275-782AB072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9B2-0490-4476-B267-FB83A2AA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68E-E31E-4274-BD9B-24DA341F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29B-9A71-4493-BF59-90A5BB75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A1B-120F-472C-BE63-0D4780E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8F3-53CF-4FCE-973C-78C0D45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7D4-E105-4F13-865A-58D66BB4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604-0989-460D-90A3-8795B9292C4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FA14-4405-4C63-A4DB-9309FBF9B1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Chapitre 3 :Algèbre de Bo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9640" y="3500280"/>
            <a:ext cx="770436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 des variables et fonctions 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opérateurs de base et les portes logiqu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lois fondamentales de l’algèbre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FF1-E8C0-4A8A-9BA8-AEB18C2AFC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 Opérateurs logiques de base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4.1 NON ( nég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 est un opérateur unaire ( une seule variable) qui à pour rôle d’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invers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valeur d’une variabl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(A)=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 lire :  A barr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2195640" y="464652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48420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419640" y="4005360"/>
          <a:ext cx="2232000" cy="2562120"/>
        </p:xfrm>
        <a:graphic>
          <a:graphicData uri="http://schemas.openxmlformats.org/drawingml/2006/table">
            <a:tbl>
              <a:tblPr/>
              <a:tblGrid>
                <a:gridCol w="1068120"/>
                <a:gridCol w="11638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1"/>
          <p:cNvGrpSpPr/>
          <p:nvPr/>
        </p:nvGrpSpPr>
        <p:grpSpPr>
          <a:xfrm>
            <a:off x="5942520" y="2781360"/>
            <a:ext cx="400320" cy="459720"/>
            <a:chOff x="5942520" y="2781360"/>
            <a:chExt cx="400320" cy="459720"/>
          </a:xfrm>
        </p:grpSpPr>
        <p:sp>
          <p:nvSpPr>
            <p:cNvPr id="97" name="Text Box 49"/>
            <p:cNvSpPr/>
            <p:nvPr/>
          </p:nvSpPr>
          <p:spPr>
            <a:xfrm>
              <a:off x="5942520" y="278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0"/>
            <p:cNvSpPr/>
            <p:nvPr/>
          </p:nvSpPr>
          <p:spPr>
            <a:xfrm>
              <a:off x="5960880" y="2833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E36-6C72-4604-BF8C-0FEEF0D2EC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  ( AND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7775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un opérateur binaire ( deux variables) , à pour rôle de réaliser 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oduit logiqu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variables booléen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ait la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conjonc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deux variables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ET est défini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F(A,B)= 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484200" cy="30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743040" cy="26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4360" y="3716280"/>
          <a:ext cx="4038480" cy="240840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34E6-32A2-4CDE-83D1-31338603CA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 ( 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un opérateur binaire ( deux variables) ,  à pour rôle de réaliser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somme  logiqu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variables log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OU fait la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disjonc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e deux variables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U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 défini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A,B)= 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      (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e faut pas confondre avec la somme arithmé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742680" cy="26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971640" y="3645000"/>
          <a:ext cx="3887640" cy="28083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+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E12D-47B5-421D-832C-4FF969C019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Remarque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a définition des opérateurs ET , OU , nous avons juste donner la définition de base avec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variable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pérateur ET peut réaliser le produit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lusieurs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 ( ex :  A . B . C . D  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pérateur OU peut aussi réaliser la somme logiqu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lusieurs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s  ( ex : A + B + C +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une expression on peut aussi utiliser l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arenthè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917-1296-4EF2-9F96-2BA9D33026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récédence des opérateurs ( priorité des opérateur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2310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évaluer une expression logique ( fonction logique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commence par évaluer les sous expressions entre l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arenthès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is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comp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NON )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suite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dui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ogique ( 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in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om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ogique ( 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mple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900000" y="3141720"/>
                <a:ext cx="482436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on veut calculer 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lors 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8"/>
          <p:cNvSpPr/>
          <p:nvPr/>
        </p:nvSpPr>
        <p:spPr>
          <a:xfrm>
            <a:off x="254520" y="5877000"/>
            <a:ext cx="739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ercic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ver la table de vérité de la fonction précédente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A6DD-5C27-4F01-BE25-4DC72D0981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540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0920" y="1962000"/>
                <a:ext cx="3979800" cy="444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5292720" y="1989000"/>
          <a:ext cx="3095640" cy="4408560"/>
        </p:xfrm>
        <a:graphic>
          <a:graphicData uri="http://schemas.openxmlformats.org/drawingml/2006/table">
            <a:tbl>
              <a:tblPr/>
              <a:tblGrid>
                <a:gridCol w="615960"/>
                <a:gridCol w="696960"/>
                <a:gridCol w="531720"/>
                <a:gridCol w="263520"/>
                <a:gridCol w="9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71"/>
          <p:cNvSpPr/>
          <p:nvPr/>
        </p:nvSpPr>
        <p:spPr>
          <a:xfrm>
            <a:off x="179280" y="620640"/>
            <a:ext cx="81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trouver la table de vérité , il faut trouver la valeur de la fonction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binaisons des trois variables A, B 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variabl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8 combinaisons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08E-0BA5-41A9-A7C6-BB8FD38B23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5 Lois fondamentales de l’Algèbre de B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280" y="1484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pérateur 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971640" y="2349360"/>
                <a:ext cx="374472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624B-AA98-48D5-AD28-E7BB942F5E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765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pérateur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468360" y="2146320"/>
                <a:ext cx="7488360" cy="27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Associ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Commut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Idempotenc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Elément neutr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Elément absorb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1D8C-E00E-4E10-87A1-5ECBF244E9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0920" y="62064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pérateur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468360" y="2060640"/>
                <a:ext cx="84247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Associ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Commutativité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Idempoten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Elément neutr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Elément absorb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8FF-3A04-4F31-B32A-BA802927AC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26160" y="333360"/>
            <a:ext cx="24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istribu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79280" y="1413000"/>
                <a:ext cx="8604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istributivité du ET sur le OU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Distributivité du OU sur le E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826920" y="3645000"/>
                <a:ext cx="4392720" cy="26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16"/>
          <p:cNvSpPr/>
          <p:nvPr/>
        </p:nvSpPr>
        <p:spPr>
          <a:xfrm>
            <a:off x="250920" y="2852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utres  relations u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7EFD-6090-4324-A0D6-32E7D5BAF9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Introduc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achines numériques sont constituées d’un ensembl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ircui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électro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que circuit fournit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nction log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ien déterminée ( addition,  comparaison ,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395280" y="544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nction F(A,B) peut être : la somme de A et B , ou le résultat de la comparaison de A et B ou une autre fo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1298520" y="3500280"/>
            <a:ext cx="6043680" cy="1657440"/>
            <a:chOff x="1298520" y="3500280"/>
            <a:chExt cx="6043680" cy="1657440"/>
          </a:xfrm>
        </p:grpSpPr>
        <p:sp>
          <p:nvSpPr>
            <p:cNvPr id="56" name="Rectangle 5"/>
            <p:cNvSpPr/>
            <p:nvPr/>
          </p:nvSpPr>
          <p:spPr>
            <a:xfrm>
              <a:off x="3355920" y="3500280"/>
              <a:ext cx="2284560" cy="165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1944720" y="39337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1944720" y="465300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5640480" y="43657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332000" y="3716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6012000" y="3860640"/>
              <a:ext cx="13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(A,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1298520" y="45086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B87-4DE0-415F-ABCF-41415E3953F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ualité de l’algèbre de Bo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 expression logique rest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vrai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i on remplace le ET par le OU , le OU par le ET , le 1 par 0 , le 0 pa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1403280" y="3618000"/>
                <a:ext cx="59054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930B-06CE-4A17-990B-204BF0A0F8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6. Théorème de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DE-MORG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3789360"/>
            <a:ext cx="8281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odu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imen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 deux variables est égale au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som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é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deux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9280" y="1341360"/>
            <a:ext cx="792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som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imenté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deux variables est égale au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odu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mplém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deux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1"/>
          <p:cNvGrpSpPr/>
          <p:nvPr/>
        </p:nvGrpSpPr>
        <p:grpSpPr>
          <a:xfrm>
            <a:off x="4419720" y="2181240"/>
            <a:ext cx="360" cy="791280"/>
            <a:chOff x="4419720" y="2181240"/>
            <a:chExt cx="360" cy="791280"/>
          </a:xfrm>
        </p:grpSpPr>
        <p:pic>
          <p:nvPicPr>
            <p:cNvPr id="147" name="Picture 4" descr=""/>
            <p:cNvPicPr/>
            <p:nvPr/>
          </p:nvPicPr>
          <p:blipFill>
            <a:blip r:embed="rId1"/>
            <a:stretch/>
          </p:blipFill>
          <p:spPr>
            <a:xfrm>
              <a:off x="4419720" y="2181240"/>
              <a:ext cx="36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2"/>
            <a:stretch/>
          </p:blipFill>
          <p:spPr>
            <a:xfrm>
              <a:off x="4419720" y="2181240"/>
              <a:ext cx="360" cy="7912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1835280" y="2708280"/>
                <a:ext cx="3600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4"/>
              <p:cNvSpPr txBox="1"/>
              <p:nvPr/>
            </p:nvSpPr>
            <p:spPr>
              <a:xfrm>
                <a:off x="2195640" y="5589720"/>
                <a:ext cx="3600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3D2-6D37-4E26-B806-31D74386F0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6.1 Généralisation du Théorème DE-MORGAN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à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 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variable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539640" y="2924280"/>
                <a:ext cx="7848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DC6-933B-47E1-9AC0-782CC0B9420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 Autres opérateur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logiqu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1 OU exclusif ( X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4"/>
          <p:cNvGraphicFramePr/>
          <p:nvPr/>
        </p:nvGraphicFramePr>
        <p:xfrm>
          <a:off x="4643280" y="2421000"/>
          <a:ext cx="30974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421000"/>
                    <a:ext cx="30974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395280" y="2205000"/>
                <a:ext cx="2952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250920" y="3141720"/>
                <a:ext cx="3281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932-E102-4F4C-9E16-7382FDB5F58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2 NAND ( NON ET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0"/>
          <p:cNvGraphicFramePr/>
          <p:nvPr/>
        </p:nvGraphicFramePr>
        <p:xfrm>
          <a:off x="4643280" y="2060640"/>
          <a:ext cx="32274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32274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23"/>
              <p:cNvSpPr txBox="1"/>
              <p:nvPr/>
            </p:nvSpPr>
            <p:spPr>
              <a:xfrm>
                <a:off x="270000" y="2247840"/>
                <a:ext cx="2862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E378-0E9F-4DFB-8E49-D2D4D6F33D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 ( NON  OU 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1"/>
          <p:cNvGraphicFramePr/>
          <p:nvPr/>
        </p:nvGraphicFramePr>
        <p:xfrm>
          <a:off x="4716360" y="2133720"/>
          <a:ext cx="3457800" cy="36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133720"/>
                    <a:ext cx="345780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395280" y="2225520"/>
                <a:ext cx="289872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C02-AF36-413A-B654-3032492659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4 NAND et NOR  sont des opérateurs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univer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es NAND et les NOR  on peut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exprim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n’importe qu’el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express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 fonction ) log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ela , Il suffit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d’exprimer les opérateurs de bas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 NON , ET , OU ) avec des NAND et des 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722-1F98-4C5E-9EC7-9E1CB16ED27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4.1 Réalisation des opérateurs de base avec des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4"/>
              <p:cNvSpPr txBox="1"/>
              <p:nvPr/>
            </p:nvSpPr>
            <p:spPr>
              <a:xfrm>
                <a:off x="250920" y="2522520"/>
                <a:ext cx="82818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↓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↓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↓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↓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69F-A57A-4E04-AC82-562BAB8235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erc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primer le NON , ET , OU en utilisant des NAN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F38-5258-4A5C-9EC1-47798CC258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7.4.3 Propriétés des opérateurs NAND et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4716360" y="2052720"/>
                <a:ext cx="4103640" cy="24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↓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↓</m:t>
                        </m:r>
                        <m:r>
                          <m:t xml:space="preserve">C</m:t>
                        </m:r>
                        <m:r>
                          <m:t xml:space="preserve">≠</m:t>
                        </m:r>
                        <m:r>
                          <m:t xml:space="preserve">A</m:t>
                        </m:r>
                        <m:r>
                          <m:t xml:space="preserve">↓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↓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0"/>
              <p:cNvSpPr txBox="1"/>
              <p:nvPr/>
            </p:nvSpPr>
            <p:spPr>
              <a:xfrm>
                <a:off x="378000" y="2162160"/>
                <a:ext cx="406872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↑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  <m:r>
                          <m:t xml:space="preserve">≠</m:t>
                        </m:r>
                        <m:r>
                          <m:t xml:space="preserve">A</m:t>
                        </m:r>
                        <m:r>
                          <m:t xml:space="preserve">↑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↑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Line 23"/>
          <p:cNvSpPr/>
          <p:nvPr/>
        </p:nvSpPr>
        <p:spPr>
          <a:xfrm>
            <a:off x="4500720" y="1773360"/>
            <a:ext cx="0" cy="36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7CF0-5A37-48D6-9B52-1C440C3C12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concevoir et réalis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e circuit on doit avoir  un modè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mathématique de la fon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réalisée par ce circui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modèle doit prendre en considération 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système binai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odèle mathématique utilisé est celui d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Boo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3B0-964A-4E9E-BCBA-8F81A75B346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8. Portes logiqu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36"/>
          <p:cNvGraphicFramePr/>
          <p:nvPr/>
        </p:nvGraphicFramePr>
        <p:xfrm>
          <a:off x="5003640" y="4707000"/>
          <a:ext cx="3816360" cy="14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707000"/>
                    <a:ext cx="381636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3"/>
          <p:cNvGraphicFramePr/>
          <p:nvPr/>
        </p:nvGraphicFramePr>
        <p:xfrm>
          <a:off x="2238480" y="2421000"/>
          <a:ext cx="380196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421000"/>
                    <a:ext cx="380196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9"/>
          <p:cNvSpPr/>
          <p:nvPr/>
        </p:nvSpPr>
        <p:spPr>
          <a:xfrm>
            <a:off x="308160" y="1143000"/>
            <a:ext cx="87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orte logique est un circuit électronique élémentaire q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 de réaliser la fonction d’u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pérateur  logique de b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42"/>
          <p:cNvGraphicFramePr/>
          <p:nvPr/>
        </p:nvGraphicFramePr>
        <p:xfrm>
          <a:off x="0" y="4869000"/>
          <a:ext cx="482436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69000"/>
                    <a:ext cx="482436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4BF9-15D5-4138-9D1E-408E84EDCA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0" y="486900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ar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ortes ET , OU , NAND , NOR peuvent avoir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 deux ent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’existe pa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OU exclusif à plus de deux ent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0"/>
          <p:cNvGraphicFramePr/>
          <p:nvPr/>
        </p:nvGraphicFramePr>
        <p:xfrm>
          <a:off x="4932360" y="717480"/>
          <a:ext cx="360036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717480"/>
                    <a:ext cx="360036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22"/>
          <p:cNvGraphicFramePr/>
          <p:nvPr/>
        </p:nvGraphicFramePr>
        <p:xfrm>
          <a:off x="611280" y="687240"/>
          <a:ext cx="367344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687240"/>
                    <a:ext cx="3673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25"/>
          <p:cNvGraphicFramePr/>
          <p:nvPr/>
        </p:nvGraphicFramePr>
        <p:xfrm>
          <a:off x="2627280" y="3000240"/>
          <a:ext cx="3456000" cy="14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000240"/>
                    <a:ext cx="34560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F7D4-B6E4-4558-933A-268764CB3C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3573360"/>
            <a:ext cx="2530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324000" y="4314960"/>
                <a:ext cx="28080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6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8.1 Schéma d’un circuit logique ( Logigram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38320" y="1316160"/>
            <a:ext cx="832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la traduction de la fonction logique en un schéma électro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incipe consiste à remplacer cha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érateur 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lui cor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3635280" y="2997360"/>
          <a:ext cx="5184720" cy="31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997360"/>
                    <a:ext cx="518472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0277-7041-4921-81A6-159B98BADA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1"/>
              <p:cNvSpPr txBox="1"/>
              <p:nvPr/>
            </p:nvSpPr>
            <p:spPr>
              <a:xfrm>
                <a:off x="468360" y="1554120"/>
                <a:ext cx="6162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,D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 </m:t>
                            </m: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D 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0" name="Rectangle 15"/>
          <p:cNvSpPr/>
          <p:nvPr/>
        </p:nvSpPr>
        <p:spPr>
          <a:xfrm>
            <a:off x="250920" y="692280"/>
            <a:ext cx="2530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2"/>
          <p:cNvGraphicFramePr/>
          <p:nvPr/>
        </p:nvGraphicFramePr>
        <p:xfrm>
          <a:off x="900000" y="2876400"/>
          <a:ext cx="70567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76400"/>
                    <a:ext cx="70567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B2AB-F928-4F46-8FD2-1ACD05B4D1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rcice 1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9152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r le logigramme des fonctions suivant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39640" y="2205000"/>
                <a:ext cx="6048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7EA8-5FE9-46A9-8428-355D770D97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rcice 2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onner l’équation de F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67"/>
          <p:cNvGraphicFramePr/>
          <p:nvPr/>
        </p:nvGraphicFramePr>
        <p:xfrm>
          <a:off x="0" y="1844640"/>
          <a:ext cx="889308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8893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235-73E4-4589-A746-830EB826AC1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30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finition textuelle d’une fonction logique  , table de vérité , formes algébriques , simplification algébrique, table de Karna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7F2C-F1C1-449A-971A-A093A70994E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. Définition textuelle d’une fonction 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lement la définition du fonctionnement d’un système est donnée sous u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at textuel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fair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l’étude et la réalis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’un tel système on doit avoir so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modèle mathématiqu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fonction logiqu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il fau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irer ( déduire 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nction log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scription textu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BB0-753B-4E13-95EE-A9CCAACFD2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: définition textuelle du fonctionnement d’un syst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97800" cy="269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serrure de sécurité s’ouvre en fonctio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 trois cl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Le fonctionnement de la serrure  est définie comme suite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errure est ouverte si au moins deux  clés sont utilis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errure reste fermée dans les autres cas 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7960" y="5227560"/>
            <a:ext cx="72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er la schéma du circuit qui permet de contrô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uverture de la serru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6F4-213B-4436-AB77-0CD2639D2DE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tapes de conception et de réalisation d’un circuit numériqu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faire l’étude et la réalisation d’un circuit  il faut suivre le étape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bien comprendre le fonctionnement du systè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définir les variables d’entr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définir les variables de sor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blir la table de vé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rire les équations algébriques des sorties ( à partir de la table de vérité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ectuer des simplifications ( algébrique ou par Karnaug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le schéma avec un minimum de portes log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2D45-3E63-44C7-8702-4FD006BE3B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Algèbre de Bo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eorge Boole est un mathématicien anglais ( 1815-186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a fait des travaux dont lesquels l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nc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expressions ) sont constitués par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i peuvent prendre les valeurs ‘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OU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 ou ‘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’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travaux ont été utilisés pour faire l’étude des systèmes qui possède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états s’exclus mutuell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peut être uniquement dan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 éta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1 et E2 tel que E1 est l’opposé de E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e peut pas ê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l’état E1 et E2 e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même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travaux so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ien adap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u Systèm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inai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0 et 1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CB4-AF0E-42FD-89F9-3E84EA00F55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on reprend l’exemple de la serr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rois entré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: chaque entrée représente une c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va correspondre à chaque clé une variable logique: clé 1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 , la clé 2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B , la clé 3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clé 1 est utilisée alors la variable A=1 sinon A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clé 2 est utilisée alors la variable B=1 sinon B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 la clé 3 est utilisée alors la variable C=1 sinon C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ystème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une seule sorti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i correspond à l’état de la serrure ( ouverte ou ferm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va correspondre une variable S pour designer la sorti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=1 si la serrure est ouverte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=0 si elle est ferm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4360" y="5667480"/>
            <a:ext cx="456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27F9-8276-445F-900B-FE945F857C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=F(A,B,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A,B,C)= 1 si au mois deux clés sont introdu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(A,B,C)=0 si n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316320" y="1989000"/>
            <a:ext cx="228456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1905120" y="227664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905120" y="32860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5600880" y="285444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292400" y="2060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972040" y="234936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=F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258920" y="2565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1906560" y="27813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258920" y="3032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384840" y="4724280"/>
            <a:ext cx="835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mar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est important de préciser aussi le niveau logique avec lequel on trav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 logique positive ou négative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90F-218F-4331-B77D-E2E14DCD3DB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Table de vérité  ( Rappel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une fonction logique possèd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N variab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ogique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ombinaison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a fonction possèd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8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valeu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ombinaisons sont représentées dans une table qui s’appell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table de vér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AA61-F1F2-45E1-AE19-5BD831451B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 Table de vérité ( Exempl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600200"/>
          <a:ext cx="4033800" cy="4525920"/>
        </p:xfrm>
        <a:graphic>
          <a:graphicData uri="http://schemas.openxmlformats.org/drawingml/2006/table">
            <a:tbl>
              <a:tblPr/>
              <a:tblGrid>
                <a:gridCol w="800280"/>
                <a:gridCol w="803160"/>
                <a:gridCol w="801720"/>
                <a:gridCol w="342720"/>
                <a:gridCol w="12859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Line 305"/>
          <p:cNvSpPr/>
          <p:nvPr/>
        </p:nvSpPr>
        <p:spPr>
          <a:xfrm>
            <a:off x="4500720" y="3933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7"/>
          <p:cNvSpPr/>
          <p:nvPr/>
        </p:nvSpPr>
        <p:spPr>
          <a:xfrm>
            <a:off x="543564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4"/>
          <p:cNvSpPr/>
          <p:nvPr/>
        </p:nvSpPr>
        <p:spPr>
          <a:xfrm>
            <a:off x="450072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344"/>
              <p:cNvSpPr txBox="1"/>
              <p:nvPr/>
            </p:nvSpPr>
            <p:spPr>
              <a:xfrm>
                <a:off x="5259240" y="2133720"/>
                <a:ext cx="302112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 :  max term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:  max term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 :  max terme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     :  min terme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 :  max ter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     :  min ter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:  min ter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      :  min ter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346"/>
          <p:cNvSpPr/>
          <p:nvPr/>
        </p:nvSpPr>
        <p:spPr>
          <a:xfrm>
            <a:off x="450072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47"/>
          <p:cNvSpPr/>
          <p:nvPr/>
        </p:nvSpPr>
        <p:spPr>
          <a:xfrm>
            <a:off x="450072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48"/>
          <p:cNvSpPr/>
          <p:nvPr/>
        </p:nvSpPr>
        <p:spPr>
          <a:xfrm>
            <a:off x="450072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49"/>
          <p:cNvSpPr/>
          <p:nvPr/>
        </p:nvSpPr>
        <p:spPr>
          <a:xfrm>
            <a:off x="450072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50"/>
          <p:cNvSpPr/>
          <p:nvPr/>
        </p:nvSpPr>
        <p:spPr>
          <a:xfrm>
            <a:off x="450072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51"/>
          <p:cNvSpPr/>
          <p:nvPr/>
        </p:nvSpPr>
        <p:spPr>
          <a:xfrm>
            <a:off x="4500720" y="595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E06-3A98-48DE-901E-23F96B5572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 Extraction de la fonction logique à partir de la T.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339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 = somme min ter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179280" y="5013360"/>
                <a:ext cx="853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0"/>
              <p:cNvSpPr txBox="1"/>
              <p:nvPr/>
            </p:nvSpPr>
            <p:spPr>
              <a:xfrm>
                <a:off x="322200" y="2565360"/>
                <a:ext cx="8713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21"/>
          <p:cNvSpPr/>
          <p:nvPr/>
        </p:nvSpPr>
        <p:spPr>
          <a:xfrm>
            <a:off x="612360" y="3952800"/>
            <a:ext cx="48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 = produit des max ter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A0A-ABF0-4D2B-8F43-4315C29BC83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 Forme canonique d’une fonction 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15328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appel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’une fonction la forme ou chaqu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er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a fonction comportent 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outes le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6"/>
              <p:cNvSpPr txBox="1"/>
              <p:nvPr/>
            </p:nvSpPr>
            <p:spPr>
              <a:xfrm>
                <a:off x="826920" y="3933720"/>
                <a:ext cx="648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 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8"/>
          <p:cNvSpPr/>
          <p:nvPr/>
        </p:nvSpPr>
        <p:spPr>
          <a:xfrm>
            <a:off x="905760" y="5451480"/>
            <a:ext cx="79880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nt plusieurs formes canoniques : les plus utilisé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t la première et la deuxième for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C051-4E27-41B5-A4AD-E7121B3392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1  Première forme canon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emièr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forme disjonctive) :  somme de produ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’est la somme des min te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disjonction de conjo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9"/>
              <p:cNvSpPr txBox="1"/>
              <p:nvPr/>
            </p:nvSpPr>
            <p:spPr>
              <a:xfrm>
                <a:off x="684360" y="4471920"/>
                <a:ext cx="77803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20"/>
          <p:cNvSpPr/>
          <p:nvPr/>
        </p:nvSpPr>
        <p:spPr>
          <a:xfrm>
            <a:off x="540360" y="5622840"/>
            <a:ext cx="652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tte forme est la form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la plus utilisée</a:t>
            </a: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64CE-1868-4859-8226-A6A54F16D9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2 Deuxième forme cano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ièm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conjonctive): produit de so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oduit des max t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jonction de disjo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250920" y="5373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emière et la deuxiè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rme canonique so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quivalen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5"/>
              <p:cNvSpPr txBox="1"/>
              <p:nvPr/>
            </p:nvSpPr>
            <p:spPr>
              <a:xfrm>
                <a:off x="468360" y="4076640"/>
                <a:ext cx="74721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6EE-8ADD-4FC6-A278-B788A9ECBD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marque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toujour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amener n’impor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qu’elle fonction logique à l’une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es canon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a revient à rajouter les variables manquants dans les termes qui 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ontienn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s toutes les variables ( les termes non canoniques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a est possible en utilisant les règles de l’algèbre de Boo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ultiplier un terme avec une expression qui vaut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ditionner à un terme avec une expression qui vaut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la  suite faire l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4C18-8587-41CA-A65E-4957326E66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1"/>
              <p:cNvSpPr txBox="1"/>
              <p:nvPr/>
            </p:nvSpPr>
            <p:spPr>
              <a:xfrm>
                <a:off x="611280" y="1197000"/>
                <a:ext cx="7416720" cy="522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B</m:t>
                        </m:r>
                      </m:e>
                      <m:e/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B 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943-015D-4B01-AFE5-F7C8AF56754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de systèmes à deux éta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interrupteur est ouvert ou non ouvert  ( ferm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lampe est allumée ou non allumée ( étein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orte est ouverte ou non ouverte ( fermé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marque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utiliser les convention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I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VRAI    ( tr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FAUX  (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I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1         ( Niveau Haut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N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0         ( Niveau Ba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8FB0-2247-4D4E-AFA6-5BEBD562D78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marqu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3104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 une autre représentation des formes canoniques d’une fonction , cette représentation est appelé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forme numér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 : pour indiquer la forme disjo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 : pour indiquer la forme conjo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6"/>
              <p:cNvSpPr txBox="1"/>
              <p:nvPr/>
            </p:nvSpPr>
            <p:spPr>
              <a:xfrm>
                <a:off x="0" y="4221000"/>
                <a:ext cx="921708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2,4,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4,6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010,100,1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,3,5,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0,1,3,5,7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00,001,011,101,11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Text Box 18"/>
          <p:cNvSpPr/>
          <p:nvPr/>
        </p:nvSpPr>
        <p:spPr>
          <a:xfrm>
            <a:off x="162720" y="344808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empl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i on prend une fonction avec 3 variab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D6C-FEA9-4AEA-A6A8-FEBF42273B6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marque 3 : déterminer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95280" y="1125360"/>
          <a:ext cx="4033800" cy="45262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8040"/>
                <a:gridCol w="260280"/>
                <a:gridCol w="974880"/>
                <a:gridCol w="9745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Text Box 67"/>
          <p:cNvSpPr/>
          <p:nvPr/>
        </p:nvSpPr>
        <p:spPr>
          <a:xfrm>
            <a:off x="49849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5"/>
          <p:cNvSpPr/>
          <p:nvPr/>
        </p:nvSpPr>
        <p:spPr>
          <a:xfrm>
            <a:off x="5580000" y="40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76"/>
              <p:cNvSpPr txBox="1"/>
              <p:nvPr/>
            </p:nvSpPr>
            <p:spPr>
              <a:xfrm>
                <a:off x="971640" y="5950080"/>
                <a:ext cx="6913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3" name="Group 179"/>
          <p:cNvGrpSpPr/>
          <p:nvPr/>
        </p:nvGrpSpPr>
        <p:grpSpPr>
          <a:xfrm>
            <a:off x="3709800" y="1197000"/>
            <a:ext cx="320760" cy="368280"/>
            <a:chOff x="3709800" y="1197000"/>
            <a:chExt cx="320760" cy="368280"/>
          </a:xfrm>
        </p:grpSpPr>
        <p:sp>
          <p:nvSpPr>
            <p:cNvPr id="304" name="Line 160"/>
            <p:cNvSpPr/>
            <p:nvPr/>
          </p:nvSpPr>
          <p:spPr>
            <a:xfrm>
              <a:off x="3727440" y="1249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78"/>
            <p:cNvSpPr/>
            <p:nvPr/>
          </p:nvSpPr>
          <p:spPr>
            <a:xfrm>
              <a:off x="3709800" y="1197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C68F-C039-498A-8A72-97879F9A507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 1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425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terminer la première , la deuxième forme canonique et la fonction inverse à partir de la TV suivante ? Tracer le logigramme de la fon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547640" y="2708280"/>
          <a:ext cx="4038840" cy="259092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E0D-6DD9-4B3E-9DC6-3297BAF62C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6438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le même travail avec la T.V suivan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916360" y="2205000"/>
          <a:ext cx="3267000" cy="4019760"/>
        </p:xfrm>
        <a:graphic>
          <a:graphicData uri="http://schemas.openxmlformats.org/drawingml/2006/table">
            <a:tbl>
              <a:tblPr/>
              <a:tblGrid>
                <a:gridCol w="649080"/>
                <a:gridCol w="649440"/>
                <a:gridCol w="649080"/>
                <a:gridCol w="277920"/>
                <a:gridCol w="10414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11D9-0992-48FE-AA41-877CB46D16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3520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 jury composé de 4 membres pose une question à un joueur, qui à son tour donne une réponse. Chaque membre du jury positionne son  interrupteur à " 1 " lorsqu'il estime que la réponse donnée par le joueur est juste (avis favorable ) et à " 0 " dans le cas contraire (avis défavorable ). On traite la réponse de telle façon à positionne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e variable succès (S=1) lorsque la décision de la majorité des membres de jury est favor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e variable Échec (E=1) lorsque la décision de la majorité des membres de jury est défavo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t une variable Égalité (N=1) lorsqu’il y a autant d'avis favorables que d'avis défavor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Ques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.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Déduire une table de vérité pour le problè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.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Donner les équations de S,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.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En déduire l’équation de 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EC8-9B55-406F-AB05-F20D0971BCB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Simplification des fonctions log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482C-08BD-4552-AE57-2A191D04FE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 Simplification des fonctions lo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bjectif de la simplification des fonctions logiques est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uire 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mbre de ter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une fo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 de réduire 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mbre de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un 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a afin de  réduire le nombr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orte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utilisé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éduire le coût du circu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ieurs méthodes existent pour la simplification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algéb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éthodes graphiques : ( ex : table de karnaug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méthodes programm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C04-9E2B-48A3-A312-344227862A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Méthode algébriqu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351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principe consiste à appliquer les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règ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’algèbre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oo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fin d’éliminer des variables ou des ter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s il n’y a pas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émarche bien spécif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ici quelques règles les plus utilisé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1332000" y="3141720"/>
                <a:ext cx="367164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4D1-6B33-4B1C-A0B1-A5B60AD645E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5.1 Règles de simplificati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153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ègles 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regrouper des termes à l’aide des règles précéd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611280" y="3284640"/>
                <a:ext cx="799308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767-14AF-4B55-813E-1EB97A6F09F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ègles 2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ajouter un terme déjà existant à une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2"/>
              <p:cNvSpPr txBox="1"/>
              <p:nvPr/>
            </p:nvSpPr>
            <p:spPr>
              <a:xfrm>
                <a:off x="324000" y="2708280"/>
                <a:ext cx="806436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A B 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ABC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C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C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B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AC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AB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825B-81F8-4D4D-9F06-72D0F7E60E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éfinitions et con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559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1.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Niveau logiqu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rsque on fait l’étude d’un système logique il faut bien préciser le niveau du trav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55640" y="4149720"/>
            <a:ext cx="7777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gique positiv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allumée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éteinte 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gique né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allumée  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mpe éteinte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85680" y="2809800"/>
          <a:ext cx="7010640" cy="1330560"/>
        </p:xfrm>
        <a:graphic>
          <a:graphicData uri="http://schemas.openxmlformats.org/drawingml/2006/table">
            <a:tbl>
              <a:tblPr/>
              <a:tblGrid>
                <a:gridCol w="2337120"/>
                <a:gridCol w="2336760"/>
                <a:gridCol w="233676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ve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ique 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ique nég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( Hight ) ha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 ( Low )    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3BE-3AB6-475F-94E8-216B4E6EAE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Règles 3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possible de supprimer un terme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superfl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 un terme en plus ), c’est-à-dire déjà inclus dans la réunion des autres te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1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2"/>
              <p:cNvSpPr txBox="1"/>
              <p:nvPr/>
            </p:nvSpPr>
            <p:spPr>
              <a:xfrm>
                <a:off x="324000" y="3284640"/>
                <a:ext cx="83534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 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C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B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ECBD-1214-4729-B35E-E8859D88DD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mple 2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 aussi la forme conjonctive du terme superf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24000" y="1628640"/>
                <a:ext cx="799128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0BAA-2538-431E-858F-1DE837891C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79200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Règles 4 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st préférable de simplifier la forme canonique ayant le nombre de termes min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0"/>
              <p:cNvSpPr txBox="1"/>
              <p:nvPr/>
            </p:nvSpPr>
            <p:spPr>
              <a:xfrm>
                <a:off x="826920" y="2852640"/>
                <a:ext cx="633744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2,3,4,5,6,7</m:t>
                        </m:r>
                        <m:r>
                          <m:t xml:space="preserve">)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,B,C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ba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,B,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,B,C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7DBB-4195-4310-841C-265A49235D4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rcice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395280" y="4581360"/>
                <a:ext cx="7373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Text Box 6"/>
          <p:cNvSpPr/>
          <p:nvPr/>
        </p:nvSpPr>
        <p:spPr>
          <a:xfrm>
            <a:off x="250920" y="1628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ontrer la  proposition suivan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50920" y="3573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er la forme simplifiée de la fonction suivan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3"/>
              <p:cNvSpPr txBox="1"/>
              <p:nvPr/>
            </p:nvSpPr>
            <p:spPr>
              <a:xfrm>
                <a:off x="395280" y="2563920"/>
                <a:ext cx="7921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B88-7BF5-4989-A54D-3547F1C2AC3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054800" y="2046240"/>
            <a:ext cx="638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6. Simplification par l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Karna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AEB-EC42-4B6F-B907-775FA255C8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1. Les termes adjac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763640" y="1989000"/>
                <a:ext cx="3389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2" name="Text Box 4"/>
          <p:cNvSpPr/>
          <p:nvPr/>
        </p:nvSpPr>
        <p:spPr>
          <a:xfrm>
            <a:off x="395280" y="270828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eux termes possèdent les même variables. La seule différence est l’état de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variable B qui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on applique les règles de simplification on obti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468360" y="5661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termes sont 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ites adjacen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9"/>
              <p:cNvSpPr txBox="1"/>
              <p:nvPr/>
            </p:nvSpPr>
            <p:spPr>
              <a:xfrm>
                <a:off x="1258920" y="4508640"/>
                <a:ext cx="53150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2"/>
          <p:cNvSpPr/>
          <p:nvPr/>
        </p:nvSpPr>
        <p:spPr>
          <a:xfrm>
            <a:off x="617760" y="1413000"/>
            <a:ext cx="48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aminons l’expression suivan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9AE-5850-4A44-9A4C-1809065BBA0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de termes adjacent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4"/>
              <p:cNvSpPr txBox="1"/>
              <p:nvPr/>
            </p:nvSpPr>
            <p:spPr>
              <a:xfrm>
                <a:off x="826920" y="1413000"/>
                <a:ext cx="5832720" cy="43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es termes sont adjacents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B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 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D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s termes ne sont pas adjacents 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E8E-3204-464E-9891-B4BE2F7349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24000" y="1628640"/>
            <a:ext cx="8496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de Karnaugh se base sur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ègle précéden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consiste a mettre en évidence  par une métho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graph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un tableaux ) tous les termes qui sont adjacents (qui ne différent que par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l’état d’une seule variable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éthode peut s’appliquer aux fonctions logiques 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,3,4,5 et 6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tableau de Karnaugh comporten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ca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N est le nombre de variables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6.1 Description de la table de karnaugh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9DF-9821-44BA-904E-698FE36FB3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53880" y="1893960"/>
          <a:ext cx="234648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57"/>
          <p:cNvSpPr/>
          <p:nvPr/>
        </p:nvSpPr>
        <p:spPr>
          <a:xfrm>
            <a:off x="595440" y="183816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282600" y="2181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765680" y="189396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084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94"/>
          <p:cNvSpPr/>
          <p:nvPr/>
        </p:nvSpPr>
        <p:spPr>
          <a:xfrm>
            <a:off x="5006880" y="1838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5"/>
          <p:cNvSpPr/>
          <p:nvPr/>
        </p:nvSpPr>
        <p:spPr>
          <a:xfrm>
            <a:off x="4694400" y="2181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45"/>
          <p:cNvSpPr/>
          <p:nvPr/>
        </p:nvSpPr>
        <p:spPr>
          <a:xfrm>
            <a:off x="5111640" y="4653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x à 3 variab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7"/>
          <p:cNvSpPr/>
          <p:nvPr/>
        </p:nvSpPr>
        <p:spPr>
          <a:xfrm>
            <a:off x="0" y="4653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 à 2 variab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22B-627A-46A4-AB3E-3DB381E4F95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90760" y="182880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1"/>
          <p:cNvSpPr/>
          <p:nvPr/>
        </p:nvSpPr>
        <p:spPr>
          <a:xfrm>
            <a:off x="2631960" y="1773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2"/>
          <p:cNvSpPr/>
          <p:nvPr/>
        </p:nvSpPr>
        <p:spPr>
          <a:xfrm>
            <a:off x="2319480" y="2116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255600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 à 4 vari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A8D-13C9-4B37-A317-A56C4BE44C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2. Variable logique (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oléen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variable logique (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booléen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)  est une variable qui peut prendre soit la valeur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0 ou 1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lement elle est exprimée par un seul caractère alphabétique en majuscule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 A , B, S 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lampe  :  allumée     L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teinte       L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mier interrupteur    ouvert :      I1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rmé :    I1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éme interrupteur     ouvert :     I2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rmé :   I2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01B-D5CB-47A7-BC6B-FE8859EB3D9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6200" y="2189160"/>
          <a:ext cx="391032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Text Box 51"/>
          <p:cNvSpPr/>
          <p:nvPr/>
        </p:nvSpPr>
        <p:spPr>
          <a:xfrm>
            <a:off x="347760" y="213372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2"/>
          <p:cNvSpPr/>
          <p:nvPr/>
        </p:nvSpPr>
        <p:spPr>
          <a:xfrm>
            <a:off x="34920" y="247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765680" y="218916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100"/>
          <p:cNvSpPr/>
          <p:nvPr/>
        </p:nvSpPr>
        <p:spPr>
          <a:xfrm>
            <a:off x="5006880" y="21337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1"/>
          <p:cNvSpPr/>
          <p:nvPr/>
        </p:nvSpPr>
        <p:spPr>
          <a:xfrm>
            <a:off x="4694400" y="247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2"/>
          <p:cNvSpPr/>
          <p:nvPr/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bleau à 5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3"/>
          <p:cNvSpPr/>
          <p:nvPr/>
        </p:nvSpPr>
        <p:spPr>
          <a:xfrm>
            <a:off x="140328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4"/>
          <p:cNvSpPr/>
          <p:nvPr/>
        </p:nvSpPr>
        <p:spPr>
          <a:xfrm>
            <a:off x="6227640" y="6021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BC18-DC2C-4BD2-967C-F8C66B721E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1280" y="2333520"/>
          <a:ext cx="391032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Text Box 64"/>
          <p:cNvSpPr/>
          <p:nvPr/>
        </p:nvSpPr>
        <p:spPr>
          <a:xfrm>
            <a:off x="312840" y="227808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5"/>
          <p:cNvSpPr/>
          <p:nvPr/>
        </p:nvSpPr>
        <p:spPr>
          <a:xfrm>
            <a:off x="0" y="2620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8"/>
          <p:cNvSpPr/>
          <p:nvPr/>
        </p:nvSpPr>
        <p:spPr>
          <a:xfrm>
            <a:off x="1173240" y="358128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9"/>
          <p:cNvSpPr/>
          <p:nvPr/>
        </p:nvSpPr>
        <p:spPr>
          <a:xfrm flipV="1">
            <a:off x="1173240" y="3508200"/>
            <a:ext cx="1584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0"/>
          <p:cNvSpPr/>
          <p:nvPr/>
        </p:nvSpPr>
        <p:spPr>
          <a:xfrm flipV="1">
            <a:off x="1173240" y="4156200"/>
            <a:ext cx="5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1"/>
          <p:cNvSpPr/>
          <p:nvPr/>
        </p:nvSpPr>
        <p:spPr>
          <a:xfrm>
            <a:off x="254160" y="515448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trois cases bleues sont des cases adjacentes à la case rou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932360" y="240660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 Box 168"/>
          <p:cNvSpPr/>
          <p:nvPr/>
        </p:nvSpPr>
        <p:spPr>
          <a:xfrm>
            <a:off x="5173560" y="23511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9"/>
          <p:cNvSpPr/>
          <p:nvPr/>
        </p:nvSpPr>
        <p:spPr>
          <a:xfrm>
            <a:off x="4645080" y="2693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0"/>
          <p:cNvSpPr/>
          <p:nvPr/>
        </p:nvSpPr>
        <p:spPr>
          <a:xfrm>
            <a:off x="250920" y="260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un tableau de karnaugh , chaque case possède un certain nombre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cases adjacent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1F2B-ECBC-4DF0-B083-48D2FD51468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6.2 Passage de la table de vérité à la table de Karnaugh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8"/>
          <p:cNvSpPr/>
          <p:nvPr/>
        </p:nvSpPr>
        <p:spPr>
          <a:xfrm>
            <a:off x="3240" y="1700280"/>
            <a:ext cx="84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combinaisons qui représente u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min ter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respond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a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 tableau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qui doit être mise à 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combinaisons qui représente un max terme 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respond un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ans le tableau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qui doit être mise à 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rsque on remplis le tableau , on doit soit prendre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 terme ou les max te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2D19-3B8F-43D5-AEAD-B8A4CECA884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79280" y="1557360"/>
          <a:ext cx="2808360" cy="4465440"/>
        </p:xfrm>
        <a:graphic>
          <a:graphicData uri="http://schemas.openxmlformats.org/drawingml/2006/table">
            <a:tbl>
              <a:tblPr/>
              <a:tblGrid>
                <a:gridCol w="557280"/>
                <a:gridCol w="558720"/>
                <a:gridCol w="557280"/>
                <a:gridCol w="239760"/>
                <a:gridCol w="895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Text Box 66"/>
          <p:cNvSpPr/>
          <p:nvPr/>
        </p:nvSpPr>
        <p:spPr>
          <a:xfrm>
            <a:off x="4510080" y="2521080"/>
            <a:ext cx="93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211640" y="227664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084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Text Box 130"/>
          <p:cNvSpPr/>
          <p:nvPr/>
        </p:nvSpPr>
        <p:spPr>
          <a:xfrm>
            <a:off x="4452840" y="22208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1"/>
          <p:cNvSpPr/>
          <p:nvPr/>
        </p:nvSpPr>
        <p:spPr>
          <a:xfrm>
            <a:off x="4140360" y="2563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32"/>
          <p:cNvSpPr/>
          <p:nvPr/>
        </p:nvSpPr>
        <p:spPr>
          <a:xfrm>
            <a:off x="2700360" y="3933720"/>
            <a:ext cx="316692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34"/>
          <p:cNvSpPr/>
          <p:nvPr/>
        </p:nvSpPr>
        <p:spPr>
          <a:xfrm flipV="1">
            <a:off x="2771640" y="4149720"/>
            <a:ext cx="4824720" cy="71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5"/>
          <p:cNvSpPr/>
          <p:nvPr/>
        </p:nvSpPr>
        <p:spPr>
          <a:xfrm flipV="1">
            <a:off x="2843280" y="3428640"/>
            <a:ext cx="403380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6"/>
          <p:cNvSpPr/>
          <p:nvPr/>
        </p:nvSpPr>
        <p:spPr>
          <a:xfrm flipV="1">
            <a:off x="2700360" y="4005360"/>
            <a:ext cx="4176720" cy="180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7"/>
          <p:cNvSpPr/>
          <p:nvPr/>
        </p:nvSpPr>
        <p:spPr>
          <a:xfrm>
            <a:off x="810360" y="281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F1C3-58EF-4380-A296-DC862F8F34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.3 Passage de la forme canonique à la table de Karna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fonction logique est donnée sous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premièr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disjonctive), alors sa représentation est directe : pour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haque ter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ui correspond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une seule case qui doit être mise à 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fonction logique est donnée sous la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euxième forme canon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 conjonctive), alors sa représentation est directe : pour chaque terme lui correspond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une seule case qui doit être mise à 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D1A5-AB30-4484-90CB-B9FF89163E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68360" y="1484280"/>
                <a:ext cx="3543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2,5,7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9"/>
              <p:cNvSpPr txBox="1"/>
              <p:nvPr/>
            </p:nvSpPr>
            <p:spPr>
              <a:xfrm>
                <a:off x="250920" y="4581360"/>
                <a:ext cx="37083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2,3,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Text Box 54"/>
          <p:cNvSpPr/>
          <p:nvPr/>
        </p:nvSpPr>
        <p:spPr>
          <a:xfrm>
            <a:off x="4941720" y="1136520"/>
            <a:ext cx="93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643280" y="892080"/>
          <a:ext cx="391032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Text Box 90"/>
          <p:cNvSpPr/>
          <p:nvPr/>
        </p:nvSpPr>
        <p:spPr>
          <a:xfrm>
            <a:off x="4884840" y="8366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1"/>
          <p:cNvSpPr/>
          <p:nvPr/>
        </p:nvSpPr>
        <p:spPr>
          <a:xfrm>
            <a:off x="4572000" y="1179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2"/>
          <p:cNvSpPr/>
          <p:nvPr/>
        </p:nvSpPr>
        <p:spPr>
          <a:xfrm>
            <a:off x="4992840" y="4075200"/>
            <a:ext cx="93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694400" y="383076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128"/>
          <p:cNvSpPr/>
          <p:nvPr/>
        </p:nvSpPr>
        <p:spPr>
          <a:xfrm>
            <a:off x="4935600" y="377496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9"/>
          <p:cNvSpPr/>
          <p:nvPr/>
        </p:nvSpPr>
        <p:spPr>
          <a:xfrm>
            <a:off x="4622760" y="41180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67E5-4BF1-4B0F-9BAF-830DA7458D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6.4 Méthode de simplification (Exemple : 3 variabl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541520" y="383868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 Box 39"/>
          <p:cNvSpPr/>
          <p:nvPr/>
        </p:nvSpPr>
        <p:spPr>
          <a:xfrm>
            <a:off x="1782720" y="37828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0"/>
          <p:cNvSpPr/>
          <p:nvPr/>
        </p:nvSpPr>
        <p:spPr>
          <a:xfrm>
            <a:off x="1469880" y="4125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3"/>
              <p:cNvSpPr txBox="1"/>
              <p:nvPr/>
            </p:nvSpPr>
            <p:spPr>
              <a:xfrm>
                <a:off x="6078600" y="4579920"/>
                <a:ext cx="2309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Oval 46"/>
          <p:cNvSpPr/>
          <p:nvPr/>
        </p:nvSpPr>
        <p:spPr>
          <a:xfrm>
            <a:off x="3917880" y="457992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9"/>
          <p:cNvSpPr/>
          <p:nvPr/>
        </p:nvSpPr>
        <p:spPr>
          <a:xfrm>
            <a:off x="4565520" y="4869000"/>
            <a:ext cx="15843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2"/>
          <p:cNvSpPr/>
          <p:nvPr/>
        </p:nvSpPr>
        <p:spPr>
          <a:xfrm>
            <a:off x="324000" y="1052640"/>
            <a:ext cx="8496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dée de base est d’essayer de regrouper (fai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des regroupe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) l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cases adjacent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comporte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( rassembler les termes adjacent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ayer de faire des regroupements avec le maximum de cases ( 16,8,4 ou 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notre exemple on peut faire uniquement des regroupements de 2 cas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687-D6A6-4051-860C-1332A238CA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32000" y="290844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Text Box 38"/>
          <p:cNvSpPr/>
          <p:nvPr/>
        </p:nvSpPr>
        <p:spPr>
          <a:xfrm>
            <a:off x="1573200" y="2852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1260360" y="319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2"/>
              <p:cNvSpPr txBox="1"/>
              <p:nvPr/>
            </p:nvSpPr>
            <p:spPr>
              <a:xfrm>
                <a:off x="5724360" y="4514760"/>
                <a:ext cx="2387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Oval 44"/>
          <p:cNvSpPr/>
          <p:nvPr/>
        </p:nvSpPr>
        <p:spPr>
          <a:xfrm>
            <a:off x="3708360" y="364968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5"/>
          <p:cNvSpPr/>
          <p:nvPr/>
        </p:nvSpPr>
        <p:spPr>
          <a:xfrm>
            <a:off x="3637080" y="4370400"/>
            <a:ext cx="1584360" cy="6476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7"/>
          <p:cNvSpPr/>
          <p:nvPr/>
        </p:nvSpPr>
        <p:spPr>
          <a:xfrm>
            <a:off x="4356000" y="3938760"/>
            <a:ext cx="15843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8"/>
          <p:cNvSpPr/>
          <p:nvPr/>
        </p:nvSpPr>
        <p:spPr>
          <a:xfrm>
            <a:off x="5292720" y="4730760"/>
            <a:ext cx="50472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1"/>
          <p:cNvSpPr/>
          <p:nvPr/>
        </p:nvSpPr>
        <p:spPr>
          <a:xfrm>
            <a:off x="250920" y="333360"/>
            <a:ext cx="7921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isque il existent encore des cases qui sont en dehors d’un regroupement on refait la même procédure : former des regroup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ase peut appartenir à plusieurs regroup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52"/>
              <p:cNvSpPr txBox="1"/>
              <p:nvPr/>
            </p:nvSpPr>
            <p:spPr>
              <a:xfrm>
                <a:off x="6012000" y="3681360"/>
                <a:ext cx="2520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BCB-9DE9-469E-ABCD-6ACA9FC93E7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181160" y="177480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38"/>
          <p:cNvSpPr/>
          <p:nvPr/>
        </p:nvSpPr>
        <p:spPr>
          <a:xfrm>
            <a:off x="1422360" y="1719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1109520" y="206208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40"/>
              <p:cNvSpPr txBox="1"/>
              <p:nvPr/>
            </p:nvSpPr>
            <p:spPr>
              <a:xfrm>
                <a:off x="1187280" y="5805360"/>
                <a:ext cx="4824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42"/>
              <p:cNvSpPr txBox="1"/>
              <p:nvPr/>
            </p:nvSpPr>
            <p:spPr>
              <a:xfrm>
                <a:off x="5573880" y="3381480"/>
                <a:ext cx="2387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43"/>
              <p:cNvSpPr txBox="1"/>
              <p:nvPr/>
            </p:nvSpPr>
            <p:spPr>
              <a:xfrm>
                <a:off x="2405160" y="4605480"/>
                <a:ext cx="21826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Oval 44"/>
          <p:cNvSpPr/>
          <p:nvPr/>
        </p:nvSpPr>
        <p:spPr>
          <a:xfrm>
            <a:off x="3557520" y="251604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5"/>
          <p:cNvSpPr/>
          <p:nvPr/>
        </p:nvSpPr>
        <p:spPr>
          <a:xfrm>
            <a:off x="3486240" y="3236760"/>
            <a:ext cx="1584360" cy="648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6"/>
          <p:cNvSpPr/>
          <p:nvPr/>
        </p:nvSpPr>
        <p:spPr>
          <a:xfrm>
            <a:off x="2693880" y="3236760"/>
            <a:ext cx="1584360" cy="648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205160" y="2805120"/>
            <a:ext cx="15843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5141880" y="3597120"/>
            <a:ext cx="50472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9"/>
          <p:cNvSpPr/>
          <p:nvPr/>
        </p:nvSpPr>
        <p:spPr>
          <a:xfrm>
            <a:off x="3270240" y="3884760"/>
            <a:ext cx="0" cy="72072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250920" y="333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s’arrête lorsque il y a plus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n dehors des regroup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onction final est égale à la réunion ( somme ) des termes après simpl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52"/>
              <p:cNvSpPr txBox="1"/>
              <p:nvPr/>
            </p:nvSpPr>
            <p:spPr>
              <a:xfrm>
                <a:off x="5940360" y="2565360"/>
                <a:ext cx="22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F45-1174-4FDA-9DEB-0220FD39CB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, en résumé pour simplifier une fonction par la table de karnaugh il faut suivre les étape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empli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e tableau à partir de la table de vérité ou à partir de la forme cano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d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egroupe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des regroupements de  16,8,4,2,1 cases ( Les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même ter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euvent participer à plusieurs regroupements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un regroup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un seule terme on peut pas éliminer de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deux termes on peut éliminer une variable ( celle qui change d’éta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4 termes on peut éliminer 2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8 termes on peut éliminer 3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contient 16 termes on peut éliminer 4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ression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logique fin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la réunion ( la somme ) des groupements après simplification et élimination des variables qui changent d’é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CE4C-65AA-4F7E-9AD5-BAF21AE48B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3. Fonction lo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’est une fonction qui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relie N variable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vec un ensemb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d’opérateurs log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’Algèbre de Boole il existe trois opérateurs de base :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ON , ET  , O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valeur d’une fonction logique est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gale à 1 ou 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elon les valeurs des variables log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une fonction logique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N vari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ogiqu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binaisons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a fonction possèd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ff33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 valeur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binaisons sont représentées dans une table qui s’appelle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table de vérité  ( TV 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EA3-D81F-43D4-B897-5AE26EDBE8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181160" y="177480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8120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Text Box 37"/>
          <p:cNvSpPr/>
          <p:nvPr/>
        </p:nvSpPr>
        <p:spPr>
          <a:xfrm>
            <a:off x="1422360" y="1719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1109520" y="206208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9"/>
              <p:cNvSpPr txBox="1"/>
              <p:nvPr/>
            </p:nvSpPr>
            <p:spPr>
              <a:xfrm>
                <a:off x="1692360" y="5229360"/>
                <a:ext cx="35575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Oval 42"/>
          <p:cNvSpPr/>
          <p:nvPr/>
        </p:nvSpPr>
        <p:spPr>
          <a:xfrm>
            <a:off x="3557520" y="2516040"/>
            <a:ext cx="720720" cy="144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43"/>
          <p:cNvSpPr/>
          <p:nvPr/>
        </p:nvSpPr>
        <p:spPr>
          <a:xfrm>
            <a:off x="1835280" y="3236760"/>
            <a:ext cx="3235320" cy="648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1 : 3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987640" y="3860640"/>
            <a:ext cx="1008000" cy="1368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3"/>
          <p:cNvSpPr/>
          <p:nvPr/>
        </p:nvSpPr>
        <p:spPr>
          <a:xfrm>
            <a:off x="4211640" y="3573360"/>
            <a:ext cx="720720" cy="165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E897-46BE-4B8B-9092-6C5F6D77252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2 : 4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611280" y="5661000"/>
                <a:ext cx="727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06560" y="1324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Text Box 51"/>
          <p:cNvSpPr/>
          <p:nvPr/>
        </p:nvSpPr>
        <p:spPr>
          <a:xfrm>
            <a:off x="2147760" y="1268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1835280" y="161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4"/>
          <p:cNvSpPr/>
          <p:nvPr/>
        </p:nvSpPr>
        <p:spPr>
          <a:xfrm>
            <a:off x="2771640" y="2781360"/>
            <a:ext cx="3095640" cy="6476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7"/>
          <p:cNvSpPr/>
          <p:nvPr/>
        </p:nvSpPr>
        <p:spPr>
          <a:xfrm>
            <a:off x="3492360" y="4149720"/>
            <a:ext cx="79236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8"/>
          <p:cNvSpPr/>
          <p:nvPr/>
        </p:nvSpPr>
        <p:spPr>
          <a:xfrm>
            <a:off x="5076720" y="2133720"/>
            <a:ext cx="64764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9"/>
          <p:cNvSpPr/>
          <p:nvPr/>
        </p:nvSpPr>
        <p:spPr>
          <a:xfrm>
            <a:off x="4284720" y="4581360"/>
            <a:ext cx="2448000" cy="1008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0"/>
          <p:cNvSpPr/>
          <p:nvPr/>
        </p:nvSpPr>
        <p:spPr>
          <a:xfrm flipH="1">
            <a:off x="5292360" y="3429000"/>
            <a:ext cx="14292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1"/>
          <p:cNvSpPr/>
          <p:nvPr/>
        </p:nvSpPr>
        <p:spPr>
          <a:xfrm>
            <a:off x="2916360" y="3213000"/>
            <a:ext cx="863640" cy="2448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87E8-A6DC-4A4E-82CC-0F87C005B4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3 : 4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1"/>
              <p:cNvSpPr txBox="1"/>
              <p:nvPr/>
            </p:nvSpPr>
            <p:spPr>
              <a:xfrm>
                <a:off x="1042920" y="5734080"/>
                <a:ext cx="6048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+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9" name=""/>
          <p:cNvGraphicFramePr/>
          <p:nvPr/>
        </p:nvGraphicFramePr>
        <p:xfrm>
          <a:off x="1906560" y="1324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Text Box 61"/>
          <p:cNvSpPr/>
          <p:nvPr/>
        </p:nvSpPr>
        <p:spPr>
          <a:xfrm>
            <a:off x="2147760" y="1268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2"/>
          <p:cNvSpPr/>
          <p:nvPr/>
        </p:nvSpPr>
        <p:spPr>
          <a:xfrm>
            <a:off x="1835280" y="161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63"/>
          <p:cNvSpPr/>
          <p:nvPr/>
        </p:nvSpPr>
        <p:spPr>
          <a:xfrm>
            <a:off x="5024520" y="2060640"/>
            <a:ext cx="792000" cy="28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64"/>
          <p:cNvSpPr/>
          <p:nvPr/>
        </p:nvSpPr>
        <p:spPr>
          <a:xfrm>
            <a:off x="3440160" y="2781360"/>
            <a:ext cx="1512720" cy="6476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5"/>
          <p:cNvSpPr/>
          <p:nvPr/>
        </p:nvSpPr>
        <p:spPr>
          <a:xfrm>
            <a:off x="5240160" y="4221000"/>
            <a:ext cx="936720" cy="79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6"/>
          <p:cNvSpPr/>
          <p:nvPr/>
        </p:nvSpPr>
        <p:spPr>
          <a:xfrm rot="16320000">
            <a:off x="5282280" y="1730880"/>
            <a:ext cx="947520" cy="1032120"/>
          </a:xfrm>
          <a:custGeom>
            <a:avLst/>
            <a:gdLst>
              <a:gd name="textAreaLeft" fmla="*/ 0 w 947520"/>
              <a:gd name="textAreaRight" fmla="*/ 947880 w 94752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7"/>
          <p:cNvSpPr/>
          <p:nvPr/>
        </p:nvSpPr>
        <p:spPr>
          <a:xfrm rot="4860000">
            <a:off x="2329920" y="4246560"/>
            <a:ext cx="1008000" cy="10839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68"/>
          <p:cNvSpPr/>
          <p:nvPr/>
        </p:nvSpPr>
        <p:spPr>
          <a:xfrm rot="10200000">
            <a:off x="2428560" y="2027160"/>
            <a:ext cx="984240" cy="743040"/>
          </a:xfrm>
          <a:custGeom>
            <a:avLst/>
            <a:gdLst>
              <a:gd name="textAreaLeft" fmla="*/ 0 w 984240"/>
              <a:gd name="textAreaRight" fmla="*/ 984600 w 9842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824" h="740">
                <a:moveTo>
                  <a:pt x="824" y="241"/>
                </a:moveTo>
                <a:cubicBezTo>
                  <a:pt x="597" y="135"/>
                  <a:pt x="370" y="30"/>
                  <a:pt x="234" y="15"/>
                </a:cubicBezTo>
                <a:cubicBezTo>
                  <a:pt x="98" y="0"/>
                  <a:pt x="0" y="30"/>
                  <a:pt x="8" y="151"/>
                </a:cubicBezTo>
                <a:cubicBezTo>
                  <a:pt x="16" y="272"/>
                  <a:pt x="148" y="506"/>
                  <a:pt x="280" y="74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9"/>
          <p:cNvSpPr/>
          <p:nvPr/>
        </p:nvSpPr>
        <p:spPr>
          <a:xfrm flipH="1">
            <a:off x="4355640" y="4653000"/>
            <a:ext cx="863640" cy="1008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0"/>
          <p:cNvSpPr/>
          <p:nvPr/>
        </p:nvSpPr>
        <p:spPr>
          <a:xfrm flipH="1">
            <a:off x="5364000" y="4437000"/>
            <a:ext cx="648000" cy="1152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1"/>
          <p:cNvSpPr/>
          <p:nvPr/>
        </p:nvSpPr>
        <p:spPr>
          <a:xfrm>
            <a:off x="4284720" y="3429000"/>
            <a:ext cx="2158920" cy="223200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E72-0203-4A6F-9452-EF4D957FE1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mple 4 :  5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79280" y="1108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Text Box 51"/>
          <p:cNvSpPr/>
          <p:nvPr/>
        </p:nvSpPr>
        <p:spPr>
          <a:xfrm>
            <a:off x="420840" y="10526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838760" y="1108080"/>
          <a:ext cx="3909960" cy="3544920"/>
        </p:xfrm>
        <a:graphic>
          <a:graphicData uri="http://schemas.openxmlformats.org/drawingml/2006/table">
            <a:tbl>
              <a:tblPr/>
              <a:tblGrid>
                <a:gridCol w="782640"/>
                <a:gridCol w="780840"/>
                <a:gridCol w="782640"/>
                <a:gridCol w="75096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99"/>
          <p:cNvSpPr/>
          <p:nvPr/>
        </p:nvSpPr>
        <p:spPr>
          <a:xfrm>
            <a:off x="5079960" y="1052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0"/>
          <p:cNvSpPr/>
          <p:nvPr/>
        </p:nvSpPr>
        <p:spPr>
          <a:xfrm>
            <a:off x="4767120" y="139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1"/>
          <p:cNvSpPr/>
          <p:nvPr/>
        </p:nvSpPr>
        <p:spPr>
          <a:xfrm>
            <a:off x="1476360" y="494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2"/>
          <p:cNvSpPr/>
          <p:nvPr/>
        </p:nvSpPr>
        <p:spPr>
          <a:xfrm>
            <a:off x="6300720" y="494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105"/>
              <p:cNvSpPr txBox="1"/>
              <p:nvPr/>
            </p:nvSpPr>
            <p:spPr>
              <a:xfrm>
                <a:off x="324000" y="5805360"/>
                <a:ext cx="73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,C,D,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Text Box 107"/>
          <p:cNvSpPr/>
          <p:nvPr/>
        </p:nvSpPr>
        <p:spPr>
          <a:xfrm>
            <a:off x="108000" y="1411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6"/>
          <p:cNvSpPr/>
          <p:nvPr/>
        </p:nvSpPr>
        <p:spPr>
          <a:xfrm>
            <a:off x="971640" y="1916280"/>
            <a:ext cx="792000" cy="27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7"/>
          <p:cNvSpPr/>
          <p:nvPr/>
        </p:nvSpPr>
        <p:spPr>
          <a:xfrm>
            <a:off x="5651640" y="1916280"/>
            <a:ext cx="792000" cy="27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18"/>
          <p:cNvSpPr/>
          <p:nvPr/>
        </p:nvSpPr>
        <p:spPr>
          <a:xfrm>
            <a:off x="2556000" y="2637000"/>
            <a:ext cx="72072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19"/>
          <p:cNvSpPr/>
          <p:nvPr/>
        </p:nvSpPr>
        <p:spPr>
          <a:xfrm>
            <a:off x="7956720" y="2563920"/>
            <a:ext cx="720720" cy="12952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20"/>
          <p:cNvSpPr/>
          <p:nvPr/>
        </p:nvSpPr>
        <p:spPr>
          <a:xfrm>
            <a:off x="5651640" y="4003560"/>
            <a:ext cx="1512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1"/>
          <p:cNvSpPr/>
          <p:nvPr/>
        </p:nvSpPr>
        <p:spPr>
          <a:xfrm>
            <a:off x="1619280" y="4365720"/>
            <a:ext cx="136836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22"/>
          <p:cNvSpPr/>
          <p:nvPr/>
        </p:nvSpPr>
        <p:spPr>
          <a:xfrm flipH="1">
            <a:off x="3203640" y="3933720"/>
            <a:ext cx="2448000" cy="1727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23"/>
          <p:cNvSpPr/>
          <p:nvPr/>
        </p:nvSpPr>
        <p:spPr>
          <a:xfrm>
            <a:off x="3059280" y="3860640"/>
            <a:ext cx="1152360" cy="1873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4"/>
          <p:cNvSpPr/>
          <p:nvPr/>
        </p:nvSpPr>
        <p:spPr>
          <a:xfrm flipH="1">
            <a:off x="5580000" y="4653000"/>
            <a:ext cx="72072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25"/>
          <p:cNvSpPr/>
          <p:nvPr/>
        </p:nvSpPr>
        <p:spPr>
          <a:xfrm flipH="1">
            <a:off x="7093080" y="3860640"/>
            <a:ext cx="1224000" cy="1873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33B-1CEB-4C6D-B4C6-16A63D592B4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85680" y="2989440"/>
          <a:ext cx="3909960" cy="215424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80840"/>
                <a:gridCol w="782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Text Box 66"/>
          <p:cNvSpPr/>
          <p:nvPr/>
        </p:nvSpPr>
        <p:spPr>
          <a:xfrm>
            <a:off x="326880" y="2933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7"/>
          <p:cNvSpPr/>
          <p:nvPr/>
        </p:nvSpPr>
        <p:spPr>
          <a:xfrm>
            <a:off x="14400" y="3276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643280" y="2478240"/>
          <a:ext cx="3910320" cy="354456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Text Box 120"/>
          <p:cNvSpPr/>
          <p:nvPr/>
        </p:nvSpPr>
        <p:spPr>
          <a:xfrm>
            <a:off x="4884840" y="24224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1"/>
          <p:cNvSpPr/>
          <p:nvPr/>
        </p:nvSpPr>
        <p:spPr>
          <a:xfrm>
            <a:off x="4572000" y="2765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97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3"/>
          <p:cNvSpPr/>
          <p:nvPr/>
        </p:nvSpPr>
        <p:spPr>
          <a:xfrm>
            <a:off x="250920" y="836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ouver la forme simplifiée des fonctions à partir des deux tableau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52A-FD7B-4B0E-A4CC-08E6CFD472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6.5 Cas d’une fonction non totalement déf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95280" y="1557360"/>
            <a:ext cx="7775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aminons l’exemple suiva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errure de sécurité s’ouvre en fonctio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de quatre cl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, B, C D. Le fonctionnement de la serrure  est définie comme suit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(A,B,C,D)= 1 si au moins deux  clés sont utilis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(A,B,C,D)=  0  si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lé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A et 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e peuvent pas être utilis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n mêm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remarque que si la clé A et D sont utilisées en même temps l’état du système n’est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détermin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s cas sont appelés  c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mpossi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dites 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mment représenter ces cas dans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 la table de vérité 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2133720"/>
            <a:ext cx="799308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50C4-B358-43A1-A643-5D3FF86A4A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1123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wse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148360" y="333360"/>
          <a:ext cx="3612960" cy="6218280"/>
        </p:xfrm>
        <a:graphic>
          <a:graphicData uri="http://schemas.openxmlformats.org/drawingml/2006/table">
            <a:tbl>
              <a:tblPr/>
              <a:tblGrid>
                <a:gridCol w="681120"/>
                <a:gridCol w="676440"/>
                <a:gridCol w="681120"/>
                <a:gridCol w="608400"/>
                <a:gridCol w="216000"/>
                <a:gridCol w="749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7" name="Text Box 167"/>
          <p:cNvSpPr/>
          <p:nvPr/>
        </p:nvSpPr>
        <p:spPr>
          <a:xfrm>
            <a:off x="0" y="476280"/>
            <a:ext cx="5076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cas impossibles ou interdi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faut mettre 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a T.V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as impossibles sont représent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ssi par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la table de karn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79280" y="3054240"/>
          <a:ext cx="3909960" cy="354168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960"/>
                <a:gridCol w="812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Text Box 215"/>
          <p:cNvSpPr/>
          <p:nvPr/>
        </p:nvSpPr>
        <p:spPr>
          <a:xfrm>
            <a:off x="420840" y="299880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16"/>
          <p:cNvSpPr/>
          <p:nvPr/>
        </p:nvSpPr>
        <p:spPr>
          <a:xfrm>
            <a:off x="108000" y="3341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24FB-34F2-4DBA-ABDE-D174C998E21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est possible d’utiliser l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des regroupeme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les prendre comme éta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 les prendre comme éta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e faut pas former des regroupement qui contient uniquement d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4356000" y="6093000"/>
                <a:ext cx="8636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4" name=""/>
          <p:cNvGraphicFramePr/>
          <p:nvPr/>
        </p:nvGraphicFramePr>
        <p:xfrm>
          <a:off x="1692360" y="191628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440"/>
                <a:gridCol w="1006560"/>
                <a:gridCol w="1008000"/>
                <a:gridCol w="968400"/>
                <a:gridCol w="10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Text Box 51"/>
          <p:cNvSpPr/>
          <p:nvPr/>
        </p:nvSpPr>
        <p:spPr>
          <a:xfrm>
            <a:off x="1979640" y="1771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2"/>
          <p:cNvSpPr/>
          <p:nvPr/>
        </p:nvSpPr>
        <p:spPr>
          <a:xfrm>
            <a:off x="1547640" y="20588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3"/>
          <p:cNvSpPr/>
          <p:nvPr/>
        </p:nvSpPr>
        <p:spPr>
          <a:xfrm>
            <a:off x="4716360" y="2781360"/>
            <a:ext cx="93528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50EB-B905-4D91-A369-49A33900A8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3564000" y="5516640"/>
                <a:ext cx="2065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50" name=""/>
          <p:cNvGraphicFramePr/>
          <p:nvPr/>
        </p:nvGraphicFramePr>
        <p:xfrm>
          <a:off x="1835280" y="83664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440"/>
                <a:gridCol w="1006560"/>
                <a:gridCol w="1008000"/>
                <a:gridCol w="968400"/>
                <a:gridCol w="10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50"/>
          <p:cNvSpPr/>
          <p:nvPr/>
        </p:nvSpPr>
        <p:spPr>
          <a:xfrm>
            <a:off x="2122560" y="6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1690560" y="97956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2"/>
          <p:cNvSpPr/>
          <p:nvPr/>
        </p:nvSpPr>
        <p:spPr>
          <a:xfrm>
            <a:off x="4859280" y="1555920"/>
            <a:ext cx="93492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3"/>
          <p:cNvSpPr/>
          <p:nvPr/>
        </p:nvSpPr>
        <p:spPr>
          <a:xfrm>
            <a:off x="2843280" y="3068640"/>
            <a:ext cx="3960720" cy="7920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CA9-1786-4E87-888A-5E2961DB42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3300480" y="5805360"/>
                <a:ext cx="2219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B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57" name=""/>
          <p:cNvGraphicFramePr/>
          <p:nvPr/>
        </p:nvGraphicFramePr>
        <p:xfrm>
          <a:off x="2050920" y="90792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800"/>
                <a:gridCol w="1006560"/>
                <a:gridCol w="1008000"/>
                <a:gridCol w="968400"/>
                <a:gridCol w="104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Text Box 50"/>
          <p:cNvSpPr/>
          <p:nvPr/>
        </p:nvSpPr>
        <p:spPr>
          <a:xfrm>
            <a:off x="2338560" y="76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1906560" y="10508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52"/>
          <p:cNvSpPr/>
          <p:nvPr/>
        </p:nvSpPr>
        <p:spPr>
          <a:xfrm>
            <a:off x="5075280" y="1627200"/>
            <a:ext cx="93492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53"/>
          <p:cNvSpPr/>
          <p:nvPr/>
        </p:nvSpPr>
        <p:spPr>
          <a:xfrm>
            <a:off x="3059280" y="3139920"/>
            <a:ext cx="3960720" cy="792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54"/>
          <p:cNvSpPr/>
          <p:nvPr/>
        </p:nvSpPr>
        <p:spPr>
          <a:xfrm>
            <a:off x="3994200" y="2276640"/>
            <a:ext cx="2016000" cy="180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5D5-CFD4-4161-B90C-6FF8C807EDE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 d’une fonction 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25"/>
              <p:cNvSpPr txBox="1"/>
              <p:nvPr/>
            </p:nvSpPr>
            <p:spPr>
              <a:xfrm>
                <a:off x="0" y="476280"/>
                <a:ext cx="6156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28"/>
              <p:cNvSpPr txBox="1"/>
              <p:nvPr/>
            </p:nvSpPr>
            <p:spPr>
              <a:xfrm>
                <a:off x="0" y="1844640"/>
                <a:ext cx="4500720" cy="428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0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0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1,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,1,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330"/>
          <p:cNvSpPr/>
          <p:nvPr/>
        </p:nvSpPr>
        <p:spPr>
          <a:xfrm>
            <a:off x="10080" y="1125360"/>
            <a:ext cx="72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nction possède 3 variabl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binais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508720" y="2637000"/>
          <a:ext cx="3246480" cy="3627360"/>
        </p:xfrm>
        <a:graphic>
          <a:graphicData uri="http://schemas.openxmlformats.org/drawingml/2006/table">
            <a:tbl>
              <a:tblPr/>
              <a:tblGrid>
                <a:gridCol w="645840"/>
                <a:gridCol w="730440"/>
                <a:gridCol w="558720"/>
                <a:gridCol w="276120"/>
                <a:gridCol w="1035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396"/>
          <p:cNvSpPr/>
          <p:nvPr/>
        </p:nvSpPr>
        <p:spPr>
          <a:xfrm>
            <a:off x="1908000" y="6308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table de vé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7"/>
          <p:cNvSpPr/>
          <p:nvPr/>
        </p:nvSpPr>
        <p:spPr>
          <a:xfrm flipV="1">
            <a:off x="4284720" y="6021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7293-99ED-41D1-9FDB-FCE72426FC1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1614600" y="5877000"/>
                <a:ext cx="39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B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1908000" y="90792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800"/>
                <a:gridCol w="1006560"/>
                <a:gridCol w="1008000"/>
                <a:gridCol w="968400"/>
                <a:gridCol w="104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50"/>
          <p:cNvSpPr/>
          <p:nvPr/>
        </p:nvSpPr>
        <p:spPr>
          <a:xfrm>
            <a:off x="2195640" y="76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1763640" y="1050840"/>
            <a:ext cx="8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52"/>
          <p:cNvSpPr/>
          <p:nvPr/>
        </p:nvSpPr>
        <p:spPr>
          <a:xfrm>
            <a:off x="4932360" y="1627200"/>
            <a:ext cx="93492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53"/>
          <p:cNvSpPr/>
          <p:nvPr/>
        </p:nvSpPr>
        <p:spPr>
          <a:xfrm>
            <a:off x="2916360" y="3139920"/>
            <a:ext cx="3960720" cy="792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54"/>
          <p:cNvSpPr/>
          <p:nvPr/>
        </p:nvSpPr>
        <p:spPr>
          <a:xfrm>
            <a:off x="4932360" y="3139920"/>
            <a:ext cx="2016000" cy="180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5"/>
          <p:cNvSpPr/>
          <p:nvPr/>
        </p:nvSpPr>
        <p:spPr>
          <a:xfrm>
            <a:off x="3851280" y="2276640"/>
            <a:ext cx="2016000" cy="180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DDD-A2CF-46E1-BA0C-55733B7B27E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979640" y="907920"/>
          <a:ext cx="5040360" cy="3816360"/>
        </p:xfrm>
        <a:graphic>
          <a:graphicData uri="http://schemas.openxmlformats.org/drawingml/2006/table">
            <a:tbl>
              <a:tblPr/>
              <a:tblGrid>
                <a:gridCol w="1009800"/>
                <a:gridCol w="1006200"/>
                <a:gridCol w="1008000"/>
                <a:gridCol w="968400"/>
                <a:gridCol w="10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4" name="Text Box 49"/>
          <p:cNvSpPr/>
          <p:nvPr/>
        </p:nvSpPr>
        <p:spPr>
          <a:xfrm>
            <a:off x="2266920" y="76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0"/>
          <p:cNvSpPr/>
          <p:nvPr/>
        </p:nvSpPr>
        <p:spPr>
          <a:xfrm>
            <a:off x="1835280" y="105084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1"/>
          <p:cNvSpPr/>
          <p:nvPr/>
        </p:nvSpPr>
        <p:spPr>
          <a:xfrm>
            <a:off x="5003640" y="1627200"/>
            <a:ext cx="935280" cy="30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2"/>
          <p:cNvSpPr/>
          <p:nvPr/>
        </p:nvSpPr>
        <p:spPr>
          <a:xfrm>
            <a:off x="2987640" y="3139920"/>
            <a:ext cx="3960720" cy="792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3"/>
          <p:cNvSpPr/>
          <p:nvPr/>
        </p:nvSpPr>
        <p:spPr>
          <a:xfrm>
            <a:off x="5003640" y="3139920"/>
            <a:ext cx="2016360" cy="180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4"/>
          <p:cNvSpPr/>
          <p:nvPr/>
        </p:nvSpPr>
        <p:spPr>
          <a:xfrm>
            <a:off x="3922560" y="3068640"/>
            <a:ext cx="2016360" cy="180036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5"/>
          <p:cNvSpPr/>
          <p:nvPr/>
        </p:nvSpPr>
        <p:spPr>
          <a:xfrm>
            <a:off x="3922560" y="2276640"/>
            <a:ext cx="2016360" cy="1800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56"/>
              <p:cNvSpPr txBox="1"/>
              <p:nvPr/>
            </p:nvSpPr>
            <p:spPr>
              <a:xfrm>
                <a:off x="2257560" y="5805360"/>
                <a:ext cx="3475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C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BD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Espace réservé du numéro de diapositiv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3F04-04D2-43C9-AE8A-6A13D8D1D7B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rci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7928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ver la fonction logique simplifiée à partir de la table suivan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340000" y="2708280"/>
          <a:ext cx="3909960" cy="3541680"/>
        </p:xfrm>
        <a:graphic>
          <a:graphicData uri="http://schemas.openxmlformats.org/drawingml/2006/table">
            <a:tbl>
              <a:tblPr/>
              <a:tblGrid>
                <a:gridCol w="782640"/>
                <a:gridCol w="781200"/>
                <a:gridCol w="782640"/>
                <a:gridCol w="750600"/>
                <a:gridCol w="812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Text Box 52"/>
          <p:cNvSpPr/>
          <p:nvPr/>
        </p:nvSpPr>
        <p:spPr>
          <a:xfrm>
            <a:off x="2581200" y="26528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2268360" y="29955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1425-7579-4465-B03C-3BF1E5D2CFE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ercic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0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l’étude ( table de vérité , table de karnaugh , fonction simplifiée) du circuit qui nous permet de passer du codage BCD au codage EXCESS 3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le même travail pour le circuit qui permet le passage du codage EXCESS 3 au codage BC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5752-87EC-4248-984B-933F2CE2C06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igure 1 représente un réservoir alimenté par deux vannes V1 et V2. On distingue trois niveaux : Sécurité, Moyen, Ha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lorsque le niveau de liquide est inférieur ou égale  à Sécurité, V1 et V2 sont ouve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 lorsque le niveau du liquide est inférieur ou égal à Moyen mais supérieur à Sécurité, seule  V1 est ouv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lorsque le niveau du liquide est supérieur à Moyen mais inférieur à Haut, seule V2 est ouv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lorsque le niveau de liquide a atteint le niveau Haut, les deux vannes sont ferm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r les équations logiques de l’ouverture de V1 et V2 en fonction du niveau de liq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2482920" y="479592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"/>
          <p:cNvSpPr/>
          <p:nvPr/>
        </p:nvSpPr>
        <p:spPr>
          <a:xfrm>
            <a:off x="3780000" y="479592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7"/>
          <p:cNvSpPr/>
          <p:nvPr/>
        </p:nvSpPr>
        <p:spPr>
          <a:xfrm>
            <a:off x="2482920" y="659592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2482920" y="609300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2482920" y="5587920"/>
            <a:ext cx="12970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1042920" y="6019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1187280" y="5372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yen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1258920" y="4795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u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2482920" y="4940280"/>
            <a:ext cx="1297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6"/>
          <p:cNvGrpSpPr/>
          <p:nvPr/>
        </p:nvGrpSpPr>
        <p:grpSpPr>
          <a:xfrm>
            <a:off x="3490920" y="4363920"/>
            <a:ext cx="792000" cy="287280"/>
            <a:chOff x="3490920" y="4363920"/>
            <a:chExt cx="792000" cy="287280"/>
          </a:xfrm>
        </p:grpSpPr>
        <p:sp>
          <p:nvSpPr>
            <p:cNvPr id="604" name="Line 14"/>
            <p:cNvSpPr/>
            <p:nvPr/>
          </p:nvSpPr>
          <p:spPr>
            <a:xfrm flipV="1">
              <a:off x="3490920" y="436392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5"/>
            <p:cNvSpPr/>
            <p:nvPr/>
          </p:nvSpPr>
          <p:spPr>
            <a:xfrm>
              <a:off x="3490920" y="4363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7"/>
          <p:cNvGrpSpPr/>
          <p:nvPr/>
        </p:nvGrpSpPr>
        <p:grpSpPr>
          <a:xfrm>
            <a:off x="1979640" y="4363920"/>
            <a:ext cx="792000" cy="287280"/>
            <a:chOff x="1979640" y="4363920"/>
            <a:chExt cx="792000" cy="287280"/>
          </a:xfrm>
        </p:grpSpPr>
        <p:sp>
          <p:nvSpPr>
            <p:cNvPr id="607" name="Line 18"/>
            <p:cNvSpPr/>
            <p:nvPr/>
          </p:nvSpPr>
          <p:spPr>
            <a:xfrm flipV="1">
              <a:off x="2771640" y="4363920"/>
              <a:ext cx="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9"/>
            <p:cNvSpPr/>
            <p:nvPr/>
          </p:nvSpPr>
          <p:spPr>
            <a:xfrm flipH="1">
              <a:off x="1979640" y="4363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Text Box 20"/>
          <p:cNvSpPr/>
          <p:nvPr/>
        </p:nvSpPr>
        <p:spPr>
          <a:xfrm>
            <a:off x="4337280" y="438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1405080" y="429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09:09Z</dcterms:created>
  <dc:creator>h</dc:creator>
  <dc:description/>
  <dc:language>en-US</dc:language>
  <cp:lastModifiedBy>MACBOOKPRO</cp:lastModifiedBy>
  <dcterms:modified xsi:type="dcterms:W3CDTF">2012-04-15T07:52:41Z</dcterms:modified>
  <cp:revision>151</cp:revision>
  <dc:subject/>
  <dc:title>Algèbre de Boole</dc:title>
</cp:coreProperties>
</file>