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6B0-9425-44AB-B848-4B3F3476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588-7CF8-415B-B1DC-2C5675BF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C0D-D260-445E-B1FD-555B7FFD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2ED-7CC3-4EB3-8DC3-E9A04D2A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04C-6BF9-4782-BEC9-C1B63F18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068-6051-47A3-84DC-BE883E19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A81-C32A-42FF-8F67-B2F52740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D94-BB5F-4F09-BFCC-CB0ECE81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20E-A8AC-4A5D-B232-E6FBC100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05F-CE1F-4EDD-B25F-1BDD378E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653-81ED-4A30-A968-7E3AA27D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D68-3701-4990-B16C-E77FB8F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2EED-9AED-4AAA-BDD9-BECCBC64190E}" type="slidenum"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45520" y="477036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0985-7E22-4016-8B1A-5DE30C36D94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93-1-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4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4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50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53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93-1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57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60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63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66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93-2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70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73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76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79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93-2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83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86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89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92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093-3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96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99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02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05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093-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09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12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15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18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093-4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22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25" name="Picture 9" descr="button21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28" name="Picture 12" descr="button21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31" name="Picture 15" descr="button21"/>
            <p:cNvPicPr/>
            <p:nvPr/>
          </p:nvPicPr>
          <p:blipFill>
            <a:blip r:embed="rId9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93-4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35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38" name="Picture 9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41" name="Picture 12" descr="button21"/>
            <p:cNvPicPr/>
            <p:nvPr/>
          </p:nvPicPr>
          <p:blipFill>
            <a:blip r:embed="rId4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44" name="Picture 15" descr="button21"/>
            <p:cNvPicPr/>
            <p:nvPr/>
          </p:nvPicPr>
          <p:blipFill>
            <a:blip r:embed="rId5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4:56:24Z</dcterms:created>
  <dc:creator>최봉수</dc:creator>
  <dc:description/>
  <dc:language>en-US</dc:language>
  <cp:lastModifiedBy>맛있다 군만두</cp:lastModifiedBy>
  <dcterms:modified xsi:type="dcterms:W3CDTF">2023-07-13T06:48:59Z</dcterms:modified>
  <cp:revision>4</cp:revision>
  <dc:subject/>
  <dc:title>슬라이드 1</dc:title>
</cp:coreProperties>
</file>