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B7D-2BE1-416F-AD3B-9C9964E9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D70-602B-43C8-AB33-2E55469D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EEB-24E8-444C-A453-0E0A41D3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E7E-AC38-4ED0-8EC3-D411D547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AD6-2CB2-4076-8866-1CDB3CBE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1C9-24CF-4706-A36F-0DDAAC81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4F3-56A5-45D0-A7A4-EA906FE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62B-4412-4B2C-975E-DD8D99A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7F3-3405-489B-9EF0-67BBAD1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112-C879-49A7-8178-7C9B012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ECF-01D5-40B3-A692-A3C93B0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FB7-6A6C-4F29-B7F3-CA11669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CF7C-A225-4442-AB6F-F9BC1B4CC651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867-F74F-4418-BC70-D698CCB1FAD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93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93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93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93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93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93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093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93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4:56:24Z</dcterms:created>
  <dc:creator>최봉수</dc:creator>
  <dc:description/>
  <dc:language>en-US</dc:language>
  <cp:lastModifiedBy>맛있다 군만두</cp:lastModifiedBy>
  <dcterms:modified xsi:type="dcterms:W3CDTF">2023-07-13T06:48:59Z</dcterms:modified>
  <cp:revision>4</cp:revision>
  <dc:subject/>
  <dc:title>슬라이드 1</dc:title>
</cp:coreProperties>
</file>