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8D4F-5743-4E38-B5DB-903B06D44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1BF11-E676-4867-98EB-DD05BADF5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AB9EF-2B91-4EDC-86C4-896C01C6B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2EA01-258B-48BD-AAA0-2132005CF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64562-EF5F-49AD-9AF3-37688C99B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F853-434B-435D-A353-54637D7BE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59B45-0F36-4ED9-828E-8890475E2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4217A-4697-4FFE-BC21-78B6D5569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23A4C-C7BC-4801-8F2B-0919B1252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1C97-3043-47F4-B896-47E7039A9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96125-1842-424C-B0FC-6E5924C3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6078-92DA-4B6E-92B7-6B8847D8B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30982-1FF7-4D66-B9DD-45C642E99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9BD60-B876-4508-BB3A-399211FEA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403CE-9462-4488-BD91-FB9E92C34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827B6-64B0-4F49-8EA9-D2980859A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DAADE-7ED5-4FFF-B589-118620134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BFB91-BD69-485C-8C23-61F9B069F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59D3-518F-4BC9-A4B8-020A4AF6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89D0-A001-4C8B-A38B-0A57DFC84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DA89-3194-4831-87E0-D90AB50E5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1B9BE-5F40-41F3-ABDE-30532F14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F322-755D-4F17-9FC2-80B06DC18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CE04-669D-48BE-91DD-9E21D2BDB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076D-2A05-442B-86A9-0FDDC4728096}" type="slidenum">
              <a:rPr b="0" lang="nl-BE"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3321-3798-4ED1-A865-18A021894096}" type="slidenum">
              <a:rPr b="0" lang="nl-BE"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0160" y="2286000"/>
            <a:ext cx="7772400" cy="22226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rPr>
              <a:t>De schoonheid </a:t>
            </a:r>
            <a:br>
              <a:rPr sz="5400"/>
            </a:br>
            <a:r>
              <a:rPr b="1" i="1" lang="nl-BE" sz="5400" spc="-1" strike="noStrike">
                <a:solidFill>
                  <a:srgbClr val="336699"/>
                </a:solidFill>
                <a:latin typeface="Black"/>
              </a:rPr>
              <a:t>	</a:t>
            </a:r>
            <a:r>
              <a:rPr b="1" i="1" lang="nl-BE" sz="5400" spc="-1" strike="noStrike">
                <a:solidFill>
                  <a:srgbClr val="336699"/>
                </a:solidFill>
                <a:latin typeface="Black"/>
              </a:rPr>
              <a:t>	</a:t>
            </a:r>
            <a:r>
              <a:rPr b="1" i="1" lang="nl-BE" sz="5400" spc="-1" strike="noStrike">
                <a:solidFill>
                  <a:srgbClr val="336699"/>
                </a:solidFill>
                <a:latin typeface="Black"/>
              </a:rPr>
              <a:t>   van een vrouw</a:t>
            </a:r>
            <a:r>
              <a:rPr b="0" lang="nl-BE" sz="5400" spc="-1" strike="noStrike">
                <a:solidFill>
                  <a:srgbClr val="336699"/>
                </a:solidFill>
                <a:latin typeface="Black"/>
              </a:rPr>
              <a:t> !</a:t>
            </a:r>
            <a:endParaRPr b="0" lang="en-US" sz="5400" spc="-1" strike="noStrike">
              <a:solidFill>
                <a:srgbClr val="0066ff"/>
              </a:solidFill>
              <a:latin typeface="Times New Roman"/>
            </a:endParaRPr>
          </a:p>
        </p:txBody>
      </p:sp>
    </p:spTree>
  </p:cSld>
  <p:transition spd="med"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6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herinnert zich dat vele mensen zichzelf niet in de spiegel kunnen zien, lacht en vertrekt om de wereld te verover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7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ervaring, gewoonte, lacht en gaat van het leven profiter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4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8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zelfs niet meer in de spiegel, met haar kleine paarse hoedje op, gaat ze, enkel om het plezier de wereld te zie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6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We zouden allemaal wat meer ons kleine paarse hoedje moeten opzetten !</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schoonheid van een vrouw zit niet in haar kleding, niet in de mooie look die ze afficheert of in de manier waarop ze zich kapt. De schoonheid van een vrouw moet je zien in haar ogen want die zijn de poorten naar haar hart, de plek waar de liefde woont.</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2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schoonheid van een vrouw zit niet in een schoonheidsvlekje, goed geplaatst boven haar lip. De echte schoonheid van een vrouw weerspiegelt zich door haar ziel!</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De liefde die zij geeft, de passie die zij toont, de jaren die voorbijgaan, omhullen haar.</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017440" y="2022480"/>
            <a:ext cx="6692760" cy="3736800"/>
          </a:xfrm>
          <a:prstGeom prst="rect">
            <a:avLst/>
          </a:prstGeom>
          <a:noFill/>
          <a:ln w="0">
            <a:noFill/>
          </a:ln>
        </p:spPr>
        <p:txBody>
          <a:bodyPr lIns="92160" rIns="92160" tIns="46080" bIns="46080" anchor="ctr" anchorCtr="1">
            <a:norm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ea typeface="Times New Roman"/>
              </a:rPr>
              <a:t>Jij bent </a:t>
            </a:r>
            <a:endParaRPr b="1" lang="en-US" sz="5400" spc="-1" strike="noStrike">
              <a:solidFill>
                <a:srgbClr val="336699"/>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5400" spc="-1" strike="noStrike">
                <a:solidFill>
                  <a:srgbClr val="336699"/>
                </a:solidFill>
                <a:latin typeface="Black"/>
                <a:ea typeface="Times New Roman"/>
              </a:rPr>
              <a:t>Een Mooie Vrouw !!!</a:t>
            </a:r>
            <a:endParaRPr b="1" lang="en-US" sz="54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Stuur vandaag deze boodschap naar enkele uitzonderlijke vrouwen die je waardeert. Wanneer je dat doet, zal je iets gelukzaligs overkomen: je krikt het zelfvertrouwen op van een andere vrouw en tovert een glimlach op haar gezicht. !</a:t>
            </a:r>
            <a:endParaRPr b="1" lang="en-US" sz="3200" spc="-1" strike="noStrike">
              <a:solidFill>
                <a:srgbClr val="336699"/>
              </a:solidFill>
              <a:latin typeface="Arial"/>
            </a:endParaRPr>
          </a:p>
        </p:txBody>
      </p:sp>
      <p:sp>
        <p:nvSpPr>
          <p:cNvPr id="109" name=""/>
          <p:cNvSpPr/>
          <p:nvPr/>
        </p:nvSpPr>
        <p:spPr>
          <a:xfrm>
            <a:off x="1403280" y="5921280"/>
            <a:ext cx="6337440" cy="936720"/>
          </a:xfrm>
          <a:prstGeom prst="octagon">
            <a:avLst>
              <a:gd name="adj" fmla="val 29287"/>
            </a:avLst>
          </a:prstGeom>
          <a:blipFill rotWithShape="0">
            <a:blip r:embed="rId1">
              <a:alphaModFix amt="48000"/>
            </a:blip>
            <a:srcRect/>
            <a:stretch/>
          </a:blip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10"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Poor Richard"/>
              </a:rPr>
              <a:t>www.free-powerpoints.goedbegin.be</a:t>
            </a:r>
            <a:endParaRPr b="1" lang="en-US" sz="2400" spc="1" strike="noStrike">
              <a:ln w="0">
                <a:noFill/>
              </a:ln>
              <a:blipFill rotWithShape="0">
                <a:blip r:embed="rId3"/>
                <a:srcRect/>
                <a:stretch/>
              </a:blipFill>
              <a:latin typeface="Poor Richard"/>
              <a:ea typeface="Poor Richard"/>
            </a:endParaRPr>
          </a:p>
        </p:txBody>
      </p:sp>
      <p:sp>
        <p:nvSpPr>
          <p:cNvPr id="111"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4"/>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5"/>
                <a:srcRect/>
                <a:stretch/>
              </a:blipFill>
              <a:latin typeface="Bookman Old Style"/>
              <a:ea typeface="Bookman Old Style"/>
            </a:endParaRPr>
          </a:p>
        </p:txBody>
      </p:sp>
      <p:sp>
        <p:nvSpPr>
          <p:cNvPr id="3" name="PlaceHolder 2"/>
          <p:cNvSpPr>
            <a:spLocks noGrp="1"/>
          </p:cNvSpPr>
          <p:nvPr>
            <p:ph type="ftr" idx="2"/>
          </p:nvPr>
        </p:nvSpPr>
        <p:spPr/>
        <p:txBody>
          <a:bodyPr/>
          <a:p>
            <a:r>
              <a:t>www.skynary.com/M_aider</a:t>
            </a: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par>
                                <p:cTn id="10" nodeType="withEffect" fill="hold" presetClass="entr" presetID="52">
                                  <p:stCondLst>
                                    <p:cond delay="0"/>
                                  </p:stCondLst>
                                  <p:childTnLst>
                                    <p:set>
                                      <p:cBhvr>
                                        <p:cTn id="11" dur="1" fill="hold">
                                          <p:stCondLst>
                                            <p:cond delay="0"/>
                                          </p:stCondLst>
                                        </p:cTn>
                                        <p:tgtEl>
                                          <p:spTgt spid="109"/>
                                        </p:tgtEl>
                                        <p:attrNameLst>
                                          <p:attrName>style.visibility</p:attrName>
                                        </p:attrNameLst>
                                      </p:cBhvr>
                                      <p:to>
                                        <p:strVal val="visible"/>
                                      </p:to>
                                    </p:set>
                                    <p:animScale>
                                      <p:cBhvr>
                                        <p:cTn id="1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09"/>
                                        </p:tgtEl>
                                      </p:cBhvr>
                                    </p:animMotion>
                                    <p:animEffect filter="fade" transition="in">
                                      <p:cBhvr additive="repl">
                                        <p:cTn id="14" dur="1000"/>
                                        <p:tgtEl>
                                          <p:spTgt spid="109"/>
                                        </p:tgtEl>
                                      </p:cBhvr>
                                    </p:animEffect>
                                  </p:childTnLst>
                                </p:cTn>
                              </p:par>
                              <p:par>
                                <p:cTn id="15" nodeType="withEffect" fill="hold" presetClass="entr" presetID="42">
                                  <p:stCondLst>
                                    <p:cond delay="0"/>
                                  </p:stCondLst>
                                  <p:childTnLst>
                                    <p:set>
                                      <p:cBhvr>
                                        <p:cTn id="16" dur="1" fill="hold">
                                          <p:stCondLst>
                                            <p:cond delay="0"/>
                                          </p:stCondLst>
                                        </p:cTn>
                                        <p:tgtEl>
                                          <p:spTgt spid="111"/>
                                        </p:tgtEl>
                                        <p:attrNameLst>
                                          <p:attrName>style.visibility</p:attrName>
                                        </p:attrNameLst>
                                      </p:cBhvr>
                                      <p:to>
                                        <p:strVal val="visible"/>
                                      </p:to>
                                    </p:set>
                                    <p:animEffect filter="fade" transition="in">
                                      <p:cBhvr additive="repl">
                                        <p:cTn id="17" dur="1000"/>
                                        <p:tgtEl>
                                          <p:spTgt spid="111"/>
                                        </p:tgtEl>
                                      </p:cBhvr>
                                    </p:animEffect>
                                    <p:anim calcmode="lin" valueType="num">
                                      <p:cBhvr additive="repl">
                                        <p:cTn id="18" dur="1000" fill="hold"/>
                                        <p:tgtEl>
                                          <p:spTgt spid="111"/>
                                        </p:tgtEl>
                                        <p:attrNameLst>
                                          <p:attrName>ppt_x</p:attrName>
                                        </p:attrNameLst>
                                      </p:cBhvr>
                                      <p:tavLst>
                                        <p:tav tm="0">
                                          <p:val>
                                            <p:strVal val="#ppt_x"/>
                                          </p:val>
                                        </p:tav>
                                        <p:tav tm="100000">
                                          <p:val>
                                            <p:strVal val="#ppt_x"/>
                                          </p:val>
                                        </p:tav>
                                      </p:tavLst>
                                    </p:anim>
                                    <p:anim calcmode="lin" valueType="num">
                                      <p:cBhvr additive="repl">
                                        <p:cTn id="19" dur="1000" fill="hold"/>
                                        <p:tgtEl>
                                          <p:spTgt spid="111"/>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autoRev="1" nodeType="afterEffect" fill="hold" presetClass="emph" presetID="6" repeatCount="indefinite">
                                  <p:stCondLst>
                                    <p:cond delay="0"/>
                                  </p:stCondLst>
                                  <p:childTnLst>
                                    <p:animScale>
                                      <p:cBhvr>
                                        <p:cTn id="22" dur="500" fill="hold"/>
                                        <p:tgtEl>
                                          <p:spTgt spid="110"/>
                                        </p:tgtEl>
                                      </p:cBhvr>
                                      <p:to x="105000" y="105000"/>
                                    </p:animScale>
                                  </p:childTnLst>
                                </p:cTn>
                              </p:par>
                              <p:par>
                                <p:cTn id="23" nodeType="withEffect" fill="hold" presetClass="emph" presetID="26">
                                  <p:stCondLst>
                                    <p:cond delay="0"/>
                                  </p:stCondLst>
                                  <p:childTnLst>
                                    <p:animEffect filter="fade" transition="out">
                                      <p:cBhvr additive="repl">
                                        <p:cTn id="24" dur="500"/>
                                        <p:tgtEl>
                                          <p:spTgt spid="109"/>
                                        </p:tgtEl>
                                      </p:cBhvr>
                                    </p:animEffect>
                                    <p:animScale>
                                      <p:cBhvr>
                                        <p:cTn id="25"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Een vrouw kijkt in haar spiegel</a:t>
            </a:r>
            <a:r>
              <a:rPr b="1" lang="nl-BE" sz="3200" spc="-1" strike="noStrike">
                <a:solidFill>
                  <a:srgbClr val="336699"/>
                </a:solidFill>
                <a:latin typeface="Black"/>
              </a:rPr>
              <a:t> - …</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3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3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een koningi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2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370160" y="1676520"/>
            <a:ext cx="712296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8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Assepoester in het Slapende Bos.</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3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15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Assepoester, de schone in het Slapende Bos, een cheerleader, een actrice, of als ze in een slechte dag is, ziet ze zich lelijk, dik, vol pukkels en zegt: “Mama, ik kan </a:t>
            </a:r>
            <a:r>
              <a:rPr b="0" i="1" lang="nl-BE" sz="3200" spc="-1" strike="noStrike">
                <a:solidFill>
                  <a:srgbClr val="336699"/>
                </a:solidFill>
                <a:latin typeface="Black"/>
                <a:ea typeface="Times New Roman"/>
              </a:rPr>
              <a:t>ZO niet naar school!”</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11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2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ziet te dik/te mager, te klein/te groot, te steile haren/te gekrulde haren maar ze besluit ondanks alles toch te gaan!</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3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te dik/te mager, te klein/te groot, te steile haren/te gekrulde haren maar besluit ze dat ze geen tijd heeft er iets aan te doen en gaat toch!</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8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4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iet te dik/te mager, te klein/te groot, te steile haren/te gekrulde haren maar zegt ze dat ze tenminste zichzelf is en gaat toch!</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7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369800" y="1676520"/>
            <a:ext cx="7048440" cy="4114800"/>
          </a:xfrm>
          <a:prstGeom prst="rect">
            <a:avLst/>
          </a:prstGeom>
          <a:noFill/>
          <a:ln w="0">
            <a:noFill/>
          </a:ln>
        </p:spPr>
        <p:txBody>
          <a:bodyPr lIns="92160" rIns="92160" tIns="46080" bIns="46080" anchor="ctr" anchorCtr="1">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Op 50 jaar:</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336699"/>
                </a:solidFill>
                <a:latin typeface="Black"/>
                <a:ea typeface="Times New Roman"/>
              </a:rPr>
              <a:t>Ze kijkt en zegt: “Dat ben ik!” , lacht en gaat!</a:t>
            </a: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www.skynary.com/M_aider</a:t>
            </a:r>
          </a:p>
        </p:txBody>
      </p:sp>
    </p:spTree>
  </p:cSld>
  <p:transition spd="med" advTm="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6:01:15Z</dcterms:created>
  <dc:creator/>
  <dc:description/>
  <dc:language>en-US</dc:language>
  <cp:lastModifiedBy>Smets</cp:lastModifiedBy>
  <dcterms:modified xsi:type="dcterms:W3CDTF">2011-11-01T04:33:17Z</dcterms:modified>
  <cp:revision>13</cp:revision>
  <dc:subject/>
  <dc:title>De schoonheid       van een vrouw !</dc:title>
</cp:coreProperties>
</file>